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4CD-E3AE-47C2-AF76-9855912D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598-CF16-4054-A84E-5D9AA2D2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7C2-1C70-4672-811C-181758D7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7D8-D061-449A-A1D4-B1B1F7AF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2ED9-0A3D-49D6-9EE1-1813D143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CBB1-E89F-45E4-8828-A169430E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C596-9D16-414A-8F73-D088346A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DAF9-7217-476F-9E4A-304BFF2D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066F-06BC-4AD9-81F2-857CA135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2339-C45E-4E0D-9F6C-D400A1F8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91D3-BD82-4824-A329-F1786620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E88-7F3B-4971-AE14-1E50D17A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B8AE-6DA8-486F-BBB6-3B719E93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DC56-C853-4A04-A9C0-60C938B2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1273-C708-4518-A057-1C117481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AE24-DA10-437F-86C4-7A99D5C4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CB0D-316A-4EE0-B098-8C48667E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B24AF-7C3B-4DDA-8174-F035A364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83C58-E978-4B58-89BF-56D1B90B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263C5-6FC3-42AC-A793-F6C0836F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078AC-3F76-4BA4-8A90-9B38DE6F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46CB9-6629-45B3-8FEE-3ADB4A9F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FF0-2A58-49BD-BB52-66DBFAAD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3114F-1577-449E-8A6F-2C671C04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492E3-0C24-4F26-90F4-67965F6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04EAE-5E58-45B4-BF54-679CEB68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8EF8A-D92D-42F9-9269-94DD006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CCF22-01D7-4D58-992B-6958EAFA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74369-4090-4B82-ADD7-6C671B98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3FB32-9F83-4BBE-BBF3-E3FA11F8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E8737-C926-4E17-A733-24088861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783A-9497-407A-A40E-A50A3B1E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16CBB-281C-4A9E-B89C-73214D57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75C-E868-4D9F-8BB4-1096847B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25FF-E51E-4300-AB6A-9D0BFB43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D0A5-F64A-4A6B-8FA6-6D1459B0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2A5F-851A-4A84-B41F-FEF08EA8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67AB-35B8-47FE-B490-9253FB68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FE81-36A7-4295-8E22-F1205675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15E55-95DF-48B8-8516-AB83D61C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102F-EB8D-4910-AB77-4FF0A7FB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8D31B-9D58-41F8-8750-E9A4530A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0B3C8-A550-49BB-8212-CEAC22AF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A9064-502E-4CE4-B9E7-476BD4A2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E25-8ABE-4ECE-A985-23B73EC9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59258-CB15-4860-B63C-17D4AD6B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D5ECF-A16F-40E3-9A08-9D018CAA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684E1-26A0-42A8-B6E8-367BEE63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6BF50-C03B-46E8-8AC0-7AFB41E0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4C5CA-45B7-4B70-B70E-A88F784D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6332C-80BC-4F31-9201-97F45AF2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4E512-E3E8-42F6-92DE-B2223820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D89B7-A9BD-4EC9-8BDF-1CB156A6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1A987-7878-4018-9C8E-7CBA45B4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3BDDB-1B1F-4A34-8B46-8196FC6C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46B-210B-4508-ADBE-0A94578E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05B99-98AF-4D55-B8E0-936614A2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7573D-6CB6-4D44-B20A-4E8DC743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ACAA7-DDC7-4EBF-842D-435DA2DA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595B0-2E5D-4DE8-96AD-6558AED3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EBDC8-5429-4B24-9088-0A4F3DEF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A56D6-AADC-48BE-B186-B95C4DEB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D1B28-87DC-494F-89FF-D93313D7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522E7-2238-4768-969E-17A57FFC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212F2-1B7A-46DD-82FE-FB2FBBBD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2A824-8130-4316-A202-7F3929B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848-AB49-4A6A-B3C6-6608FCDB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6AE01-955A-4D5A-8479-13771269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D6C454-422E-4E1A-A408-43855119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F6EB0-894E-4C3C-8E73-EDDD96F4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C3742-D117-49EF-B3BF-5FC0D6FF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849DB4-4E37-482D-AEA9-E0FFF29D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EDE5B-49F4-4F75-9E49-79764BB6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A4F68-AE85-4555-BCFA-1AA9FDC3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28FA19-B220-4018-BCC8-601575BB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8B265-8E69-48E8-85FE-01628B1A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52EF2F-4166-4656-AC18-5629F09B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2B8-DE18-4BBF-A71F-3D722EC8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4497D2-DCF5-4B11-8C63-7F0DFBA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E1D66-D412-4B91-9DAE-786D9064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3FF11-F9F3-495D-AB27-0664965C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F46A3-94A1-4BC3-9559-5AD9FF89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04743-3DF7-447B-9320-806D5AB2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E9A-3A59-43A2-95FC-AEBB3DA8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8471-D034-4E41-B95C-5463F83694A7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7D4B-E186-4A84-BD77-B1DFF0D49AAF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305C-B27C-490E-AA23-199449969320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FBE9-1985-41EB-B9A4-507383EA487F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641C-7E75-4D35-AF5F-31D160B9A7D4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23C0-C039-44F7-89B5-378EB73E8B3F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B472-B1F2-4C3F-8308-2A277B6FA7D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kipedia.cz/" TargetMode="External"/><Relationship Id="rId2" Type="http://schemas.openxmlformats.org/officeDocument/2006/relationships/hyperlink" Target="http://cs.wikipedia.org/wiki/Soubor:Sumava_CZ_I1B-1.png" TargetMode="External"/><Relationship Id="rId3" Type="http://schemas.openxmlformats.org/officeDocument/2006/relationships/hyperlink" Target="http://cs.wikipedia.org/wiki/Soubor:Cesky_les_CZ_I1A-1.png" TargetMode="External"/><Relationship Id="rId4" Type="http://schemas.openxmlformats.org/officeDocument/2006/relationships/hyperlink" Target="http://cs.wikipedia.org/wiki/Soubor:Krusne_hory_CZ_I3A-2.png" TargetMode="External"/><Relationship Id="rId5" Type="http://schemas.openxmlformats.org/officeDocument/2006/relationships/hyperlink" Target="http://cs.wikipedia.org/wiki/Soubor:Jizerske_hory_CZ_I4A-6.png" TargetMode="External"/><Relationship Id="rId6" Type="http://schemas.openxmlformats.org/officeDocument/2006/relationships/hyperlink" Target="http://cs.wikipedia.org/wiki/Soubor:Krkonose_CZ_I4A-7.png" TargetMode="External"/><Relationship Id="rId7" Type="http://schemas.openxmlformats.org/officeDocument/2006/relationships/hyperlink" Target="http://cs.wikipedia.org/wiki/Soubor:Orlicke_hory_CZ_I4B-2.pn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Č. 6 –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ŘÍRODNÍ PODMÍNKY ČR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692280"/>
            <a:ext cx="57531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ovéPole 6"/>
          <p:cNvSpPr/>
          <p:nvPr/>
        </p:nvSpPr>
        <p:spPr>
          <a:xfrm>
            <a:off x="500040" y="1643040"/>
            <a:ext cx="7858080" cy="32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uveřejněné odkazy [cit. 2012-11-02] dostupné pod licencí Public domain – na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c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ČR – světové strany (Obrysová mapa)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Šumav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cs.wikipedia.org/wiki/Soubor:Sumava_CZ_I1B-1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Český Les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cs.wikipedia.org/wiki/Soubor:Cesky_les_CZ_I1A-1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ušné hor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cs.wikipedia.org/wiki/Soubor:Krusne_hory_CZ_I3A-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izerské hor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cs.wikipedia.org/wiki/Soubor:Jizerske_hory_CZ_I4A-6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konoš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cs.wikipedia.org/wiki/Soubor:Krkonose_CZ_I4A-7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rlické hor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http://cs.wikipedia.org/wiki/Soubor:Orlicke_hory_CZ_I4B-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álický Sněžník - http://cs.wikipedia.org/wiki/Soubor:Kralicky_Sneznik_CZ_I4C-4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rubý Jeseník - http://cs.wikipedia.org/wiki/Soubor:Hruby_Jesenik_CZ_I4C-7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Nízký Jeseník - http://cs.wikipedia.org/wiki/Soubor:Nizky_Jesenik_CZ_I4C-8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eskydy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ílé Karpaty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Českomoravská vrchovina - http://cs.wikipedia.org/wiki/Soubor:Ceskomoravska_vrchovina_CZ_I2C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Nížiny 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tři mapy)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Řeky (Mapa)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Říp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Rotunda - http://cs.wikipedia.org/wiki/Soubor:RotundaRip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31164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podmínky ČR – povrch, členitost a pohoř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áci získávají základní znalosti o přírodních podmínkách České republiky, povrchu, členitosti a pohoří. Součástí prezentace je i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znát přírodní podmínky ČR, popsat povrch a jeho členit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zent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ý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REPUBLIKA (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ĚTOVÉ STRAN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11" descr="800px-Czech_Republic_districts.png"/>
          <p:cNvPicPr/>
          <p:nvPr/>
        </p:nvPicPr>
        <p:blipFill>
          <a:blip r:embed="rId1"/>
          <a:stretch/>
        </p:blipFill>
        <p:spPr>
          <a:xfrm>
            <a:off x="684360" y="1268280"/>
            <a:ext cx="69120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63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00280"/>
            <a:ext cx="2376720" cy="1479600"/>
          </a:xfrm>
          <a:prstGeom prst="rect">
            <a:avLst/>
          </a:prstGeom>
          <a:ln w="0">
            <a:noFill/>
          </a:ln>
        </p:spPr>
      </p:pic>
      <p:pic>
        <p:nvPicPr>
          <p:cNvPr id="364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8000" y="1341360"/>
            <a:ext cx="2422800" cy="1506600"/>
          </a:xfrm>
          <a:prstGeom prst="rect">
            <a:avLst/>
          </a:prstGeom>
          <a:ln w="0">
            <a:noFill/>
          </a:ln>
        </p:spPr>
      </p:pic>
      <p:pic>
        <p:nvPicPr>
          <p:cNvPr id="365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41360"/>
            <a:ext cx="2428560" cy="1511280"/>
          </a:xfrm>
          <a:prstGeom prst="rect">
            <a:avLst/>
          </a:prstGeom>
          <a:ln w="0">
            <a:noFill/>
          </a:ln>
        </p:spPr>
      </p:pic>
      <p:sp>
        <p:nvSpPr>
          <p:cNvPr id="36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Šumava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Krušné H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Plechý 1378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Klínovec 124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Český Les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Jizerské h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Čerchov 1042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- Smrk 112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71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00280"/>
            <a:ext cx="2376720" cy="1479600"/>
          </a:xfrm>
          <a:prstGeom prst="rect">
            <a:avLst/>
          </a:prstGeom>
          <a:ln w="0">
            <a:noFill/>
          </a:ln>
        </p:spPr>
      </p:pic>
      <p:pic>
        <p:nvPicPr>
          <p:cNvPr id="372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9800" y="1341360"/>
            <a:ext cx="2419200" cy="1506600"/>
          </a:xfrm>
          <a:prstGeom prst="rect">
            <a:avLst/>
          </a:prstGeom>
          <a:ln w="0">
            <a:noFill/>
          </a:ln>
        </p:spPr>
      </p:pic>
      <p:pic>
        <p:nvPicPr>
          <p:cNvPr id="373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41360"/>
            <a:ext cx="2428560" cy="1511280"/>
          </a:xfrm>
          <a:prstGeom prst="rect">
            <a:avLst/>
          </a:prstGeom>
          <a:ln w="0">
            <a:noFill/>
          </a:ln>
        </p:spPr>
      </p:pic>
      <p:sp>
        <p:nvSpPr>
          <p:cNvPr id="37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Krkonoše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Králický Sněž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něžka 1602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Králický Sněžník 142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Orlické hory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Hrubý Jese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Velká Deštná 1115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Praděd 149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79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44920"/>
            <a:ext cx="2376720" cy="1390680"/>
          </a:xfrm>
          <a:prstGeom prst="rect">
            <a:avLst/>
          </a:prstGeom>
          <a:ln w="0">
            <a:noFill/>
          </a:ln>
        </p:spPr>
      </p:pic>
      <p:pic>
        <p:nvPicPr>
          <p:cNvPr id="380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9800" y="1341360"/>
            <a:ext cx="2419200" cy="150660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86000"/>
            <a:ext cx="2428560" cy="1422360"/>
          </a:xfrm>
          <a:prstGeom prst="rect">
            <a:avLst/>
          </a:prstGeom>
          <a:ln w="0">
            <a:noFill/>
          </a:ln>
        </p:spPr>
      </p:pic>
      <p:sp>
        <p:nvSpPr>
          <p:cNvPr id="38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Nízký Jeseník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Bílé Karp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lunečná 800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Velká Javořina 97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eskydy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      Českomoravská Vrchov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Lysá Hora 1323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Javořice 83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É NÍŽI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ovéPole 12"/>
          <p:cNvSpPr/>
          <p:nvPr/>
        </p:nvSpPr>
        <p:spPr>
          <a:xfrm>
            <a:off x="468360" y="148428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Pola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yjsko-svratecký ú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olnomoravský ú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Obrázek 9" descr="800px-Polabi.jpg"/>
          <p:cNvPicPr/>
          <p:nvPr/>
        </p:nvPicPr>
        <p:blipFill>
          <a:blip r:embed="rId1"/>
          <a:stretch/>
        </p:blipFill>
        <p:spPr>
          <a:xfrm>
            <a:off x="3419640" y="1125360"/>
            <a:ext cx="2592360" cy="1516320"/>
          </a:xfrm>
          <a:prstGeom prst="rect">
            <a:avLst/>
          </a:prstGeom>
          <a:ln w="0">
            <a:noFill/>
          </a:ln>
        </p:spPr>
      </p:pic>
      <p:pic>
        <p:nvPicPr>
          <p:cNvPr id="391" name="Obrázek 10" descr="800px-DyjskosvrateckyUval.jpg"/>
          <p:cNvPicPr/>
          <p:nvPr/>
        </p:nvPicPr>
        <p:blipFill>
          <a:blip r:embed="rId2"/>
          <a:stretch/>
        </p:blipFill>
        <p:spPr>
          <a:xfrm>
            <a:off x="5292720" y="2565360"/>
            <a:ext cx="2584440" cy="1511280"/>
          </a:xfrm>
          <a:prstGeom prst="rect">
            <a:avLst/>
          </a:prstGeom>
          <a:ln w="0">
            <a:noFill/>
          </a:ln>
        </p:spPr>
      </p:pic>
      <p:pic>
        <p:nvPicPr>
          <p:cNvPr id="392" name="Obrázek 11" descr="800px-DyjskosvrateckyUval.jpg"/>
          <p:cNvPicPr/>
          <p:nvPr/>
        </p:nvPicPr>
        <p:blipFill>
          <a:blip r:embed="rId3"/>
          <a:stretch/>
        </p:blipFill>
        <p:spPr>
          <a:xfrm>
            <a:off x="3995640" y="4076640"/>
            <a:ext cx="25923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Obrázek 8" descr="RekyCR800x600.jpg"/>
          <p:cNvPicPr/>
          <p:nvPr/>
        </p:nvPicPr>
        <p:blipFill>
          <a:blip r:embed="rId1"/>
          <a:stretch/>
        </p:blipFill>
        <p:spPr>
          <a:xfrm>
            <a:off x="468360" y="1197000"/>
            <a:ext cx="7559640" cy="4772160"/>
          </a:xfrm>
          <a:prstGeom prst="rect">
            <a:avLst/>
          </a:prstGeom>
          <a:ln w="0">
            <a:noFill/>
          </a:ln>
        </p:spPr>
      </p:pic>
      <p:sp>
        <p:nvSpPr>
          <p:cNvPr id="39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NEJVĚTŠÍ ČESKÉ ŘE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Obrázek 17" descr="435px-RotundaRip.jpg"/>
          <p:cNvPicPr/>
          <p:nvPr/>
        </p:nvPicPr>
        <p:blipFill>
          <a:blip r:embed="rId1"/>
          <a:stretch/>
        </p:blipFill>
        <p:spPr>
          <a:xfrm>
            <a:off x="1547640" y="2565360"/>
            <a:ext cx="2376720" cy="3272040"/>
          </a:xfrm>
          <a:prstGeom prst="rect">
            <a:avLst/>
          </a:prstGeom>
          <a:ln w="0">
            <a:noFill/>
          </a:ln>
        </p:spPr>
      </p:pic>
      <p:sp>
        <p:nvSpPr>
          <p:cNvPr id="39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ŘÍ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9" descr="rip800x600.jpg"/>
          <p:cNvPicPr/>
          <p:nvPr/>
        </p:nvPicPr>
        <p:blipFill>
          <a:blip r:embed="rId2"/>
          <a:stretch/>
        </p:blipFill>
        <p:spPr>
          <a:xfrm>
            <a:off x="4140360" y="692280"/>
            <a:ext cx="4671720" cy="2733480"/>
          </a:xfrm>
          <a:prstGeom prst="rect">
            <a:avLst/>
          </a:prstGeom>
          <a:ln w="0">
            <a:noFill/>
          </a:ln>
        </p:spPr>
      </p:pic>
      <p:sp>
        <p:nvSpPr>
          <p:cNvPr id="402" name="Přímá spojovací čára 13"/>
          <p:cNvSpPr/>
          <p:nvPr/>
        </p:nvSpPr>
        <p:spPr>
          <a:xfrm flipH="1">
            <a:off x="2987640" y="1413000"/>
            <a:ext cx="2664000" cy="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ovéPole 14"/>
          <p:cNvSpPr/>
          <p:nvPr/>
        </p:nvSpPr>
        <p:spPr>
          <a:xfrm>
            <a:off x="2987640" y="1052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p (455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Elipsa 15"/>
          <p:cNvSpPr/>
          <p:nvPr/>
        </p:nvSpPr>
        <p:spPr>
          <a:xfrm>
            <a:off x="5580000" y="1341360"/>
            <a:ext cx="144360" cy="1429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ovéPole 16"/>
          <p:cNvSpPr/>
          <p:nvPr/>
        </p:nvSpPr>
        <p:spPr>
          <a:xfrm>
            <a:off x="395280" y="155736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mátná 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Dle pověsti na ni vystoupil prao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ch a dovedl tak český národ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alézá se zde rotunda sv. Ji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ůvodně zasvěcena sv. Vojtě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38:44Z</dcterms:modified>
  <cp:revision>98</cp:revision>
  <dc:subject/>
  <dc:title>č. 21 – Česká republika a Evropa - opakování</dc:title>
</cp:coreProperties>
</file>