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D95-4376-4038-9296-A8474842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8AF-342D-461B-96F5-E35DEEA3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A1B-F735-4E8F-BC3D-A539ABAA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829-6DDF-4212-BD81-23F57A66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8CC5-45B9-42DB-ADB9-90DAC655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E5C0-F1B3-4F76-AF59-998DD104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00AB-4314-4559-8335-31F4B382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BB21-9282-4BAE-9C41-6112DA04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2019-2FD7-4620-B3D7-9DC118FB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C848-C01E-4B43-BD21-2B7878B0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84FC-6705-48A1-A859-DA6A7E6F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C86-B220-48C6-8726-67BAF333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DE39-8786-427A-A1DE-22F13B22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2CA7-C6DE-4E7E-83E7-17BBE4AD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A6E3-D40F-466D-9666-78CFCDD6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0EAD-3DD9-446B-A076-C6C44BF8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3727-B461-4BC5-8082-6C5BE846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61817-29B2-4D5C-9C78-9DF89F7F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46BE8-9D28-469A-869F-B601C978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ECCD25-A1C1-4EE2-A085-F7DD2AEE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8A3AF-44B6-408C-BA56-02097143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1945C-0E36-499E-8D78-43F5ED16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B98-1122-457D-9FE1-D5D10ADA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48F56-426D-4F8D-85EB-1E1ADE15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D614F-7C40-4684-9C3A-F57C5EFD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99591-F26A-4D3A-8718-93D95857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AC3B1-B6A8-4553-8870-68DC2221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54FB1-AA5F-436B-966C-1735FC57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C8759-EA2F-4971-90CC-D6783FBD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8B9B7-DF6D-44E4-94C7-00494E39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29005-BEBF-48F5-A1D3-582F8AE8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49C11-9C3D-49D1-BF20-2405F93F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C541D-743E-4C18-862A-3BDCF7AC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CF21-B12B-40C3-B514-D1CE7034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00943-CC85-4513-9E5D-D84A4971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221C7-CD06-4B09-B845-A51AC6BE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24615-6C9F-480E-8EB7-30BB0995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01491-CF3B-4E67-8996-1960DDB0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0CC6F-85CF-4B6F-A2C9-6A92AEF8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3272D-874C-4919-8773-E5F63EEC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3DFFD-288C-4448-9B1E-CBC75177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3CA1A-2290-4454-980B-E29F7FBE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D88E3-0418-4CE7-BA7C-DED99F7E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7B73C-1A29-447C-BA03-A34D471C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625B-6B3E-4C32-81F6-194240BE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BC48C-2B55-4F8E-92C1-755B03EE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A0EA1-E5D4-4D6B-8F83-0267FAE2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315A8F-264B-4517-8B4C-90915C69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1EFEDB-C34F-4FB7-B1C8-621A4A85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F3A2F-2F4D-4274-8362-C405609C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25451-0A87-486D-BAF8-E9FB9FBE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08885F-EB72-47B3-8FFF-6FB121DF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8E7BDF-248A-4E5C-8750-686B1367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04C48-E982-439B-8249-179A75A7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36589-AD61-4FC3-8A54-4AE752EE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CA9-C0D3-433C-A24B-E0936AEE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4F88E-C07E-4745-9038-DBC4824E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A3A90-646C-47B3-8D07-BF13566F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C7E602-868B-4797-8CD5-CEA98A6C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570DC3-D48C-45D6-B05C-DD233EFA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BB7014-F76F-4A16-87A1-722B1A8C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27B2F0-43CE-4848-B50E-DF6D63E7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BEE18E-5BFA-404D-ABC2-239B95F0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151B42-983C-40EB-ADE6-965CCE3E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1C6905-F509-4CB9-9418-5170F60A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8585A-5B53-4C36-BBDB-2D2BB6BE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473-4F7E-4861-925B-BEC995EC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79388-0D46-4DC1-91C4-BD9765B5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6E9E0C-3303-4E13-BF3B-816C9FE6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2F70BA-B752-4544-BFF5-A6879BC6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CBA960-BA9C-490A-AE5B-6C7372B9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EFB7FF-5A0F-4183-8257-9EAA9C5D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CF13E1-91AA-4D72-A850-C5692433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245C9A-6A2F-4FFD-8C45-136FB696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CACB1B-7A75-43D0-BDDD-CA56168D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4E8CC6-4102-4AA7-8B10-2A59FDE3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6B3B8-E2E2-437C-83D5-FABC4762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1B9-1179-4411-AAEE-3EA6C218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252E04-F945-41FE-8109-D6A63323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6D9AA2-7908-4336-92C2-33F98162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2F29ED-6C69-455E-8511-14427AAF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49AA51-A88F-432A-9B9A-1B550E23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68FEF0-97C9-439D-89B0-CC700B92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5611-71B0-4409-BCA8-1D122E8A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3971-1914-4EE9-8B72-ACD150CE9661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3A1F-9A39-42B5-9E42-C620A34FB6DE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E27B-C83C-4254-8E61-11A0B4A5B6D1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D505-63CA-41A7-9645-853718641B8A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2259-A3FC-4644-98B8-DF7DFFBB96EB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4D8D-2A6C-4321-95FF-18F52FB1DF23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899A-664A-4895-8F87-0ECDCA312BC4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ikipedia.cz/" TargetMode="External"/><Relationship Id="rId2" Type="http://schemas.openxmlformats.org/officeDocument/2006/relationships/hyperlink" Target="http://cs.wikipedia.org/wiki/Soubor:Kuusk_Keila-Paldiski_rdt_&#228;&#228;res.jpg" TargetMode="External"/><Relationship Id="rId3" Type="http://schemas.openxmlformats.org/officeDocument/2006/relationships/hyperlink" Target="http://cs.wikipedia.org/wiki/Soubor:Abies_alba_Orjen.jpg" TargetMode="External"/><Relationship Id="rId4" Type="http://schemas.openxmlformats.org/officeDocument/2006/relationships/hyperlink" Target="http://cs.wikipedia.org/wiki/Soubor:Pinus_nigra_young_tree_Bulgaria.jpg" TargetMode="External"/><Relationship Id="rId5" Type="http://schemas.openxmlformats.org/officeDocument/2006/relationships/hyperlink" Target="http://cs.wikipedia.org/wiki/Soubor:Larix_decidua_Winter.jpg" TargetMode="External"/><Relationship Id="rId6" Type="http://schemas.openxmlformats.org/officeDocument/2006/relationships/hyperlink" Target="http://cs.wikipedia.org/wiki/Soubor:Fagus_sylvatica_Cristata_JPG01a.jpg" TargetMode="External"/><Relationship Id="rId7" Type="http://schemas.openxmlformats.org/officeDocument/2006/relationships/hyperlink" Target="http://cs.wikipedia.org/wiki/Soubor:KorkeichePortugal1994.jpg" TargetMode="External"/><Relationship Id="rId8" Type="http://schemas.openxmlformats.org/officeDocument/2006/relationships/hyperlink" Target="http://cs.wikipedia.org/wiki/Soubor:Alnus_glutinosa_011.jpg" TargetMode="External"/><Relationship Id="rId9" Type="http://schemas.openxmlformats.org/officeDocument/2006/relationships/hyperlink" Target="http://cs.wikipedia.org/wiki/Soubor:Populier_Populus_canadensis.jpg" TargetMode="External"/><Relationship Id="rId10" Type="http://schemas.openxmlformats.org/officeDocument/2006/relationships/hyperlink" Target="http://en.wikipedia.org/wiki/File:Fraxinus_americana_002.jpg" TargetMode="External"/><Relationship Id="rId11" Type="http://schemas.openxmlformats.org/officeDocument/2006/relationships/hyperlink" Target="http://cs.wikipedia.org/wiki/Soubor:Betula_Pendula_at_Stockholm_University_2005-07-01.jpg" TargetMode="External"/><Relationship Id="rId12" Type="http://schemas.openxmlformats.org/officeDocument/2006/relationships/hyperlink" Target="http://cs.wikipedia.org/wiki/Soubor:Litoria_caerulea.jpg" TargetMode="External"/><Relationship Id="rId13" Type="http://schemas.openxmlformats.org/officeDocument/2006/relationships/hyperlink" Target="http://cs.wikipedia.org/wiki/Soubor:Bjchwzh.jpg" TargetMode="External"/><Relationship Id="rId14" Type="http://schemas.openxmlformats.org/officeDocument/2006/relationships/hyperlink" Target="http://cs.wikipedia.org/wiki/Soubor:Arborophila_brunneopectus_male_-_Kaeng_Krachan.jpg" TargetMode="External"/><Relationship Id="rId15" Type="http://schemas.openxmlformats.org/officeDocument/2006/relationships/hyperlink" Target="http://cs.wikipedia.org/wiki/Soubor:Feldhase.jpg" TargetMode="External"/><Relationship Id="rId16" Type="http://schemas.openxmlformats.org/officeDocument/2006/relationships/hyperlink" Target="http://cs.wikipedia.org/wiki/Soubor:Abramis_ballerus.jpg" TargetMode="External"/><Relationship Id="rId17" Type="http://schemas.openxmlformats.org/officeDocument/2006/relationships/hyperlink" Target="http://cs.wikipedia.org/wiki/Soubor:Eichh&#246;rnchen_D&#252;sseldorf_Hofgarten_edit.jpg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Č.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8</a:t>
            </a: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 –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mínky ČR, rozmístění obyvatelstva, vesnice a města</a:t>
            </a:r>
            <a:br>
              <a:rPr sz="2900"/>
            </a:br>
            <a:br>
              <a:rPr sz="27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476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Obrázek 8" descr="RekyCR800x600.jpg"/>
          <p:cNvPicPr/>
          <p:nvPr/>
        </p:nvPicPr>
        <p:blipFill>
          <a:blip r:embed="rId1"/>
          <a:stretch/>
        </p:blipFill>
        <p:spPr>
          <a:xfrm>
            <a:off x="468360" y="1386000"/>
            <a:ext cx="7559640" cy="4394160"/>
          </a:xfrm>
          <a:prstGeom prst="rect">
            <a:avLst/>
          </a:prstGeom>
          <a:ln w="0">
            <a:noFill/>
          </a:ln>
        </p:spPr>
      </p:pic>
      <p:sp>
        <p:nvSpPr>
          <p:cNvPr id="412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KRAJE A KRAJSKÁ MĚSTA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Obrázek 8" descr="RekyCR800x600.jpg"/>
          <p:cNvPicPr/>
          <p:nvPr/>
        </p:nvPicPr>
        <p:blipFill>
          <a:blip r:embed="rId1"/>
          <a:stretch/>
        </p:blipFill>
        <p:spPr>
          <a:xfrm>
            <a:off x="468360" y="1371600"/>
            <a:ext cx="7559640" cy="4422600"/>
          </a:xfrm>
          <a:prstGeom prst="rect">
            <a:avLst/>
          </a:prstGeom>
          <a:ln w="0">
            <a:noFill/>
          </a:ln>
        </p:spPr>
      </p:pic>
      <p:sp>
        <p:nvSpPr>
          <p:cNvPr id="416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SKANZEM, LÁZEŇSKÁ, HORNICKÁ A HISTOR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DŮLEŽITÁ ČESKÁ MĚS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Obrázek 8" descr="RekyCR800x600.jpg"/>
          <p:cNvPicPr/>
          <p:nvPr/>
        </p:nvPicPr>
        <p:blipFill>
          <a:blip r:embed="rId1"/>
          <a:stretch/>
        </p:blipFill>
        <p:spPr>
          <a:xfrm>
            <a:off x="468360" y="1371600"/>
            <a:ext cx="7559640" cy="4422600"/>
          </a:xfrm>
          <a:prstGeom prst="rect">
            <a:avLst/>
          </a:prstGeom>
          <a:ln w="0">
            <a:noFill/>
          </a:ln>
        </p:spPr>
      </p:pic>
      <p:sp>
        <p:nvSpPr>
          <p:cNvPr id="420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HUSTOTA OSÍDLENÍ KRAJ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ovéPole 6"/>
          <p:cNvSpPr/>
          <p:nvPr/>
        </p:nvSpPr>
        <p:spPr>
          <a:xfrm>
            <a:off x="755640" y="27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2 obyvatel/km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ovéPole 7"/>
          <p:cNvSpPr/>
          <p:nvPr/>
        </p:nvSpPr>
        <p:spPr>
          <a:xfrm>
            <a:off x="2342880" y="35002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16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ovéPole 8"/>
          <p:cNvSpPr/>
          <p:nvPr/>
        </p:nvSpPr>
        <p:spPr>
          <a:xfrm>
            <a:off x="2312640" y="299736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 601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ovéPole 9"/>
          <p:cNvSpPr/>
          <p:nvPr/>
        </p:nvSpPr>
        <p:spPr>
          <a:xfrm>
            <a:off x="1487880" y="22766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55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ovéPole 10"/>
          <p:cNvSpPr/>
          <p:nvPr/>
        </p:nvSpPr>
        <p:spPr>
          <a:xfrm>
            <a:off x="2854800" y="19162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39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ovéPole 11"/>
          <p:cNvSpPr/>
          <p:nvPr/>
        </p:nvSpPr>
        <p:spPr>
          <a:xfrm>
            <a:off x="1197720" y="378936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6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ovéPole 12"/>
          <p:cNvSpPr/>
          <p:nvPr/>
        </p:nvSpPr>
        <p:spPr>
          <a:xfrm>
            <a:off x="2350440" y="486900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3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ovéPole 13"/>
          <p:cNvSpPr/>
          <p:nvPr/>
        </p:nvSpPr>
        <p:spPr>
          <a:xfrm>
            <a:off x="3998520" y="2565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16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ovéPole 14"/>
          <p:cNvSpPr/>
          <p:nvPr/>
        </p:nvSpPr>
        <p:spPr>
          <a:xfrm>
            <a:off x="3502800" y="41497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5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ovéPole 15"/>
          <p:cNvSpPr/>
          <p:nvPr/>
        </p:nvSpPr>
        <p:spPr>
          <a:xfrm>
            <a:off x="4070880" y="3213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14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ovéPole 16"/>
          <p:cNvSpPr/>
          <p:nvPr/>
        </p:nvSpPr>
        <p:spPr>
          <a:xfrm>
            <a:off x="4583520" y="4869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2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ovéPole 17"/>
          <p:cNvSpPr/>
          <p:nvPr/>
        </p:nvSpPr>
        <p:spPr>
          <a:xfrm>
            <a:off x="6096600" y="45086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49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ovéPole 18"/>
          <p:cNvSpPr/>
          <p:nvPr/>
        </p:nvSpPr>
        <p:spPr>
          <a:xfrm>
            <a:off x="5304240" y="38606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21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ovéPole 19"/>
          <p:cNvSpPr/>
          <p:nvPr/>
        </p:nvSpPr>
        <p:spPr>
          <a:xfrm>
            <a:off x="6167880" y="3357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27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D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ovéPole 6"/>
          <p:cNvSpPr/>
          <p:nvPr/>
        </p:nvSpPr>
        <p:spPr>
          <a:xfrm>
            <a:off x="539640" y="1700280"/>
            <a:ext cx="7858080" cy="45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šechny uveřejněné odkazy [cit. 2013-01-04] dostupné pod licencí Public domain – na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www.wikipedia.cz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ČR  mapa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Smr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cs.wikipedia.org/wiki/Soubor:Kuusk_Keila-Paldiski_rdt_ääre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Jedl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cs.wikipedia.org/wiki/Soubor:Abies_alba_Orje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orovic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http://cs.wikipedia.org/wiki/Soubor:Pinus_nigra_young_tree_Bulgari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Modřín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http://cs.wikipedia.org/wiki/Soubor:Larix_decidua_Wint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u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http://cs.wikipedia.org/wiki/Soubor:Fagus_sylvatica_Cristata_JPG01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Dub - 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http://cs.wikipedia.org/wiki/Soubor:KorkeichePortugal1994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lš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http://cs.wikipedia.org/wiki/Soubor:Alnus_glutinosa_011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Topol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9"/>
              </a:rPr>
              <a:t>http://cs.wikipedia.org/wiki/Soubor:Populier_Populus_canadensi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Jasan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0"/>
              </a:rPr>
              <a:t>http://en.wikipedia.org/wiki/File:Fraxinus_americana_00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říz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1"/>
              </a:rPr>
              <a:t>http://cs.wikipedia.org/wiki/Soubor:Betula_Pendula_at_Stockholm_University_2005-07-01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Žáb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2"/>
              </a:rPr>
              <a:t>http://cs.wikipedia.org/wiki/Soubor:Litoria_caerule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ažant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3"/>
              </a:rPr>
              <a:t>http://cs.wikipedia.org/wiki/Soubor:Bjchwzh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roptev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4"/>
              </a:rPr>
              <a:t>http://cs.wikipedia.org/wiki/Soubor:Arborophila_brunneopectus_male_-_Kaeng_Kracha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Zajíc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5"/>
              </a:rPr>
              <a:t>http://cs.wikipedia.org/wiki/Soubor:Feldhas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Ryby (Cejn)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6"/>
              </a:rPr>
              <a:t>http://cs.wikipedia.org/wiki/Soubor:Abramis_balleru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Veverk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7"/>
              </a:rPr>
              <a:t>http://cs.wikipedia.org/wiki/Soubor:Eichhörnchen_Düsseldorf_Hofgarten_edi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Divoké prase - http://cs.wikipedia.org/wiki/Soubor:Wild_Boar_Habbitat_3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Datel - http://cs.wikipedia.org/wiki/Soubor:Sphyrapicus_ruber1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Srnec - http://cs.wikipedia.org/wiki/Soubor:Capreolus_capreolus_(Marek_Szczepanek)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Jelen - http://cs.wikipedia.org/wiki/Soubor:Silz_cerf2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Jezevec - http://cs.wikipedia.org/wiki/Soubor:Taxidea_taxu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raje, města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Mapa, města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Mapa hustoty obyvatelstva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55640" y="981000"/>
          <a:ext cx="7632720" cy="3494160"/>
        </p:xfrm>
        <a:graphic>
          <a:graphicData uri="http://schemas.openxmlformats.org/drawingml/2006/table">
            <a:tbl>
              <a:tblPr/>
              <a:tblGrid>
                <a:gridCol w="2952720"/>
                <a:gridCol w="4680000"/>
              </a:tblGrid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mínky ČR, rozmístění obyvatelstva, vesnice a mě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Žáci poznávají živou přírodu a města ČR, popisují rozmístění obyvatelstva. V prezentaci žáci získávají základní znalosti o České republice. Součástí prezentace je i  pracovní li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čekávaný výs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 – L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příroda – 2. stupe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– znát přírodní podmínky ČR, popsat povrch a jeho členit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uvést hlavní údaje o rozmístění obyvatelst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interak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kl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REPUBLIKA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 SOUSEDN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Í STÁ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Obrázek 11" descr="800px-Czech_Republic_districts.png"/>
          <p:cNvPicPr/>
          <p:nvPr/>
        </p:nvPicPr>
        <p:blipFill>
          <a:blip r:embed="rId1"/>
          <a:stretch/>
        </p:blipFill>
        <p:spPr>
          <a:xfrm>
            <a:off x="250920" y="1197000"/>
            <a:ext cx="6405480" cy="4753080"/>
          </a:xfrm>
          <a:prstGeom prst="rect">
            <a:avLst/>
          </a:prstGeom>
          <a:ln w="0">
            <a:noFill/>
          </a:ln>
        </p:spPr>
      </p:pic>
      <p:sp>
        <p:nvSpPr>
          <p:cNvPr id="362" name="TextovéPole 6"/>
          <p:cNvSpPr/>
          <p:nvPr/>
        </p:nvSpPr>
        <p:spPr>
          <a:xfrm>
            <a:off x="6659640" y="1844640"/>
            <a:ext cx="201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78 864 k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élka hra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2289.7 k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len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tejně jako okolní stá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732720" y="3500280"/>
            <a:ext cx="1439640" cy="2160720"/>
          </a:xfrm>
          <a:prstGeom prst="rect">
            <a:avLst/>
          </a:prstGeom>
          <a:ln w="0">
            <a:noFill/>
          </a:ln>
        </p:spPr>
      </p:pic>
      <p:pic>
        <p:nvPicPr>
          <p:cNvPr id="364" name="Obrázek 6" descr="800px-Sumava_CZ_I1B-1.png"/>
          <p:cNvPicPr/>
          <p:nvPr/>
        </p:nvPicPr>
        <p:blipFill>
          <a:blip r:embed="rId2"/>
          <a:stretch/>
        </p:blipFill>
        <p:spPr>
          <a:xfrm>
            <a:off x="2556000" y="1341360"/>
            <a:ext cx="1584360" cy="2374920"/>
          </a:xfrm>
          <a:prstGeom prst="rect">
            <a:avLst/>
          </a:prstGeom>
          <a:ln w="0">
            <a:noFill/>
          </a:ln>
        </p:spPr>
      </p:pic>
      <p:pic>
        <p:nvPicPr>
          <p:cNvPr id="365" name="Obrázek 8" descr="800px-Krusne_hory_CZ_I3A-2.png"/>
          <p:cNvPicPr/>
          <p:nvPr/>
        </p:nvPicPr>
        <p:blipFill>
          <a:blip r:embed="rId3"/>
          <a:stretch/>
        </p:blipFill>
        <p:spPr>
          <a:xfrm>
            <a:off x="6726240" y="1341360"/>
            <a:ext cx="1446120" cy="2185920"/>
          </a:xfrm>
          <a:prstGeom prst="rect">
            <a:avLst/>
          </a:prstGeom>
          <a:ln w="0">
            <a:noFill/>
          </a:ln>
        </p:spPr>
      </p:pic>
      <p:pic>
        <p:nvPicPr>
          <p:cNvPr id="366" name="Obrázek 7" descr="800px-Cesky_les_CZ_I1A-1.png"/>
          <p:cNvPicPr/>
          <p:nvPr/>
        </p:nvPicPr>
        <p:blipFill>
          <a:blip r:embed="rId4"/>
          <a:stretch/>
        </p:blipFill>
        <p:spPr>
          <a:xfrm>
            <a:off x="2556000" y="3573360"/>
            <a:ext cx="1598400" cy="2130480"/>
          </a:xfrm>
          <a:prstGeom prst="rect">
            <a:avLst/>
          </a:prstGeom>
          <a:ln w="0">
            <a:noFill/>
          </a:ln>
        </p:spPr>
      </p:pic>
      <p:sp>
        <p:nvSpPr>
          <p:cNvPr id="367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Arial"/>
              </a:rPr>
              <a:t>JEHLIČNATÉ STR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FLÓRA ČESKÉ REPUBLIK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ovéPole 12"/>
          <p:cNvSpPr/>
          <p:nvPr/>
        </p:nvSpPr>
        <p:spPr>
          <a:xfrm>
            <a:off x="468360" y="1484280"/>
            <a:ext cx="79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Smrk (Picea)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Jedle (Ab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nejběžnější stro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šišky rostou nah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v ČR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5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4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Borovice (Pinus)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Modřín (Lari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stromy i keře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opadavý jehlič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100 druhů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1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Obrázek 9" descr="800px-Polabi.jpg"/>
          <p:cNvPicPr/>
          <p:nvPr/>
        </p:nvPicPr>
        <p:blipFill>
          <a:blip r:embed="rId1"/>
          <a:stretch/>
        </p:blipFill>
        <p:spPr>
          <a:xfrm>
            <a:off x="1692360" y="1341360"/>
            <a:ext cx="2303280" cy="3456000"/>
          </a:xfrm>
          <a:prstGeom prst="rect">
            <a:avLst/>
          </a:prstGeom>
          <a:ln w="0">
            <a:noFill/>
          </a:ln>
        </p:spPr>
      </p:pic>
      <p:pic>
        <p:nvPicPr>
          <p:cNvPr id="372" name="Obrázek 8" descr="450px-Pinus_nigra_young_tree_Bulgaria.jpg"/>
          <p:cNvPicPr/>
          <p:nvPr/>
        </p:nvPicPr>
        <p:blipFill>
          <a:blip r:embed="rId2"/>
          <a:stretch/>
        </p:blipFill>
        <p:spPr>
          <a:xfrm>
            <a:off x="4140360" y="1341360"/>
            <a:ext cx="2376360" cy="1674720"/>
          </a:xfrm>
          <a:prstGeom prst="rect">
            <a:avLst/>
          </a:prstGeom>
          <a:ln w="0">
            <a:noFill/>
          </a:ln>
        </p:spPr>
      </p:pic>
      <p:pic>
        <p:nvPicPr>
          <p:cNvPr id="373" name="Obrázek 9" descr="800px-Alnus_glutinosa_011.jpg"/>
          <p:cNvPicPr/>
          <p:nvPr/>
        </p:nvPicPr>
        <p:blipFill>
          <a:blip r:embed="rId3"/>
          <a:stretch/>
        </p:blipFill>
        <p:spPr>
          <a:xfrm>
            <a:off x="4140360" y="3141720"/>
            <a:ext cx="2376360" cy="1685880"/>
          </a:xfrm>
          <a:prstGeom prst="rect">
            <a:avLst/>
          </a:prstGeom>
          <a:ln w="0">
            <a:noFill/>
          </a:ln>
        </p:spPr>
      </p:pic>
      <p:sp>
        <p:nvSpPr>
          <p:cNvPr id="374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LISTNATÉ STR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FLÓRA ČESKÉ REPUBLIK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ovéPole 12"/>
          <p:cNvSpPr/>
          <p:nvPr/>
        </p:nvSpPr>
        <p:spPr>
          <a:xfrm>
            <a:off x="324000" y="126828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Buk (Fag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až 4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1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Dub (Querc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neopadáva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60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Olše (Aln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rostou rychle ale do malé výš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3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Obrázek 9" descr="800px-Polabi.jpg"/>
          <p:cNvPicPr/>
          <p:nvPr/>
        </p:nvPicPr>
        <p:blipFill>
          <a:blip r:embed="rId1"/>
          <a:stretch/>
        </p:blipFill>
        <p:spPr>
          <a:xfrm>
            <a:off x="2484360" y="3284640"/>
            <a:ext cx="1785960" cy="2449440"/>
          </a:xfrm>
          <a:prstGeom prst="rect">
            <a:avLst/>
          </a:prstGeom>
          <a:ln w="0">
            <a:noFill/>
          </a:ln>
        </p:spPr>
      </p:pic>
      <p:pic>
        <p:nvPicPr>
          <p:cNvPr id="379" name="Obrázek 8" descr="450px-Pinus_nigra_young_tree_Bulgaria.jpg"/>
          <p:cNvPicPr/>
          <p:nvPr/>
        </p:nvPicPr>
        <p:blipFill>
          <a:blip r:embed="rId2"/>
          <a:stretch/>
        </p:blipFill>
        <p:spPr>
          <a:xfrm>
            <a:off x="3203640" y="1484280"/>
            <a:ext cx="2238480" cy="1676520"/>
          </a:xfrm>
          <a:prstGeom prst="rect">
            <a:avLst/>
          </a:prstGeom>
          <a:ln w="0">
            <a:noFill/>
          </a:ln>
        </p:spPr>
      </p:pic>
      <p:pic>
        <p:nvPicPr>
          <p:cNvPr id="380" name="Obrázek 9" descr="800px-Alnus_glutinosa_011.jpg"/>
          <p:cNvPicPr/>
          <p:nvPr/>
        </p:nvPicPr>
        <p:blipFill>
          <a:blip r:embed="rId3"/>
          <a:stretch/>
        </p:blipFill>
        <p:spPr>
          <a:xfrm>
            <a:off x="4427640" y="3284640"/>
            <a:ext cx="1873080" cy="2496960"/>
          </a:xfrm>
          <a:prstGeom prst="rect">
            <a:avLst/>
          </a:prstGeom>
          <a:ln w="0">
            <a:noFill/>
          </a:ln>
        </p:spPr>
      </p:pic>
      <p:sp>
        <p:nvSpPr>
          <p:cNvPr id="381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LISTNATÉ STR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FLÓRA ČESKÉ REPUBLIK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ovéPole 12"/>
          <p:cNvSpPr/>
          <p:nvPr/>
        </p:nvSpPr>
        <p:spPr>
          <a:xfrm>
            <a:off x="324000" y="126828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Bříza (Bet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bílá ků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12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Topol (Populus)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Jasan (Fraxin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měkké dřevo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- v ČR 2 dru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100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druhů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6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Obrázek 8" descr="800px-Krusne_hory_CZ_I3A-2.png"/>
          <p:cNvPicPr/>
          <p:nvPr/>
        </p:nvPicPr>
        <p:blipFill>
          <a:blip r:embed="rId1"/>
          <a:stretch/>
        </p:blipFill>
        <p:spPr>
          <a:xfrm>
            <a:off x="4140360" y="2349360"/>
            <a:ext cx="1857240" cy="1224000"/>
          </a:xfrm>
          <a:prstGeom prst="rect">
            <a:avLst/>
          </a:prstGeom>
          <a:ln w="0">
            <a:noFill/>
          </a:ln>
        </p:spPr>
      </p:pic>
      <p:pic>
        <p:nvPicPr>
          <p:cNvPr id="386" name="Obrázek 9" descr="280px-Arborophila_brunneopectus_male_-_Kaeng_Krachan.jpg"/>
          <p:cNvPicPr/>
          <p:nvPr/>
        </p:nvPicPr>
        <p:blipFill>
          <a:blip r:embed="rId2"/>
          <a:stretch/>
        </p:blipFill>
        <p:spPr>
          <a:xfrm>
            <a:off x="826920" y="2708280"/>
            <a:ext cx="1833840" cy="1225440"/>
          </a:xfrm>
          <a:prstGeom prst="rect">
            <a:avLst/>
          </a:prstGeom>
          <a:ln w="0">
            <a:noFill/>
          </a:ln>
        </p:spPr>
      </p:pic>
      <p:pic>
        <p:nvPicPr>
          <p:cNvPr id="387" name="Obrázek 9" descr="800px-Jizerske_hory_CZ_I4A-6.png"/>
          <p:cNvPicPr/>
          <p:nvPr/>
        </p:nvPicPr>
        <p:blipFill>
          <a:blip r:embed="rId3"/>
          <a:stretch/>
        </p:blipFill>
        <p:spPr>
          <a:xfrm>
            <a:off x="4716360" y="4653000"/>
            <a:ext cx="1981440" cy="1297080"/>
          </a:xfrm>
          <a:prstGeom prst="rect">
            <a:avLst/>
          </a:prstGeom>
          <a:ln w="0">
            <a:noFill/>
          </a:ln>
        </p:spPr>
      </p:pic>
      <p:pic>
        <p:nvPicPr>
          <p:cNvPr id="388" name="Obrázek 6" descr="800px-Sumava_CZ_I1B-1.png"/>
          <p:cNvPicPr/>
          <p:nvPr/>
        </p:nvPicPr>
        <p:blipFill>
          <a:blip r:embed="rId4"/>
          <a:stretch/>
        </p:blipFill>
        <p:spPr>
          <a:xfrm>
            <a:off x="2556000" y="1484280"/>
            <a:ext cx="1670040" cy="1297080"/>
          </a:xfrm>
          <a:prstGeom prst="rect">
            <a:avLst/>
          </a:prstGeom>
          <a:ln w="0">
            <a:noFill/>
          </a:ln>
        </p:spPr>
      </p:pic>
      <p:pic>
        <p:nvPicPr>
          <p:cNvPr id="389" name="Obrázek 7" descr="800px-Cesky_les_CZ_I1A-1.png"/>
          <p:cNvPicPr/>
          <p:nvPr/>
        </p:nvPicPr>
        <p:blipFill>
          <a:blip r:embed="rId5"/>
          <a:stretch/>
        </p:blipFill>
        <p:spPr>
          <a:xfrm>
            <a:off x="2484360" y="3573360"/>
            <a:ext cx="2266920" cy="1511280"/>
          </a:xfrm>
          <a:prstGeom prst="rect">
            <a:avLst/>
          </a:prstGeom>
          <a:ln w="0">
            <a:noFill/>
          </a:ln>
        </p:spPr>
      </p:pic>
      <p:sp>
        <p:nvSpPr>
          <p:cNvPr id="390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Arial"/>
              </a:rPr>
              <a:t>ZVÍŘATA ŽIJÍCÍ V NÍŽINÁCH, U VODY A VE VOD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FAUNA ČESKÉ REPUBLIK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ovéPole 12"/>
          <p:cNvSpPr/>
          <p:nvPr/>
        </p:nvSpPr>
        <p:spPr>
          <a:xfrm>
            <a:off x="468360" y="148428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Ptáci (Aves)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Obojživelné (Amphib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bažant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- žá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korop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Savci (Mammalia)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Ryby (Osteichthy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zajíc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- Ce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Obrázek 7" descr="800px-Cesky_les_CZ_I1A-1.png"/>
          <p:cNvPicPr/>
          <p:nvPr/>
        </p:nvPicPr>
        <p:blipFill>
          <a:blip r:embed="rId1"/>
          <a:stretch/>
        </p:blipFill>
        <p:spPr>
          <a:xfrm>
            <a:off x="7472520" y="3213000"/>
            <a:ext cx="1671480" cy="1079640"/>
          </a:xfrm>
          <a:prstGeom prst="rect">
            <a:avLst/>
          </a:prstGeom>
          <a:ln w="0">
            <a:noFill/>
          </a:ln>
        </p:spPr>
      </p:pic>
      <p:pic>
        <p:nvPicPr>
          <p:cNvPr id="395" name="Obrázek 14" descr="800px-Taxidea_taxus.jpg"/>
          <p:cNvPicPr/>
          <p:nvPr/>
        </p:nvPicPr>
        <p:blipFill>
          <a:blip r:embed="rId2"/>
          <a:stretch/>
        </p:blipFill>
        <p:spPr>
          <a:xfrm>
            <a:off x="5940360" y="4941720"/>
            <a:ext cx="1725840" cy="1151280"/>
          </a:xfrm>
          <a:prstGeom prst="rect">
            <a:avLst/>
          </a:prstGeom>
          <a:ln w="0">
            <a:noFill/>
          </a:ln>
        </p:spPr>
      </p:pic>
      <p:pic>
        <p:nvPicPr>
          <p:cNvPr id="396" name="Obrázek 9" descr="800px-Jizerske_hory_CZ_I4A-6.png"/>
          <p:cNvPicPr/>
          <p:nvPr/>
        </p:nvPicPr>
        <p:blipFill>
          <a:blip r:embed="rId3"/>
          <a:stretch/>
        </p:blipFill>
        <p:spPr>
          <a:xfrm>
            <a:off x="6875640" y="2133720"/>
            <a:ext cx="1728720" cy="1171440"/>
          </a:xfrm>
          <a:prstGeom prst="rect">
            <a:avLst/>
          </a:prstGeom>
          <a:ln w="0">
            <a:noFill/>
          </a:ln>
        </p:spPr>
      </p:pic>
      <p:pic>
        <p:nvPicPr>
          <p:cNvPr id="397" name="Obrázek 6" descr="800px-Sumava_CZ_I1B-1.png"/>
          <p:cNvPicPr/>
          <p:nvPr/>
        </p:nvPicPr>
        <p:blipFill>
          <a:blip r:embed="rId4"/>
          <a:stretch/>
        </p:blipFill>
        <p:spPr>
          <a:xfrm>
            <a:off x="7093080" y="4221000"/>
            <a:ext cx="1728720" cy="1152720"/>
          </a:xfrm>
          <a:prstGeom prst="rect">
            <a:avLst/>
          </a:prstGeom>
          <a:ln w="0">
            <a:noFill/>
          </a:ln>
        </p:spPr>
      </p:pic>
      <p:pic>
        <p:nvPicPr>
          <p:cNvPr id="398" name="Obrázek 9" descr="280px-Arborophila_brunneopectus_male_-_Kaeng_Krachan.jpg"/>
          <p:cNvPicPr/>
          <p:nvPr/>
        </p:nvPicPr>
        <p:blipFill>
          <a:blip r:embed="rId5"/>
          <a:stretch/>
        </p:blipFill>
        <p:spPr>
          <a:xfrm>
            <a:off x="2484360" y="1700280"/>
            <a:ext cx="1224000" cy="1866960"/>
          </a:xfrm>
          <a:prstGeom prst="rect">
            <a:avLst/>
          </a:prstGeom>
          <a:ln w="0">
            <a:noFill/>
          </a:ln>
        </p:spPr>
      </p:pic>
      <p:sp>
        <p:nvSpPr>
          <p:cNvPr id="399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Arial"/>
              </a:rPr>
              <a:t>ZVÍŘATA ŽIJÍCÍ NA HORÁCH A V LES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FAUNA ČESKÉ REPUBLIK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Obrázek 8" descr="800px-Krusne_hory_CZ_I3A-2.png"/>
          <p:cNvPicPr/>
          <p:nvPr/>
        </p:nvPicPr>
        <p:blipFill>
          <a:blip r:embed="rId6"/>
          <a:stretch/>
        </p:blipFill>
        <p:spPr>
          <a:xfrm>
            <a:off x="6012000" y="1052640"/>
            <a:ext cx="1858680" cy="1215720"/>
          </a:xfrm>
          <a:prstGeom prst="rect">
            <a:avLst/>
          </a:prstGeom>
          <a:ln w="0">
            <a:noFill/>
          </a:ln>
        </p:spPr>
      </p:pic>
      <p:pic>
        <p:nvPicPr>
          <p:cNvPr id="403" name="Diagram 23" descr=""/>
          <p:cNvPicPr/>
          <p:nvPr/>
        </p:nvPicPr>
        <p:blipFill>
          <a:blip r:embed="rId7"/>
          <a:stretch/>
        </p:blipFill>
        <p:spPr>
          <a:xfrm>
            <a:off x="2981160" y="1109520"/>
            <a:ext cx="4187880" cy="4784760"/>
          </a:xfrm>
          <a:prstGeom prst="rect">
            <a:avLst/>
          </a:prstGeom>
          <a:ln w="0">
            <a:noFill/>
          </a:ln>
        </p:spPr>
      </p:pic>
      <p:pic>
        <p:nvPicPr>
          <p:cNvPr id="404" name="Diagram 25" descr=""/>
          <p:cNvPicPr/>
          <p:nvPr/>
        </p:nvPicPr>
        <p:blipFill>
          <a:blip r:embed="rId8"/>
          <a:stretch/>
        </p:blipFill>
        <p:spPr>
          <a:xfrm>
            <a:off x="-6480" y="1127160"/>
            <a:ext cx="24638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BYVATELÉ Č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Češ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oravan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lezan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ěm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usov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olá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ietnam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krajin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Schoolbook"/>
              </a:rPr>
              <a:t>Občané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Schoolbook"/>
              </a:rPr>
              <a:t>Zde žijící cizinc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Obdélník 6"/>
          <p:cNvSpPr/>
          <p:nvPr/>
        </p:nvSpPr>
        <p:spPr>
          <a:xfrm>
            <a:off x="611280" y="573264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Vytvořeno dne 4. 1. 2013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9:15:51Z</dcterms:created>
  <dc:creator>Drahuše</dc:creator>
  <dc:description/>
  <dc:language>en-US</dc:language>
  <cp:lastModifiedBy>martina</cp:lastModifiedBy>
  <dcterms:modified xsi:type="dcterms:W3CDTF">2013-06-09T07:39:24Z</dcterms:modified>
  <cp:revision>116</cp:revision>
  <dc:subject/>
  <dc:title>č. 21 – Česká republika a Evropa - opakování</dc:title>
</cp:coreProperties>
</file>