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259-8E4C-46AD-936E-FD2D2B41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F59-F02A-464E-BC7E-24F09C43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DC8-BF3E-45C2-8C96-827ECC07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B64-C057-4E90-93A3-E9E99674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7A01-1191-48B4-83F4-DAA0A732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6BB8-0BF0-4F53-8624-13F5EA20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484B-17B6-4E49-882A-1CDCB322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ACF4-016F-4417-929C-BE352BBB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E2CB-55D6-4792-AEBC-76A8BF21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9A4C-CAB7-4C62-A40C-8324BC24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D939-4A9D-42C4-8A6A-53057D8E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D4A-2506-4A9A-AA1E-5619F9B9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0DEC-1C07-4269-99FB-09CF9A03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E57D-4074-4BC7-9A43-32C4ED62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0DE4-5280-4DDA-B2E9-22900AF3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9FC3-021E-4503-908F-08397B1C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DCC5-A9B2-4988-A6B6-691383E4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4DFF0-ED1C-4F96-9E88-F6AE088B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96FC0-A1BB-433E-A872-EA09A2E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44971-AE15-4A93-9F48-54A1C359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701B7-46CD-4F6A-9D13-B2931813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68065-379C-47A0-91CE-CB18B6EB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062-69A6-4E0D-B07B-1E09AF92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1CE31-A746-42A8-A46B-F108AFDC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5B275-34C0-4672-94E0-ACE76F9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E08BD-CBDA-4CBE-914B-E0166223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44850-D79C-4CC0-B702-A8FEE9FB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100C4-C558-4479-8A71-912DC912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3C9FC-FC77-47A2-930A-B39D6809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920B2-108D-4229-A989-72192F66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34D9-D64A-4264-AB87-C2A1C4D6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2136-E874-42F5-AEFE-2AFF7DC4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1A4E-E7CF-462D-A0B1-4D2F9127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12F-A9BA-43A0-9AF7-6E503156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8EA88-9FED-4C8D-AA1B-C6668DB6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2BA3-714C-4B12-B0FE-CB9E8457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71912-1A5C-4A5A-9C20-325E1851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7145D-E78D-47EE-85DA-030B32A1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DA5DA-664F-49D3-8EBF-CA8D474A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2B0C3-F05E-4039-88B9-910FB4B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7CB67-12C0-439A-9291-C1E0343A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0E57A-7BC2-454C-ABBF-F49711F0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56742-B8F5-42DB-B64C-E84C2438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48B60-8FE4-4FF7-8FF8-63FA4F2F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733-EEDC-4F5A-98A2-B3BD51D3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2A91D-A25F-4D44-A9DF-6D64608E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2EC0B-8D90-427D-B8FD-CA7D276B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FC7EC-1D4C-4EB4-9568-D9F6C5FD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23D4F-A71A-45EC-8C46-5D92C57F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1C831-22B7-4A8D-BFD9-5BE88002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4E740-F0AD-4E49-988C-A166866D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AF9D4-CED0-424F-8EAF-F4AC96A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DFDAA-687D-4B7E-8216-1781DE15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CF017-3538-4235-8EDB-6B77DDB4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AD2C4-8895-4C15-AB93-F1084FCE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EA1-2EBC-498B-BA91-35D78C5A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E69F6-D532-4D55-9429-F274FA14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6DE83-CC34-4D81-BF38-80C5C04F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75611-E18A-4BA0-B95F-C0312B6F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8561A0-31EF-4C50-9DE4-004D083A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BAC3E-50FB-432B-942D-C9022C72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959B5-1AF3-48B8-9630-BD161F85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F8C7A-45B8-4363-8BF4-EC5563D5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EE3A3-E35A-4227-936D-B022A07A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6FB01-AFA6-4D32-96F4-0E6062F3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AB2CE-314E-4CD9-AB3E-284459DD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3C9-B736-4688-A46D-A339292D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B338B-0325-4872-966C-F0A090FD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3037C-FF38-4A32-9772-721B006F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B4AD3-171A-4230-B0CC-5F44A165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B2C27-1B3D-4438-BB87-F7378ADF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8D0C4-79D5-4A70-9512-FD9641C0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1D5E5-4AB2-4580-A1F8-95CD82AF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5A939-A61B-4655-90D9-37437813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C6509-5AF9-4265-B2EE-A202DD56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0863E-AAB0-4D63-9641-2381B604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9D492-7A00-4E83-B698-EF4B6D54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569-8429-412F-98CD-D42574A8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8F693-77FE-48A4-8DAB-45A98270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586F6-33DD-4CF0-A9D2-A60F2A3E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C48DF-E4A3-4122-8FF7-1A8460B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7CB24B-0C01-4583-A616-D4F708CD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BF212-71BE-433D-B9C1-725A2C28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A54-14ED-4D7F-AE3E-627B0388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1FD4-6D52-458C-BB40-E87C0E00E73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CE42-18D0-456E-AE84-76EF1BE3D3C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00F2-61B8-462D-B0C8-90D7630738F0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6611-F95E-497E-A9C6-34E281DC3E5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B8C3-E2E0-4FC3-BFE4-A774FE9EA12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3590-5592-446F-B363-D01A0EF5EB2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8FAE-BDFF-480A-A5E6-DA35C06D8D0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cs.wikipedia.org/wiki/Soubor:Gobi_Desert.jpg" TargetMode="External"/><Relationship Id="rId3" Type="http://schemas.openxmlformats.org/officeDocument/2006/relationships/hyperlink" Target="http://cs.wikipedia.org/wiki/Soubor:FujiSunriseKawaguchiko2025WP.jpg" TargetMode="External"/><Relationship Id="rId4" Type="http://schemas.openxmlformats.org/officeDocument/2006/relationships/hyperlink" Target="http://en.wikipedia.org/wiki/File:Ganges-Brahmaputra-Meghna_basins.jpg" TargetMode="External"/><Relationship Id="rId5" Type="http://schemas.openxmlformats.org/officeDocument/2006/relationships/hyperlink" Target="http://cs.wikipedia.org/wiki/Soubor:GreatWall_2004_Summer_4.jpg" TargetMode="External"/><Relationship Id="rId6" Type="http://schemas.openxmlformats.org/officeDocument/2006/relationships/hyperlink" Target="http://en.wikipedia.org/wiki/File:Monastery_around_Dhamek_stupa,_Sarnath.jpg" TargetMode="External"/><Relationship Id="rId7" Type="http://schemas.openxmlformats.org/officeDocument/2006/relationships/hyperlink" Target="http://en.wikipedia.org/wiki/File:Ganga_Dashara,_at_Haridwar.jpg" TargetMode="External"/><Relationship Id="rId8" Type="http://schemas.openxmlformats.org/officeDocument/2006/relationships/hyperlink" Target="http://ru.wikipedia.org/wiki/&#1060;&#1072;&#1081;&#1083;:EthnAfrica.jpg" TargetMode="External"/><Relationship Id="rId9" Type="http://schemas.openxmlformats.org/officeDocument/2006/relationships/hyperlink" Target="http://cs.wikipedia.org/wiki/Soubor:African_continent-cs.svg" TargetMode="External"/><Relationship Id="rId10" Type="http://schemas.openxmlformats.org/officeDocument/2006/relationships/hyperlink" Target="http://cs.wikipedia.org/wiki/Soubor:Zebras,_Serengeti_savana_plains,_Tanzania.jpg" TargetMode="External"/><Relationship Id="rId11" Type="http://schemas.openxmlformats.org/officeDocument/2006/relationships/hyperlink" Target="http://cs.wikipedia.org/wiki/Soubor:All_Gizah_Pyramids.jpg" TargetMode="External"/><Relationship Id="rId12" Type="http://schemas.openxmlformats.org/officeDocument/2006/relationships/hyperlink" Target="http://en.wikipedia.org/wiki/File:Egyptian_funerary_stela.jpg" TargetMode="External"/><Relationship Id="rId13" Type="http://schemas.openxmlformats.org/officeDocument/2006/relationships/hyperlink" Target="http://cs.wikipedia.org/wiki/Soubor:Asian_Elephant_Prague_Zoo.jpg" TargetMode="External"/><Relationship Id="rId14" Type="http://schemas.openxmlformats.org/officeDocument/2006/relationships/hyperlink" Target="http://cs.wikipedia.org/wiki/Soubor:Chameau_de_bactriane.JPG" TargetMode="External"/><Relationship Id="rId15" Type="http://schemas.openxmlformats.org/officeDocument/2006/relationships/hyperlink" Target="http://cs.wikipedia.org/wiki/Soubor:Zebras.jpg" TargetMode="External"/><Relationship Id="rId16" Type="http://schemas.openxmlformats.org/officeDocument/2006/relationships/hyperlink" Target="http://cs.wikipedia.org/wiki/Soubor:Impala.JPG" TargetMode="External"/><Relationship Id="rId17" Type="http://schemas.openxmlformats.org/officeDocument/2006/relationships/hyperlink" Target="http://cs.wikipedia.org/wiki/Soubor:Giraffe_standing.jpg" TargetMode="External"/><Relationship Id="rId18" Type="http://schemas.openxmlformats.org/officeDocument/2006/relationships/hyperlink" Target="http://cs.wikipedia.org/wiki/Soubor:Smirolato.JPG" TargetMode="External"/><Relationship Id="rId19" Type="http://schemas.openxmlformats.org/officeDocument/2006/relationships/hyperlink" Target="http://cs.wikipedia.org/wiki/Soubor:Male_silverback_Gorilla.JPG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Č.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18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 –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SVĚTADÍLY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SIE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, AFRIKA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92360" y="765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FAUNA AFR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Diagram 13" descr=""/>
          <p:cNvPicPr/>
          <p:nvPr/>
        </p:nvPicPr>
        <p:blipFill>
          <a:blip r:embed="rId1"/>
          <a:stretch/>
        </p:blipFill>
        <p:spPr>
          <a:xfrm>
            <a:off x="463680" y="1390680"/>
            <a:ext cx="4114800" cy="4565520"/>
          </a:xfrm>
          <a:prstGeom prst="rect">
            <a:avLst/>
          </a:prstGeom>
          <a:ln w="0">
            <a:noFill/>
          </a:ln>
        </p:spPr>
      </p:pic>
      <p:pic>
        <p:nvPicPr>
          <p:cNvPr id="416" name="Diagram 17" descr=""/>
          <p:cNvPicPr/>
          <p:nvPr/>
        </p:nvPicPr>
        <p:blipFill>
          <a:blip r:embed="rId2"/>
          <a:stretch/>
        </p:blipFill>
        <p:spPr>
          <a:xfrm>
            <a:off x="4492800" y="1335240"/>
            <a:ext cx="4114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ovéPole 6"/>
          <p:cNvSpPr/>
          <p:nvPr/>
        </p:nvSpPr>
        <p:spPr>
          <a:xfrm>
            <a:off x="539640" y="1341360"/>
            <a:ext cx="785808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droj obrázk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uveřejněné odkazy [cit. 2013-01-02] dostupné pod licencí Public doma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org</a:t>
            </a:r>
            <a:r>
              <a:rPr b="0" lang="cs-CZ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Asie 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(Mapa)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sie (Politická mapa)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ušť Gobi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http://cs.wikipedia.org/wiki/Soubor:Gobi_Deser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opka Fudži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3"/>
              </a:rPr>
              <a:t>http://cs.wikipedia.org/wiki/Soubor:FujiSunriseKawaguchiko2025WP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Ganga (Mapa)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4"/>
              </a:rPr>
              <a:t>http://en.wikipedia.org/wiki/File:Ganges-Brahmaputra-Meghna_basin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elká čínská zeď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5"/>
              </a:rPr>
              <a:t>http://cs.wikipedia.org/wiki/Soubor:GreatWall_2004_Summer_4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uddhistický chrám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en.wikipedia.org/wiki/File:Monastery_around_Dhamek_stupa,_Sarnath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svátná koupel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7"/>
              </a:rPr>
              <a:t>http://en.wikipedia.org/wiki/File:Ganga_Dashara,_at_Haridwa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byvatelé Afrik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http://ru.wikipedia.org/wiki/%D0%A4%D0%B0%D0%B9%D0%BB:EthnAfric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olitická mapa Afrik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http://cs.wikipedia.org/wiki/Soubor:African_continent-cs.sv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Národní park Serengeti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http://cs.wikipedia.org/wiki/Soubor:Zebras,_Serengeti_savana_plains,_Tanzani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yramid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1"/>
              </a:rPr>
              <a:t>http://cs.wikipedia.org/wiki/Soubor:All_Gizah_Pyramid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ieroglyf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http://en.wikipedia.org/wiki/File:Egyptian_funerary_stel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Slon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3"/>
              </a:rPr>
              <a:t>http://cs.wikipedia.org/wiki/Soubor:Asian_Elephant_Prague_Zo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Velbloud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4"/>
              </a:rPr>
              <a:t>http://cs.wikipedia.org/wiki/Soubor:Chameau_de_bactrian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Zebr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5"/>
              </a:rPr>
              <a:t>http://cs.wikipedia.org/wiki/Soubor:Zebra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Antilop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6"/>
              </a:rPr>
              <a:t>http://cs.wikipedia.org/wiki/Soubor:Impal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Žirafa –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7"/>
              </a:rPr>
              <a:t>http://cs.wikipedia.org/wiki/Soubor:Giraffe_standing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Nosorožec –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8"/>
              </a:rPr>
              <a:t>http://cs.wikipedia.org/wiki/Soubor:Smirolat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Gorila –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9"/>
              </a:rPr>
              <a:t>http://cs.wikipedia.org/wiki/Soubor:Male_silverback_Gorill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yena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Spotted_hyena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roch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Nilpferd_auftauchend_0505012_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okodýl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NileCrocodil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Šimpanz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Chimpans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Lev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Lion_waiting_in_Namibi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49416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ětadíly Asie, Afr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áci si upevňují znalosti o světadílech, poznávají a rozlišují přírodní a společenské znaky. Získávají další nové znalosti na dané téma. Součástí prezentace je i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vyhledat na mapách jednotlivé světadíly a oceá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rozlišit zásadní přírodní a společenské znaky světových region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AS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6" descr="Asie.jpg"/>
          <p:cNvPicPr/>
          <p:nvPr/>
        </p:nvPicPr>
        <p:blipFill>
          <a:blip r:embed="rId1"/>
          <a:stretch/>
        </p:blipFill>
        <p:spPr>
          <a:xfrm>
            <a:off x="1042920" y="1484280"/>
            <a:ext cx="58327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ASIE (POLITICKÁ MAP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Obrázek 6" descr="Asie.jpg"/>
          <p:cNvPicPr/>
          <p:nvPr/>
        </p:nvPicPr>
        <p:blipFill>
          <a:blip r:embed="rId1"/>
          <a:stretch/>
        </p:blipFill>
        <p:spPr>
          <a:xfrm>
            <a:off x="179280" y="1628640"/>
            <a:ext cx="7201080" cy="4148280"/>
          </a:xfrm>
          <a:prstGeom prst="rect">
            <a:avLst/>
          </a:prstGeom>
          <a:ln w="0">
            <a:noFill/>
          </a:ln>
        </p:spPr>
      </p:pic>
      <p:sp>
        <p:nvSpPr>
          <p:cNvPr id="366" name="TextovéPole 7"/>
          <p:cNvSpPr/>
          <p:nvPr/>
        </p:nvSpPr>
        <p:spPr>
          <a:xfrm>
            <a:off x="4859280" y="35002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50 stá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větší: Rusko, Čína, In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vyspělejší: Japonsko, Iz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římá spojovací čára 15"/>
          <p:cNvSpPr/>
          <p:nvPr/>
        </p:nvSpPr>
        <p:spPr>
          <a:xfrm flipV="1">
            <a:off x="6804000" y="2636640"/>
            <a:ext cx="0" cy="122364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římá spojovací čára 17"/>
          <p:cNvSpPr/>
          <p:nvPr/>
        </p:nvSpPr>
        <p:spPr>
          <a:xfrm flipH="1" flipV="1">
            <a:off x="5219280" y="1989000"/>
            <a:ext cx="1584360" cy="64800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římá spojovací čára 19"/>
          <p:cNvSpPr/>
          <p:nvPr/>
        </p:nvSpPr>
        <p:spPr>
          <a:xfrm flipH="1" flipV="1">
            <a:off x="6948360" y="3141360"/>
            <a:ext cx="503280" cy="7189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římá spojovací čára 21"/>
          <p:cNvSpPr/>
          <p:nvPr/>
        </p:nvSpPr>
        <p:spPr>
          <a:xfrm flipH="1">
            <a:off x="4140360" y="3141720"/>
            <a:ext cx="28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římá spojovací čára 23"/>
          <p:cNvSpPr/>
          <p:nvPr/>
        </p:nvSpPr>
        <p:spPr>
          <a:xfrm flipH="1" flipV="1">
            <a:off x="6372000" y="3428640"/>
            <a:ext cx="1655640" cy="431640"/>
          </a:xfrm>
          <a:prstGeom prst="line">
            <a:avLst/>
          </a:prstGeom>
          <a:ln w="3492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římá spojovací čára 25"/>
          <p:cNvSpPr/>
          <p:nvPr/>
        </p:nvSpPr>
        <p:spPr>
          <a:xfrm flipH="1">
            <a:off x="2555640" y="3429000"/>
            <a:ext cx="3816360" cy="0"/>
          </a:xfrm>
          <a:prstGeom prst="line">
            <a:avLst/>
          </a:prstGeom>
          <a:ln w="3492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římá spojovací čára 27"/>
          <p:cNvSpPr/>
          <p:nvPr/>
        </p:nvSpPr>
        <p:spPr>
          <a:xfrm flipH="1">
            <a:off x="5219640" y="4365720"/>
            <a:ext cx="2160720" cy="28728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30"/>
          <p:cNvSpPr/>
          <p:nvPr/>
        </p:nvSpPr>
        <p:spPr>
          <a:xfrm flipV="1">
            <a:off x="5219640" y="3068280"/>
            <a:ext cx="0" cy="158436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římá spojovací čára 32"/>
          <p:cNvSpPr/>
          <p:nvPr/>
        </p:nvSpPr>
        <p:spPr>
          <a:xfrm flipH="1">
            <a:off x="684360" y="4365720"/>
            <a:ext cx="7775280" cy="136692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36"/>
          <p:cNvSpPr/>
          <p:nvPr/>
        </p:nvSpPr>
        <p:spPr>
          <a:xfrm flipH="1" flipV="1">
            <a:off x="610920" y="3212640"/>
            <a:ext cx="73080" cy="251964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2124000" y="1628640"/>
            <a:ext cx="2136960" cy="1602000"/>
          </a:xfrm>
          <a:prstGeom prst="rect">
            <a:avLst/>
          </a:prstGeom>
          <a:ln w="0">
            <a:noFill/>
          </a:ln>
        </p:spPr>
      </p:pic>
      <p:pic>
        <p:nvPicPr>
          <p:cNvPr id="378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4211640" y="1628640"/>
            <a:ext cx="2448000" cy="1632240"/>
          </a:xfrm>
          <a:prstGeom prst="rect">
            <a:avLst/>
          </a:prstGeom>
          <a:ln w="0">
            <a:noFill/>
          </a:ln>
        </p:spPr>
      </p:pic>
      <p:pic>
        <p:nvPicPr>
          <p:cNvPr id="379" name="Obrázek 7" descr="800px-Cesky_les_CZ_I1A-1.png"/>
          <p:cNvPicPr/>
          <p:nvPr/>
        </p:nvPicPr>
        <p:blipFill>
          <a:blip r:embed="rId3"/>
          <a:stretch/>
        </p:blipFill>
        <p:spPr>
          <a:xfrm>
            <a:off x="2124000" y="3213000"/>
            <a:ext cx="2303640" cy="1871640"/>
          </a:xfrm>
          <a:prstGeom prst="rect">
            <a:avLst/>
          </a:prstGeom>
          <a:ln w="0">
            <a:noFill/>
          </a:ln>
        </p:spPr>
      </p:pic>
      <p:sp>
        <p:nvSpPr>
          <p:cNvPr id="380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PŘÍR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ÝZNAMNÉ OBJEKTY AS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ovéPole 9"/>
          <p:cNvSpPr/>
          <p:nvPr/>
        </p:nvSpPr>
        <p:spPr>
          <a:xfrm>
            <a:off x="179280" y="148428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ušť Go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a 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chladněj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ští na svět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až -4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els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ovéPole 10"/>
          <p:cNvSpPr/>
          <p:nvPr/>
        </p:nvSpPr>
        <p:spPr>
          <a:xfrm>
            <a:off x="6804000" y="155736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pka Fudž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le 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pka, posle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rupce 17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aponsk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ovéPole 11"/>
          <p:cNvSpPr/>
          <p:nvPr/>
        </p:nvSpPr>
        <p:spPr>
          <a:xfrm>
            <a:off x="179280" y="378936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eka Ga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vátná ř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ů, nacház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v sever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ovéPole 12"/>
          <p:cNvSpPr/>
          <p:nvPr/>
        </p:nvSpPr>
        <p:spPr>
          <a:xfrm>
            <a:off x="6732720" y="371628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vátné koup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ové věří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koupete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nze, vaše du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očiště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Obrázek 13" descr="Ganga_Dashara,_at_Haridwar.jpg"/>
          <p:cNvPicPr/>
          <p:nvPr/>
        </p:nvPicPr>
        <p:blipFill>
          <a:blip r:embed="rId4"/>
          <a:stretch/>
        </p:blipFill>
        <p:spPr>
          <a:xfrm>
            <a:off x="4427640" y="3213000"/>
            <a:ext cx="226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HIST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VÝZNAMNÉ OBJEKTY AS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Obrázek 8" descr="800px-Monastery_around_Dhamek_stupa,_Sarnath.jpg"/>
          <p:cNvPicPr/>
          <p:nvPr/>
        </p:nvPicPr>
        <p:blipFill>
          <a:blip r:embed="rId1"/>
          <a:stretch/>
        </p:blipFill>
        <p:spPr>
          <a:xfrm>
            <a:off x="1258920" y="2492280"/>
            <a:ext cx="3166920" cy="2109960"/>
          </a:xfrm>
          <a:prstGeom prst="rect">
            <a:avLst/>
          </a:prstGeom>
          <a:ln w="0">
            <a:noFill/>
          </a:ln>
        </p:spPr>
      </p:pic>
      <p:pic>
        <p:nvPicPr>
          <p:cNvPr id="392" name="Obrázek 9" descr="800px-GreatWall_2004_Summer_4.jpg"/>
          <p:cNvPicPr/>
          <p:nvPr/>
        </p:nvPicPr>
        <p:blipFill>
          <a:blip r:embed="rId2"/>
          <a:stretch/>
        </p:blipFill>
        <p:spPr>
          <a:xfrm>
            <a:off x="4427640" y="249228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393" name="TextovéPole 10"/>
          <p:cNvSpPr/>
          <p:nvPr/>
        </p:nvSpPr>
        <p:spPr>
          <a:xfrm>
            <a:off x="179280" y="1268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dh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uddhismus je nábožensko-filosofický systém, jehož základ vytvořil Gautama Buddha pravděpodobně v 5. století př. n. l. v severovýchodní Indii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má stanoveného boh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ovéPole 11"/>
          <p:cNvSpPr/>
          <p:nvPr/>
        </p:nvSpPr>
        <p:spPr>
          <a:xfrm>
            <a:off x="179280" y="472428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á čínská ze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arý systém opevnění táhnoucí se napříč severní Čín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eď se táhne v ohromující délce cca 6000 km (se všemi odbočkami 8858,8k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OBYVATEL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AF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Obrázek 8" descr="600px-EthnAfrica.jpg"/>
          <p:cNvPicPr/>
          <p:nvPr/>
        </p:nvPicPr>
        <p:blipFill>
          <a:blip r:embed="rId1"/>
          <a:stretch/>
        </p:blipFill>
        <p:spPr>
          <a:xfrm>
            <a:off x="539640" y="1341360"/>
            <a:ext cx="4437000" cy="4437000"/>
          </a:xfrm>
          <a:prstGeom prst="rect">
            <a:avLst/>
          </a:prstGeom>
          <a:ln w="0">
            <a:noFill/>
          </a:ln>
        </p:spPr>
      </p:pic>
      <p:sp>
        <p:nvSpPr>
          <p:cNvPr id="399" name="TextovéPole 9"/>
          <p:cNvSpPr/>
          <p:nvPr/>
        </p:nvSpPr>
        <p:spPr>
          <a:xfrm>
            <a:off x="5148360" y="1773360"/>
            <a:ext cx="34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rozšířenější etnika Afr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Arab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Afrič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erbe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asaj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Himb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Obrázek 6" descr="Asie.jpg"/>
          <p:cNvPicPr/>
          <p:nvPr/>
        </p:nvPicPr>
        <p:blipFill>
          <a:blip r:embed="rId1"/>
          <a:stretch/>
        </p:blipFill>
        <p:spPr>
          <a:xfrm>
            <a:off x="1332000" y="765000"/>
            <a:ext cx="5425920" cy="5126040"/>
          </a:xfrm>
          <a:prstGeom prst="rect">
            <a:avLst/>
          </a:prstGeom>
          <a:ln w="0">
            <a:noFill/>
          </a:ln>
        </p:spPr>
      </p:pic>
      <p:sp>
        <p:nvSpPr>
          <p:cNvPr id="401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AFRIKA - STÁ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VÝZNAMNÉ OBJEKTY AFR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Obrázek 8" descr="800px-Monastery_around_Dhamek_stupa,_Sarnath.jpg"/>
          <p:cNvPicPr/>
          <p:nvPr/>
        </p:nvPicPr>
        <p:blipFill>
          <a:blip r:embed="rId1"/>
          <a:stretch/>
        </p:blipFill>
        <p:spPr>
          <a:xfrm>
            <a:off x="250920" y="2637000"/>
            <a:ext cx="3384360" cy="1823760"/>
          </a:xfrm>
          <a:prstGeom prst="rect">
            <a:avLst/>
          </a:prstGeom>
          <a:ln w="0">
            <a:noFill/>
          </a:ln>
        </p:spPr>
      </p:pic>
      <p:pic>
        <p:nvPicPr>
          <p:cNvPr id="408" name="Obrázek 9" descr="800px-GreatWall_2004_Summer_4.jpg"/>
          <p:cNvPicPr/>
          <p:nvPr/>
        </p:nvPicPr>
        <p:blipFill>
          <a:blip r:embed="rId2"/>
          <a:stretch/>
        </p:blipFill>
        <p:spPr>
          <a:xfrm>
            <a:off x="3635280" y="2637000"/>
            <a:ext cx="2737080" cy="1819080"/>
          </a:xfrm>
          <a:prstGeom prst="rect">
            <a:avLst/>
          </a:prstGeom>
          <a:ln w="0">
            <a:noFill/>
          </a:ln>
        </p:spPr>
      </p:pic>
      <p:sp>
        <p:nvSpPr>
          <p:cNvPr id="409" name="TextovéPole 10"/>
          <p:cNvSpPr/>
          <p:nvPr/>
        </p:nvSpPr>
        <p:spPr>
          <a:xfrm>
            <a:off x="179280" y="1268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rodní park Sereng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verní Tanzanie, východně od Viktoriina jezera. Jedná se o jedno z nejslavnějších a nejrozsáhlejších chráněných území Afr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ložen v roce 195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ovéPole 11"/>
          <p:cNvSpPr/>
          <p:nvPr/>
        </p:nvSpPr>
        <p:spPr>
          <a:xfrm>
            <a:off x="179280" y="472428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gyptské pyramidy a hierogly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yramidy jsou pohřební budovy pro dávné faraony Egypta. Přes 100 metrů vysok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gypťané nazývali hieroglyfy "písmo bohů" neboť věřili, že jej vynalezl bůh Thov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Obrázek 12" descr="Egyptian_funerary_stela.jpg"/>
          <p:cNvPicPr/>
          <p:nvPr/>
        </p:nvPicPr>
        <p:blipFill>
          <a:blip r:embed="rId3"/>
          <a:stretch/>
        </p:blipFill>
        <p:spPr>
          <a:xfrm>
            <a:off x="6516720" y="2205000"/>
            <a:ext cx="16635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42:06Z</dcterms:modified>
  <cp:revision>143</cp:revision>
  <dc:subject/>
  <dc:title>č. 21 – Česká republika a Evropa - opakování</dc:title>
</cp:coreProperties>
</file>