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3BE-FF49-4DC9-988E-EB67F020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0B9-26C3-4D1F-93D3-28E8818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071-4500-4A62-B0EE-875CF419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561-C898-45B8-87C2-930B220F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305F-140E-4BB3-B5F7-0201FC7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52A5-5923-4595-BA1E-E3B34AC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404C-9A83-46FC-99F1-EB0690D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52D5-3D23-429B-8A7D-76CC0F94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C45-6DEF-43FF-9940-BD203FB0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3826-5E24-4EDA-AD3E-60741A4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59C-022C-4B40-8089-541DC1C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28D-66B5-4FEC-8446-86CFC6E1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18F0-5F54-4547-AD9C-3BC9F3A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F59-A1DE-4C7A-81A4-001D3A5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BA95-4DA3-4462-B282-FF7DB42B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B1B-B269-4511-B9C0-7D3561F4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69E-BE5C-4952-96EA-99AF6FC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733A5-6D50-4380-889D-00B6F17C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55DC0-14EC-422A-A697-1F559BB3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4C7B0-FDC8-40E1-A37B-8EDB76C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BE67D-C63C-4EB9-B105-68A61A7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BD6BF-D5F6-413D-85AA-622F2984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1B0-EEE1-4EFE-BA3D-7511031B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031BA-C371-4DCB-82E7-7EE6E502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F9D8C-4974-4B89-85BE-63F261E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7C2C4-125F-439B-AC3C-F5B73AA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4A8F5-1166-4BED-B1EE-7591EDA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5101C-1FE9-419B-9847-C0AE9BF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16AD2-57EB-407C-90E7-6C0CDA39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ED6F0-4FFD-4ACA-8D84-F3D0F3A4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3A67-DDA1-48AD-9F95-01610CD4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21A7-C21B-47BD-863E-7F080E3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8ADF-6CD7-4BA1-8AD1-DCB3A3E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608-4126-4170-A410-ACC6DD4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E8E7-E005-4FE7-8121-CE3435E2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4207-D467-4C6D-967C-A9A5B40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57FE-48B2-41F9-AC74-D5B8D0D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9C15-6662-4E3E-9659-4BA21B70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BDE1-051F-4057-82D1-0C1EA35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FA11-3FCF-4160-B28F-1C36C34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10C68-29E4-46E0-B7D2-16DF26B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D689-1CCB-4382-B841-90B1076E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0503-6548-4166-B3D1-B1526200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3E778-91EE-4899-BFED-72A18CC6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B3F-7285-4B93-9234-006226E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60F1B-FAA9-43F5-91E9-3247F5C9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37381-7D32-4095-9BD3-C9E2072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BC135-DE1F-4449-B720-A8174EE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5EA07-44B8-45AD-9762-99192B7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AB4D2-B1A5-4D0A-A965-3D977C0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A9A21-CE3B-4BE8-BA53-EA46EC84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E0362-AC08-4930-A818-41068F8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D2547-0A9C-4FDB-89AF-4012D88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497EB-D37C-4ABE-8F48-0EAB315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8C8B0-A4F1-4629-95F0-1930CF0D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9CA-A2B2-4DEA-89E9-FC45E7D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0A2CE-D655-416C-ADAA-ECCC2E95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33470-271F-4338-85ED-168D7EF9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0F153-255B-4906-A884-FECD2990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01B88-B89D-4AE8-A769-F31143DB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80AB3-80B7-4E23-9A47-3500AC5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0574A-6193-4453-B3A7-3D639FA0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5C8AE-EDAA-40D8-A020-E4C3841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07646-58A3-4DE2-817A-D396F6D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7DD07-7BAD-43F1-B4AC-9ADF6FA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7E7D7-E265-4C1A-9584-0C21735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BD6-D121-4F65-BD44-40709BE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A7CF1-6B96-494F-A205-1389A75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4B86E-165F-49EE-B0C2-D3C2DA66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CADA0-3046-4CAE-912E-31C65756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D3091-5603-47D3-AFB9-89A256B5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F03FD-0A5B-44AD-B769-24EE80E0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603F0-FC3F-42EA-8551-CAD28DC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9A110-7274-4AD9-9CA6-7568D24C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D2B63-6B6F-4161-87CA-66A1E81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385BB-711B-4667-A260-82033E7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2AE6E-5461-4A01-AABD-3F2B6D0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614-ADF2-4F99-B82B-1429914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4B8AB-845C-4A0D-80AE-049DA4E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1C459-FCA1-45E5-900E-FE0E5D53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151D0-CB9E-45FD-BDFA-DDB31C9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C2B75-6B8C-4365-BAF9-CAD302C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71172-6C1D-4697-9D77-D51277F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ABA-1385-43F1-9EBF-82EBEB0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44C-B609-400F-AB0D-EAD03C0E79F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5DD-FAC5-440F-BC53-42F83FC7322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834-6BAD-4594-8B0C-6E9D29F0798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F843-1377-4E60-90F7-F6CF4459B38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7DF-3636-4643-B37F-0C812E45F0A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04A-D429-4928-BD66-885BF8C794E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2BA-0A59-415F-867A-BC5CE119EC4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hyperlink" Target="http://cs.wikipedia.org/wiki/Soubor:Kralicky_Sneznik_CZ_I4C-4.png" TargetMode="External"/><Relationship Id="rId9" Type="http://schemas.openxmlformats.org/officeDocument/2006/relationships/hyperlink" Target="http://cs.wikipedia.org/wiki/Soubor:Hruby_Jesenik_CZ_I4C-7.png" TargetMode="External"/><Relationship Id="rId10" Type="http://schemas.openxmlformats.org/officeDocument/2006/relationships/hyperlink" Target="http://cs.wikipedia.org/wiki/Soubor:Nizky_Jesenik_CZ_I4C-8.png" TargetMode="External"/><Relationship Id="rId11" Type="http://schemas.openxmlformats.org/officeDocument/2006/relationships/hyperlink" Target="http://cs.wikipedia.org/wiki/Soubor:Ceskomoravska_vrchovina_CZ_I2C.png" TargetMode="External"/><Relationship Id="rId12" Type="http://schemas.openxmlformats.org/officeDocument/2006/relationships/hyperlink" Target="http://cs.wikipedia.org/wiki/Soubor:Labe-pr&#367;tok.png" TargetMode="External"/><Relationship Id="rId13" Type="http://schemas.openxmlformats.org/officeDocument/2006/relationships/hyperlink" Target="http://cs.wikipedia.org/wiki/Soubor:Kost-letecky-pohled.jpg" TargetMode="External"/><Relationship Id="rId14" Type="http://schemas.openxmlformats.org/officeDocument/2006/relationships/hyperlink" Target="http://cs.wikipedia.org/wiki/Soubor:N&#225;chod_from_air_2.jpg" TargetMode="External"/><Relationship Id="rId15" Type="http://schemas.openxmlformats.org/officeDocument/2006/relationships/hyperlink" Target="http://cs.wikipedia.org/wiki/Soubor:The_Buchlov_Castle.jpg" TargetMode="External"/><Relationship Id="rId16" Type="http://schemas.openxmlformats.org/officeDocument/2006/relationships/hyperlink" Target="http://cs.wikipedia.org/wiki/Soubor:Castle_Lany_CZ_197x.jpg" TargetMode="External"/><Relationship Id="rId17" Type="http://schemas.openxmlformats.org/officeDocument/2006/relationships/hyperlink" Target="http://cs.wikipedia.org/wiki/Soubor:View_of_the_Rab&#237;_Castle_(2).JPG" TargetMode="External"/><Relationship Id="rId18" Type="http://schemas.openxmlformats.org/officeDocument/2006/relationships/hyperlink" Target="http://cs.wikipedia.org/wiki/Soubor:Lednice,_z&#225;mek_(05).jpg" TargetMode="External"/><Relationship Id="rId19" Type="http://schemas.openxmlformats.org/officeDocument/2006/relationships/hyperlink" Target="http://cs.wikipedia.org/wiki/Soubor:Orl&#237;k_7.jpg" TargetMode="External"/><Relationship Id="rId20" Type="http://schemas.openxmlformats.org/officeDocument/2006/relationships/hyperlink" Target="http://cs.wikipedia.org/wiki/Soubor:Humpolec,Orlik.jpeg" TargetMode="External"/><Relationship Id="rId21" Type="http://schemas.openxmlformats.org/officeDocument/2006/relationships/hyperlink" Target="http://cs.wikipedia.org/wiki/Soubor:Opo&#269;no_-_z&#225;meck&#233;_n&#225;dvo&#345;&#237;.jpg" TargetMode="External"/><Relationship Id="rId22" Type="http://schemas.openxmlformats.org/officeDocument/2006/relationships/hyperlink" Target="http://cs.wikipedia.org/wiki/Soubor:Hrad_Trosky,_leteck&#253;_sn&#237;mek.jpg" TargetMode="External"/><Relationship Id="rId23" Type="http://schemas.openxmlformats.org/officeDocument/2006/relationships/hyperlink" Target="http://cs.wikipedia.org/wiki/Soubor:Hrad_Oko&#345;_2.JPG" TargetMode="External"/><Relationship Id="rId24" Type="http://schemas.openxmlformats.org/officeDocument/2006/relationships/hyperlink" Target="http://cs.wikipedia.org/wiki/Soubor:Hrad_B&#237;tov_nad_Vranovskou_p&#345;ehradou.jpg" TargetMode="External"/><Relationship Id="rId25" Type="http://schemas.openxmlformats.org/officeDocument/2006/relationships/hyperlink" Target="http://cs.wikipedia.org/wiki/Soubor:Zv&#237;kov_4.jpg" TargetMode="External"/><Relationship Id="rId26" Type="http://schemas.openxmlformats.org/officeDocument/2006/relationships/hyperlink" Target="http://cs.wikipedia.org/wiki/Soubor:071107-Loket-Castle-Hrad.jpg" TargetMode="External"/><Relationship Id="rId27" Type="http://schemas.openxmlformats.org/officeDocument/2006/relationships/hyperlink" Target="http://cs.wikipedia.org/wiki/Soubor:Sk&#225;la_Sokolka_nad_Kom&#225;rovsk&#253;m_rybn&#237;kem.jpg" TargetMode="External"/><Relationship Id="rId28" Type="http://schemas.openxmlformats.org/officeDocument/2006/relationships/hyperlink" Target="http://en.wikipedia.org/wiki/File:Ceskyraj_hrubaskala.JPG" TargetMode="External"/><Relationship Id="rId29" Type="http://schemas.openxmlformats.org/officeDocument/2006/relationships/hyperlink" Target="http://cs.wikipedia.org/wiki/Soubor:Cesky_Raj.JPG" TargetMode="External"/><Relationship Id="rId30" Type="http://schemas.openxmlformats.org/officeDocument/2006/relationships/hyperlink" Target="http://cs.wikipedia.org/wiki/Soubor:Mapaohre.jpg" TargetMode="External"/><Relationship Id="rId31" Type="http://schemas.openxmlformats.org/officeDocument/2006/relationships/hyperlink" Target="http://cs.wikipedia.org/wiki/Soubor:Meanders_of_Tepla_Vltava.jpg" TargetMode="External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0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16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9"/>
          <p:cNvSpPr/>
          <p:nvPr/>
        </p:nvSpPr>
        <p:spPr>
          <a:xfrm>
            <a:off x="108000" y="1268280"/>
            <a:ext cx="18716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sou vrch se zříceninou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radu v Českém ráji. Trosky jsou symbolem Českého ráje a jedním z nejnavštěvovanějších hradů v České republ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10"/>
          <p:cNvSpPr/>
          <p:nvPr/>
        </p:nvSpPr>
        <p:spPr>
          <a:xfrm>
            <a:off x="6732720" y="1268280"/>
            <a:ext cx="194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o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 severozápadní části okresu Praha-zá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aj Středoče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roku 73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11"/>
          <p:cNvSpPr/>
          <p:nvPr/>
        </p:nvSpPr>
        <p:spPr>
          <a:xfrm>
            <a:off x="179280" y="2924280"/>
            <a:ext cx="187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ít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 v okrese Znojmo. H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 založen v 11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12"/>
          <p:cNvSpPr/>
          <p:nvPr/>
        </p:nvSpPr>
        <p:spPr>
          <a:xfrm>
            <a:off x="6732720" y="2997360"/>
            <a:ext cx="208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ví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na ostrohu nad soutokem řeky Otav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 Vltavy v Jihočes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ungoval již od 12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500720" y="292428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12" descr="800px-Opočno_-_zámecké_nádvoří.jpg"/>
          <p:cNvPicPr/>
          <p:nvPr/>
        </p:nvPicPr>
        <p:blipFill>
          <a:blip r:embed="rId4"/>
          <a:stretch/>
        </p:blipFill>
        <p:spPr>
          <a:xfrm>
            <a:off x="3276720" y="4365720"/>
            <a:ext cx="1942920" cy="1641240"/>
          </a:xfrm>
          <a:prstGeom prst="rect">
            <a:avLst/>
          </a:prstGeom>
          <a:ln w="0">
            <a:noFill/>
          </a:ln>
        </p:spPr>
      </p:pic>
      <p:sp>
        <p:nvSpPr>
          <p:cNvPr id="426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český hrad, který se tyčí nad řekou Ohří v chráněné krajinné oblasti Slavkovský les. Goticko-románský hrad Loket byl založen v první polovině 13. století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1979640" y="2924280"/>
            <a:ext cx="2232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ČESKÝ RÁ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4859280" y="364500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43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187280" y="3933720"/>
            <a:ext cx="2808360" cy="1870200"/>
          </a:xfrm>
          <a:prstGeom prst="rect">
            <a:avLst/>
          </a:prstGeom>
          <a:ln w="0">
            <a:noFill/>
          </a:ln>
        </p:spPr>
      </p:pic>
      <p:sp>
        <p:nvSpPr>
          <p:cNvPr id="433" name="TextovéPole 10"/>
          <p:cNvSpPr/>
          <p:nvPr/>
        </p:nvSpPr>
        <p:spPr>
          <a:xfrm>
            <a:off x="179280" y="1268280"/>
            <a:ext cx="468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Území ve středním Pojizeří, které vyniká vysokou koncentrací přírodních i historických pamá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 leží zhruba 90 km severovýchodně od Pra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Hlavními dominantami kraje je hora Kozákov 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řícenina hradu Trosky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 je také název pro chráněnou krajinnou oblast, existující od roku 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 nejstarší chráněnou krajinnou oblastí v Čes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Obrázek 8" descr="450px-Cesky_Raj.JPG"/>
          <p:cNvPicPr/>
          <p:nvPr/>
        </p:nvPicPr>
        <p:blipFill>
          <a:blip r:embed="rId3"/>
          <a:stretch/>
        </p:blipFill>
        <p:spPr>
          <a:xfrm>
            <a:off x="5435640" y="476280"/>
            <a:ext cx="205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LÁZEŇ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rázek 8" descr="600px-EthnAfrica.jpg"/>
          <p:cNvPicPr/>
          <p:nvPr/>
        </p:nvPicPr>
        <p:blipFill>
          <a:blip r:embed="rId1"/>
          <a:stretch/>
        </p:blipFill>
        <p:spPr>
          <a:xfrm>
            <a:off x="324000" y="1271520"/>
            <a:ext cx="7632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HŘ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Obrázek 6" descr="Asie.jpg"/>
          <p:cNvPicPr/>
          <p:nvPr/>
        </p:nvPicPr>
        <p:blipFill>
          <a:blip r:embed="rId1"/>
          <a:stretch/>
        </p:blipFill>
        <p:spPr>
          <a:xfrm>
            <a:off x="611280" y="1773360"/>
            <a:ext cx="626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72000" y="40464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444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187280" y="1484280"/>
            <a:ext cx="3403800" cy="1513080"/>
          </a:xfrm>
          <a:prstGeom prst="rect">
            <a:avLst/>
          </a:prstGeom>
          <a:ln w="0">
            <a:noFill/>
          </a:ln>
        </p:spPr>
      </p:pic>
      <p:sp>
        <p:nvSpPr>
          <p:cNvPr id="44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…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ovéPole 9"/>
          <p:cNvSpPr/>
          <p:nvPr/>
        </p:nvSpPr>
        <p:spPr>
          <a:xfrm>
            <a:off x="179280" y="1484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delší ře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10"/>
          <p:cNvSpPr/>
          <p:nvPr/>
        </p:nvSpPr>
        <p:spPr>
          <a:xfrm>
            <a:off x="6659640" y="1700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rné jeze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je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,4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ovéPole 11"/>
          <p:cNvSpPr/>
          <p:nvPr/>
        </p:nvSpPr>
        <p:spPr>
          <a:xfrm>
            <a:off x="4932360" y="4581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žmb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rybní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89 hekta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ovéPole 12"/>
          <p:cNvSpPr/>
          <p:nvPr/>
        </p:nvSpPr>
        <p:spPr>
          <a:xfrm>
            <a:off x="179280" y="386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p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přeh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 870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3419640" y="2997360"/>
            <a:ext cx="4321080" cy="1439640"/>
          </a:xfrm>
          <a:prstGeom prst="rect">
            <a:avLst/>
          </a:prstGeom>
          <a:ln w="0">
            <a:noFill/>
          </a:ln>
        </p:spPr>
      </p:pic>
      <p:pic>
        <p:nvPicPr>
          <p:cNvPr id="453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1476360" y="299736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539640" y="6237360"/>
            <a:ext cx="770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ovéPole 6"/>
          <p:cNvSpPr/>
          <p:nvPr/>
        </p:nvSpPr>
        <p:spPr>
          <a:xfrm>
            <a:off x="468360" y="692280"/>
            <a:ext cx="820728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šechny uveřejněné odkazy [cit. 2013-02-25] dostupné pod licencí Public domain – na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aje ČR –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álický Sněž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Kralicky_Sneznik_CZ_I4C-4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Hrub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Hruby_Jesenik_CZ_I4C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Nízk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Nizky_Jesenik_CZ_I4C-8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omoravská vrchovin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Ceskomoravska_vrchovina_CZ_I2C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Labe ( Mapa toku 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abe-pr%C5%AFtok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Kos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3"/>
              </a:rPr>
              <a:t>http://cs.wikipedia.org/wiki/Soubor:Kost-letecky-pohle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Náchod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4"/>
              </a:rPr>
              <a:t>http://cs.wikipedia.org/wiki/Soubor:N%C3%A1chod_from_air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uchl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5"/>
              </a:rPr>
              <a:t>http://cs.wikipedia.org/wiki/Soubor:The_Buchlov_Castl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n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6"/>
              </a:rPr>
              <a:t>http://cs.wikipedia.org/wiki/Soubor:Castle_Lany_CZ_197x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abí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7"/>
              </a:rPr>
              <a:t>http://cs.wikipedia.org/wiki/Soubor:View_of_the_Rab%C3%AD_Castle_(2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ednic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8"/>
              </a:rPr>
              <a:t>http://cs.wikipedia.org/wiki/Soubor:Lednice,_z%C3%A1mek_(05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zámek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9"/>
              </a:rPr>
              <a:t>http://cs.wikipedia.org/wiki/Soubor:Orl%C3%ADk_7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hrad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0"/>
              </a:rPr>
              <a:t>http://cs.wikipedia.org/wiki/Soubor:Humpolec,Orlik.jp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počno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1"/>
              </a:rPr>
              <a:t>http://cs.wikipedia.org/wiki/Soubor:Opo%C4%8Dno_-_z%C3%A1meck%C3%A9_n%C3%A1dvo%C5%99%C3%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rosk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2"/>
              </a:rPr>
              <a:t>http://cs.wikipedia.org/wiki/Soubor:Hrad_Trosky,_leteck%C3%BD_sn%C3%ADmek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koř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3"/>
              </a:rPr>
              <a:t>http://cs.wikipedia.org/wiki/Soubor:Hrad_Oko%C5%99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ít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4"/>
              </a:rPr>
              <a:t>http://cs.wikipedia.org/wiki/Soubor:Hrad_B%C3%ADtov_nad_Vranovskou_p%C5%99ehrado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Zvík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5"/>
              </a:rPr>
              <a:t>http://cs.wikipedia.org/wiki/Soubor:Zv%C3%ADkov_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oke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6"/>
              </a:rPr>
              <a:t>http://cs.wikipedia.org/wiki/Soubor:071107-Loket-Castle-Hr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7"/>
              </a:rPr>
              <a:t>http://cs.wikipedia.org/wiki/Soubor:Sk%C3%A1la_Sokolka_nad_Kom%C3%A1rovsk%C3%BDm_rybn%C3%ADkem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2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8"/>
              </a:rPr>
              <a:t>http://en.wikipedia.org/wiki/File:Ceskyraj_hrubaskal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3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9"/>
              </a:rPr>
              <a:t>http://cs.wikipedia.org/wiki/Soubor:Cesky_Raj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zeňská města (mapa)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hře (mapa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0"/>
              </a:rPr>
              <a:t>http://cs.wikipedia.org/wiki/Soubor:Mapaohr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t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1"/>
              </a:rPr>
              <a:t>http://cs.wikipedia.org/wiki/Soubor:Meanders_of_Tepla_Vltav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rné jezero - http://cs.wikipedia.org/wiki/Soubor:%C4%8Cern%C3%A9_jezero_zab%C3%ADran%C3%A9_z_karov%C3%A9_st%C4%9Bn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ožmberk - http://cs.wikipedia.org/wiki/Soubor:Rybn%C3%ADk_Ro%C5%BEmberk_zabran%C3%BD_z_oblasti_reten%C4%8Dn%C3%ADho_prostor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ipno - http://cs.wikipedia.org/wiki/Soubor:Lipno_nad_Vltavou,_p%C5%99ehradn%C3%AD_hr%C3%A1z,_p%C5%99ehrad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zápatí 3"/>
          <p:cNvSpPr/>
          <p:nvPr/>
        </p:nvSpPr>
        <p:spPr>
          <a:xfrm>
            <a:off x="684360" y="613872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élník 7"/>
          <p:cNvSpPr/>
          <p:nvPr/>
        </p:nvSpPr>
        <p:spPr>
          <a:xfrm>
            <a:off x="539640" y="6165720"/>
            <a:ext cx="79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25. 2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8592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e České republ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poznávají přírodní zvláštnosti krajů ČR. Získávají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kraje České republiky a charakterizovat hospodářské poměry, přírodní zvláštnosti a kulturní zajíma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324000" y="1557360"/>
            <a:ext cx="6264000" cy="363996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4572000" y="105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em 14 kr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četně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um kraje je krajské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rajském městě je krajsk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Smrk 112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4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2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Obrázek 6" descr="Asie.jpg"/>
          <p:cNvPicPr/>
          <p:nvPr/>
        </p:nvPicPr>
        <p:blipFill>
          <a:blip r:embed="rId1"/>
          <a:stretch/>
        </p:blipFill>
        <p:spPr>
          <a:xfrm>
            <a:off x="250920" y="189000"/>
            <a:ext cx="6624720" cy="5922720"/>
          </a:xfrm>
          <a:prstGeom prst="rect">
            <a:avLst/>
          </a:prstGeom>
          <a:ln w="0">
            <a:noFill/>
          </a:ln>
        </p:spPr>
      </p:pic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LABE (MAPA TOK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484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484280"/>
            <a:ext cx="2432160" cy="1631880"/>
          </a:xfrm>
          <a:prstGeom prst="rect">
            <a:avLst/>
          </a:prstGeom>
          <a:ln w="0">
            <a:noFill/>
          </a:ln>
        </p:spPr>
      </p:pic>
      <p:sp>
        <p:nvSpPr>
          <p:cNvPr id="39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9"/>
          <p:cNvSpPr/>
          <p:nvPr/>
        </p:nvSpPr>
        <p:spPr>
          <a:xfrm>
            <a:off x="179280" y="1484280"/>
            <a:ext cx="1871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ch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okresní město v Královéhradec-kém kraji na severovýchodě Čech. Bylo založeno v polovině 13. století rytířem Hronem z rodu Načeradic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10"/>
          <p:cNvSpPr/>
          <p:nvPr/>
        </p:nvSpPr>
        <p:spPr>
          <a:xfrm>
            <a:off x="6804000" y="1557360"/>
            <a:ext cx="1871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gotický hrad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cházející se v Českém ráji. Postavil jej někdy před rokem 1349 Beneš z Vartemberka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11"/>
          <p:cNvSpPr/>
          <p:nvPr/>
        </p:nvSpPr>
        <p:spPr>
          <a:xfrm>
            <a:off x="179280" y="3789360"/>
            <a:ext cx="187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uch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královský hrad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ba stavby tohoto hradu se odhaduje na 1. polovinu 13. století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ovéPole 12"/>
          <p:cNvSpPr/>
          <p:nvPr/>
        </p:nvSpPr>
        <p:spPr>
          <a:xfrm>
            <a:off x="6732720" y="3716280"/>
            <a:ext cx="2232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barokní stavba, jež se nachází na jižním okraji obce Lány v okrese Klad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estavěn na letohrádek v 17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356000" y="3357720"/>
            <a:ext cx="2303640" cy="1749240"/>
          </a:xfrm>
          <a:prstGeom prst="rect">
            <a:avLst/>
          </a:prstGeom>
          <a:ln w="0">
            <a:noFill/>
          </a:ln>
        </p:spPr>
      </p:pic>
      <p:pic>
        <p:nvPicPr>
          <p:cNvPr id="401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79640" y="3357720"/>
            <a:ext cx="2303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ovéPole 9"/>
          <p:cNvSpPr/>
          <p:nvPr/>
        </p:nvSpPr>
        <p:spPr>
          <a:xfrm>
            <a:off x="250920" y="1341360"/>
            <a:ext cx="18716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 hradu ležící ve stejnojmenné vesnici na vyvýšeném ostrohu nad řekou O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ovéPole 10"/>
          <p:cNvSpPr/>
          <p:nvPr/>
        </p:nvSpPr>
        <p:spPr>
          <a:xfrm>
            <a:off x="6732720" y="141300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e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 obci Lednice na pravém břehu Dyje. Vystavěn v 16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11"/>
          <p:cNvSpPr/>
          <p:nvPr/>
        </p:nvSpPr>
        <p:spPr>
          <a:xfrm>
            <a:off x="179280" y="292428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 u Humpo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 2 km severovýchodně od města Humpolec. Postaven 14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2"/>
          <p:cNvSpPr/>
          <p:nvPr/>
        </p:nvSpPr>
        <p:spPr>
          <a:xfrm>
            <a:off x="6732720" y="3068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jihočeský zámek umístěný na skalnatém ostrohu nad Vl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716360" y="2997360"/>
            <a:ext cx="1943280" cy="174924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08000" y="2924280"/>
            <a:ext cx="2376720" cy="1476360"/>
          </a:xfrm>
          <a:prstGeom prst="rect">
            <a:avLst/>
          </a:prstGeom>
          <a:ln w="0">
            <a:noFill/>
          </a:ln>
        </p:spPr>
      </p:pic>
      <p:pic>
        <p:nvPicPr>
          <p:cNvPr id="413" name="Obrázek 12" descr="800px-Opočno_-_zámecké_nádvoří.jpg"/>
          <p:cNvPicPr/>
          <p:nvPr/>
        </p:nvPicPr>
        <p:blipFill>
          <a:blip r:embed="rId5"/>
          <a:stretch/>
        </p:blipFill>
        <p:spPr>
          <a:xfrm>
            <a:off x="2843280" y="4508640"/>
            <a:ext cx="2089080" cy="1392120"/>
          </a:xfrm>
          <a:prstGeom prst="rect">
            <a:avLst/>
          </a:prstGeom>
          <a:ln w="0">
            <a:noFill/>
          </a:ln>
        </p:spPr>
      </p:pic>
      <p:sp>
        <p:nvSpPr>
          <p:cNvPr id="414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oč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město v Královéhradec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mi doloženými majiteli Opočna byli páni z Dobrušky, kteří místo získali kolem roku 1350 a vybudovali opevněný gotický hr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0:01Z</dcterms:modified>
  <cp:revision>151</cp:revision>
  <dc:subject/>
  <dc:title>č. 21 – Česká republika a Evropa - opakování</dc:title>
</cp:coreProperties>
</file>