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CF6-F4F9-4CAB-AEC2-F06EC67A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A0F-CD9A-4BF0-A833-B31F548E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DB3-E034-4F28-8CC1-4B9D197E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D61-9EB8-48F6-A081-ADEDA55C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737B-97F3-4B49-9BE0-851456E9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07C6-A747-477E-8982-6B4D3369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5748-8DE1-423F-A699-C04410F0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95F1-A794-472A-818B-2DBE6BC6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4111-F4A8-45D4-9200-F33D8EC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F949-38CA-4D90-B7CE-EC0C2F01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9996-A28A-4EE4-A900-319A7FE5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250-ED65-418C-A53B-FDDE3CC1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407-1830-4C19-9B10-6D27E63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D5A5-1A82-4981-8032-F2487767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1F24-F54A-4B59-9443-180CEA10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14E9-7D73-4399-AAF6-2702ED94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364A-7DB8-486B-92F5-F87E964E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FA896-F568-4724-A817-652D94D2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B2CEC-6A52-4293-BB43-861EBD6B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CE27E-7033-4B34-9BAB-6A4DE79B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8F19F-1FE4-4BCE-8E3C-3C24ECBB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99CF6-4AAF-45E8-9B92-7FD61FCF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DC4-A726-4803-A722-A716CCAC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1A1D0-DD2D-4F88-8AA8-A2B8E180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F89AA-05B4-4D01-BB6D-C92D6D8C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7F25E-10F8-4454-8666-AE4F9612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9D98C-7A22-4CAE-99F1-0B888A82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0034A-6A38-42EB-B53B-45717C53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7E063-92BD-47BB-A466-6F1AB83D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BA6C3-3FFF-4555-B562-AC6F2DA9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3108-FDE6-4F35-B230-55CB611A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2F93-E569-44BF-B329-AE237D04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4171-79E7-4360-8615-437CD2B0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E15-274F-43D6-B4DE-2F66E587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75CC-FD42-492D-BEB8-1182B436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E4C9-C01F-4464-9AF7-F8FCD69A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D360-838C-46E9-9DDF-381A54BC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B2CF-F5CA-44C9-890E-FC895B34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7C52-FC27-4C05-9829-0FEADD95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69B4-34C2-48CA-9721-DC6E0F07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90F6-0596-40E3-9AC8-DF31CE1C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25962-B613-4FF5-8283-E788ACFA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2B8F-3D4C-4803-A388-A451B528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D2250-549D-4A0B-BCCE-C9CE09D8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354-D950-4821-8043-DAC7749E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D1926-66FD-43D8-B993-5F8F4402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35165-97B1-43A6-8276-2C3FB89F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8C43A-59DA-4FE7-B2FC-F0B26F61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05AED-AD3C-43C4-AB08-D058F807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72AE1-8FFD-47C7-8023-80006927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E8531-685D-4E6C-9547-7E03CA04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510B4-2A22-439C-900D-CD7D2A5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966FE-38A7-4C25-B98D-F2C1B96F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F14DF-55CB-4C23-BFF8-7C9A0B03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60CD6-E203-45CA-B9F6-98916608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53E-57BC-4D2E-95BC-656F5AC6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0BC73-0F17-4BFC-86CF-2CE57632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EC9DA-4AA6-42B2-BFBF-B8EE3625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A1615-56E7-4DB4-98B9-5582A98B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BAA61-5E98-4CC3-9994-EC3C32DB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55FB6-123C-4D45-ABB3-5F10BE82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AE910-08DF-45FA-A4C8-DA72A27B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52B68-5877-440A-A105-BEEF1E7E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D855B-6EBB-4828-89CE-C12408B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FC8B9-8AB3-4102-85ED-082701E5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4856C-65B7-4F06-AD06-C9AB8A0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8F2-020D-460A-8228-41295CF7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6D2AD-F97C-4B1B-831B-595440B3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21C8D-EC1C-415A-AD78-A19078DF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32095-CD01-4A8E-A614-CE4A7490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E743B-2AD6-4F15-968F-C2D2A7B6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A669A-1CF6-44F3-864E-C7B5112F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0F8C1-49D3-4AFC-9827-0757FD7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F5BAE-1F6A-4894-BFD6-A40D7B6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DE445-0EEC-49CD-86D9-A71F0F59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B8EB3-1DFA-40C4-AB67-20E49375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A19E0-805D-4561-9661-FE689977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9AA-38DA-420F-AF86-06D78461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09A6E-B748-463D-8AA8-C2907903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89365-1CE3-44D7-8AC7-C6CB375A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EFB28-E52D-45D8-B610-20DB1C88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2618E-F558-4773-9C74-F1BC9CE8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8E7B0-DB73-4144-86EC-F9FA611F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FF1-8B5B-4272-9EAF-7A6CEA77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FC1-C5B1-422B-8557-32E36A908C5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5A8C-A68C-4DEA-B956-9C3DCAF0851C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7205-B9FA-49BC-AD2F-4293BD636A7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C36E-19A4-4B38-AA83-3EA5CB6B20F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3EE9-5D45-4A2A-9FF3-310D201AFC9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4C7F-F410-406C-BCDC-05E58D2321AC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4157-DC1F-4B0D-B128-A628E1DC8CCC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ikipedia.cz/" TargetMode="External"/><Relationship Id="rId2" Type="http://schemas.openxmlformats.org/officeDocument/2006/relationships/hyperlink" Target="http://cs.wikipedia.org/wiki/Soubor:Sumava_CZ_I1B-1.png" TargetMode="External"/><Relationship Id="rId3" Type="http://schemas.openxmlformats.org/officeDocument/2006/relationships/hyperlink" Target="http://cs.wikipedia.org/wiki/Soubor:Cesky_les_CZ_I1A-1.png" TargetMode="External"/><Relationship Id="rId4" Type="http://schemas.openxmlformats.org/officeDocument/2006/relationships/hyperlink" Target="http://cs.wikipedia.org/wiki/Soubor:Krusne_hory_CZ_I3A-2.png" TargetMode="External"/><Relationship Id="rId5" Type="http://schemas.openxmlformats.org/officeDocument/2006/relationships/hyperlink" Target="http://cs.wikipedia.org/wiki/Soubor:Jizerske_hory_CZ_I4A-6.png" TargetMode="External"/><Relationship Id="rId6" Type="http://schemas.openxmlformats.org/officeDocument/2006/relationships/hyperlink" Target="http://cs.wikipedia.org/wiki/Soubor:Krkonose_CZ_I4A-7.png" TargetMode="External"/><Relationship Id="rId7" Type="http://schemas.openxmlformats.org/officeDocument/2006/relationships/hyperlink" Target="http://cs.wikipedia.org/wiki/Soubor:Orlicke_hory_CZ_I4B-2.png" TargetMode="External"/><Relationship Id="rId8" Type="http://schemas.openxmlformats.org/officeDocument/2006/relationships/hyperlink" Target="http://cs.wikipedia.org/wiki/Soubor:Kralicky_Sneznik_CZ_I4C-4.png" TargetMode="External"/><Relationship Id="rId9" Type="http://schemas.openxmlformats.org/officeDocument/2006/relationships/hyperlink" Target="http://cs.wikipedia.org/wiki/Soubor:Hruby_Jesenik_CZ_I4C-7.png" TargetMode="External"/><Relationship Id="rId10" Type="http://schemas.openxmlformats.org/officeDocument/2006/relationships/hyperlink" Target="http://cs.wikipedia.org/wiki/Soubor:Nizky_Jesenik_CZ_I4C-8.png" TargetMode="External"/><Relationship Id="rId11" Type="http://schemas.openxmlformats.org/officeDocument/2006/relationships/hyperlink" Target="http://cs.wikipedia.org/wiki/Soubor:Ceskomoravska_vrchovina_CZ_I2C.png" TargetMode="External"/><Relationship Id="rId12" Type="http://schemas.openxmlformats.org/officeDocument/2006/relationships/hyperlink" Target="http://cs.wikipedia.org/wiki/Soubor:Labe-pr&#367;tok.png" TargetMode="External"/><Relationship Id="rId13" Type="http://schemas.openxmlformats.org/officeDocument/2006/relationships/hyperlink" Target="http://cs.wikipedia.org/wiki/Soubor:Kost-letecky-pohled.jpg" TargetMode="External"/><Relationship Id="rId14" Type="http://schemas.openxmlformats.org/officeDocument/2006/relationships/hyperlink" Target="http://cs.wikipedia.org/wiki/Soubor:N&#225;chod_from_air_2.jpg" TargetMode="External"/><Relationship Id="rId15" Type="http://schemas.openxmlformats.org/officeDocument/2006/relationships/hyperlink" Target="http://cs.wikipedia.org/wiki/Soubor:The_Buchlov_Castle.jpg" TargetMode="External"/><Relationship Id="rId16" Type="http://schemas.openxmlformats.org/officeDocument/2006/relationships/hyperlink" Target="http://cs.wikipedia.org/wiki/Soubor:Castle_Lany_CZ_197x.jpg" TargetMode="External"/><Relationship Id="rId17" Type="http://schemas.openxmlformats.org/officeDocument/2006/relationships/hyperlink" Target="http://cs.wikipedia.org/wiki/Soubor:View_of_the_Rab&#237;_Castle_(2).JPG" TargetMode="External"/><Relationship Id="rId18" Type="http://schemas.openxmlformats.org/officeDocument/2006/relationships/hyperlink" Target="http://cs.wikipedia.org/wiki/Soubor:Lednice,_z&#225;mek_(05).jpg" TargetMode="External"/><Relationship Id="rId19" Type="http://schemas.openxmlformats.org/officeDocument/2006/relationships/hyperlink" Target="http://cs.wikipedia.org/wiki/Soubor:Orl&#237;k_7.jpg" TargetMode="External"/><Relationship Id="rId20" Type="http://schemas.openxmlformats.org/officeDocument/2006/relationships/hyperlink" Target="http://cs.wikipedia.org/wiki/Soubor:Humpolec,Orlik.jpeg" TargetMode="External"/><Relationship Id="rId21" Type="http://schemas.openxmlformats.org/officeDocument/2006/relationships/hyperlink" Target="http://cs.wikipedia.org/wiki/Soubor:Opo&#269;no_-_z&#225;meck&#233;_n&#225;dvo&#345;&#237;.jpg" TargetMode="External"/><Relationship Id="rId22" Type="http://schemas.openxmlformats.org/officeDocument/2006/relationships/hyperlink" Target="http://cs.wikipedia.org/wiki/Soubor:Hrad_Trosky,_leteck&#253;_sn&#237;mek.jpg" TargetMode="External"/><Relationship Id="rId23" Type="http://schemas.openxmlformats.org/officeDocument/2006/relationships/hyperlink" Target="http://cs.wikipedia.org/wiki/Soubor:Hrad_Oko&#345;_2.JPG" TargetMode="External"/><Relationship Id="rId24" Type="http://schemas.openxmlformats.org/officeDocument/2006/relationships/hyperlink" Target="http://cs.wikipedia.org/wiki/Soubor:Hrad_B&#237;tov_nad_Vranovskou_p&#345;ehradou.jpg" TargetMode="External"/><Relationship Id="rId25" Type="http://schemas.openxmlformats.org/officeDocument/2006/relationships/hyperlink" Target="http://cs.wikipedia.org/wiki/Soubor:Zv&#237;kov_4.jpg" TargetMode="External"/><Relationship Id="rId26" Type="http://schemas.openxmlformats.org/officeDocument/2006/relationships/hyperlink" Target="http://cs.wikipedia.org/wiki/Soubor:071107-Loket-Castle-Hrad.jpg" TargetMode="External"/><Relationship Id="rId27" Type="http://schemas.openxmlformats.org/officeDocument/2006/relationships/hyperlink" Target="http://cs.wikipedia.org/wiki/Soubor:Sk&#225;la_Sokolka_nad_Kom&#225;rovsk&#253;m_rybn&#237;kem.jpg" TargetMode="External"/><Relationship Id="rId28" Type="http://schemas.openxmlformats.org/officeDocument/2006/relationships/hyperlink" Target="http://en.wikipedia.org/wiki/File:Ceskyraj_hrubaskala.JPG" TargetMode="External"/><Relationship Id="rId29" Type="http://schemas.openxmlformats.org/officeDocument/2006/relationships/hyperlink" Target="http://cs.wikipedia.org/wiki/Soubor:Cesky_Raj.JPG" TargetMode="External"/><Relationship Id="rId30" Type="http://schemas.openxmlformats.org/officeDocument/2006/relationships/hyperlink" Target="http://cs.wikipedia.org/wiki/Soubor:Mapaohre.jpg" TargetMode="External"/><Relationship Id="rId31" Type="http://schemas.openxmlformats.org/officeDocument/2006/relationships/hyperlink" Target="http://cs.wikipedia.org/wiki/Soubor:Meanders_of_Tepla_Vltava.jpg" TargetMode="External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1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0 –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KRAJE Č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692280"/>
            <a:ext cx="5753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00720" y="126828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416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979640" y="1268280"/>
            <a:ext cx="2270160" cy="1513080"/>
          </a:xfrm>
          <a:prstGeom prst="rect">
            <a:avLst/>
          </a:prstGeom>
          <a:ln w="0">
            <a:noFill/>
          </a:ln>
        </p:spPr>
      </p:pic>
      <p:sp>
        <p:nvSpPr>
          <p:cNvPr id="41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RADY A ZÁMKY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ovéPole 9"/>
          <p:cNvSpPr/>
          <p:nvPr/>
        </p:nvSpPr>
        <p:spPr>
          <a:xfrm>
            <a:off x="108000" y="1268280"/>
            <a:ext cx="18716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sou vrch se zříceninou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radu v Českém ráji. Trosky jsou symbolem Českého ráje a jedním z nejnavštěvovanějších hradů v České republ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ovéPole 10"/>
          <p:cNvSpPr/>
          <p:nvPr/>
        </p:nvSpPr>
        <p:spPr>
          <a:xfrm>
            <a:off x="6732720" y="1268280"/>
            <a:ext cx="194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ko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 v severozápadní části okresu Praha-zá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raj Středočes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ložen roku 73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ovéPole 11"/>
          <p:cNvSpPr/>
          <p:nvPr/>
        </p:nvSpPr>
        <p:spPr>
          <a:xfrm>
            <a:off x="179280" y="2924280"/>
            <a:ext cx="1871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ít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 v okrese Znojmo. Hr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 založen v 11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12"/>
          <p:cNvSpPr/>
          <p:nvPr/>
        </p:nvSpPr>
        <p:spPr>
          <a:xfrm>
            <a:off x="6732720" y="2997360"/>
            <a:ext cx="2087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vík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 na ostrohu nad soutokem řeky Otav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 Vltavy v Jihočeském kra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ungoval již od 12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Obrázek 13" descr="Ganga_Dashara,_at_Haridwar.jpg"/>
          <p:cNvPicPr/>
          <p:nvPr/>
        </p:nvPicPr>
        <p:blipFill>
          <a:blip r:embed="rId3"/>
          <a:stretch/>
        </p:blipFill>
        <p:spPr>
          <a:xfrm>
            <a:off x="4500720" y="292428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425" name="Obrázek 12" descr="800px-Opočno_-_zámecké_nádvoří.jpg"/>
          <p:cNvPicPr/>
          <p:nvPr/>
        </p:nvPicPr>
        <p:blipFill>
          <a:blip r:embed="rId4"/>
          <a:stretch/>
        </p:blipFill>
        <p:spPr>
          <a:xfrm>
            <a:off x="3276720" y="4365720"/>
            <a:ext cx="1942920" cy="1641240"/>
          </a:xfrm>
          <a:prstGeom prst="rect">
            <a:avLst/>
          </a:prstGeom>
          <a:ln w="0">
            <a:noFill/>
          </a:ln>
        </p:spPr>
      </p:pic>
      <p:sp>
        <p:nvSpPr>
          <p:cNvPr id="426" name="TextovéPole 13"/>
          <p:cNvSpPr/>
          <p:nvPr/>
        </p:nvSpPr>
        <p:spPr>
          <a:xfrm>
            <a:off x="179280" y="4581360"/>
            <a:ext cx="2592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český hrad, který se tyčí nad řekou Ohří v chráněné krajinné oblasti Slavkovský les. Goticko-románský hrad Loket byl založen v první polovině 13. století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rázek 7" descr="800px-Cesky_les_CZ_I1A-1.png"/>
          <p:cNvPicPr/>
          <p:nvPr/>
        </p:nvPicPr>
        <p:blipFill>
          <a:blip r:embed="rId5"/>
          <a:stretch/>
        </p:blipFill>
        <p:spPr>
          <a:xfrm>
            <a:off x="1979640" y="2924280"/>
            <a:ext cx="2232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ČESKÝ RÁ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4859280" y="3645000"/>
            <a:ext cx="2597040" cy="1947600"/>
          </a:xfrm>
          <a:prstGeom prst="rect">
            <a:avLst/>
          </a:prstGeom>
          <a:ln w="0">
            <a:noFill/>
          </a:ln>
        </p:spPr>
      </p:pic>
      <p:pic>
        <p:nvPicPr>
          <p:cNvPr id="432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1187280" y="3933720"/>
            <a:ext cx="2808360" cy="1870200"/>
          </a:xfrm>
          <a:prstGeom prst="rect">
            <a:avLst/>
          </a:prstGeom>
          <a:ln w="0">
            <a:noFill/>
          </a:ln>
        </p:spPr>
      </p:pic>
      <p:sp>
        <p:nvSpPr>
          <p:cNvPr id="433" name="TextovéPole 10"/>
          <p:cNvSpPr/>
          <p:nvPr/>
        </p:nvSpPr>
        <p:spPr>
          <a:xfrm>
            <a:off x="179280" y="1268280"/>
            <a:ext cx="468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Území ve středním Pojizeří, které vyniká vysokou koncentrací přírodních i historických pamá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Český ráj leží zhruba 90 km severovýchodně od Pra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Hlavními dominantami kraje je hora Kozákov 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řícenina hradu Trosky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Český ráj je také název pro chráněnou krajinnou oblast, existující od roku 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 nejstarší chráněnou krajinnou oblastí v Čes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Obrázek 8" descr="450px-Cesky_Raj.JPG"/>
          <p:cNvPicPr/>
          <p:nvPr/>
        </p:nvPicPr>
        <p:blipFill>
          <a:blip r:embed="rId3"/>
          <a:stretch/>
        </p:blipFill>
        <p:spPr>
          <a:xfrm>
            <a:off x="5435640" y="476280"/>
            <a:ext cx="2052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LÁZEŇSKÁ MĚ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Obrázek 8" descr="600px-EthnAfrica.jpg"/>
          <p:cNvPicPr/>
          <p:nvPr/>
        </p:nvPicPr>
        <p:blipFill>
          <a:blip r:embed="rId1"/>
          <a:stretch/>
        </p:blipFill>
        <p:spPr>
          <a:xfrm>
            <a:off x="324000" y="1271520"/>
            <a:ext cx="7632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HŘ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Obrázek 6" descr="Asie.jpg"/>
          <p:cNvPicPr/>
          <p:nvPr/>
        </p:nvPicPr>
        <p:blipFill>
          <a:blip r:embed="rId1"/>
          <a:stretch/>
        </p:blipFill>
        <p:spPr>
          <a:xfrm>
            <a:off x="611280" y="1773360"/>
            <a:ext cx="626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72000" y="404640"/>
            <a:ext cx="2087640" cy="2784600"/>
          </a:xfrm>
          <a:prstGeom prst="rect">
            <a:avLst/>
          </a:prstGeom>
          <a:ln w="0">
            <a:noFill/>
          </a:ln>
        </p:spPr>
      </p:pic>
      <p:pic>
        <p:nvPicPr>
          <p:cNvPr id="444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187280" y="1484280"/>
            <a:ext cx="3403800" cy="1513080"/>
          </a:xfrm>
          <a:prstGeom prst="rect">
            <a:avLst/>
          </a:prstGeom>
          <a:ln w="0">
            <a:noFill/>
          </a:ln>
        </p:spPr>
      </p:pic>
      <p:sp>
        <p:nvSpPr>
          <p:cNvPr id="44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NEJ…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ovéPole 9"/>
          <p:cNvSpPr/>
          <p:nvPr/>
        </p:nvSpPr>
        <p:spPr>
          <a:xfrm>
            <a:off x="179280" y="148428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delší ře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3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ovéPole 10"/>
          <p:cNvSpPr/>
          <p:nvPr/>
        </p:nvSpPr>
        <p:spPr>
          <a:xfrm>
            <a:off x="6659640" y="170028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rné jeze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ětší je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8,4 hekta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ovéPole 11"/>
          <p:cNvSpPr/>
          <p:nvPr/>
        </p:nvSpPr>
        <p:spPr>
          <a:xfrm>
            <a:off x="4932360" y="4581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žmb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ětší rybní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89 hekta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ovéPole 12"/>
          <p:cNvSpPr/>
          <p:nvPr/>
        </p:nvSpPr>
        <p:spPr>
          <a:xfrm>
            <a:off x="179280" y="3860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p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ětší přeh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 870 hekta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Obrázek 7" descr="800px-Cesky_les_CZ_I1A-1.png"/>
          <p:cNvPicPr/>
          <p:nvPr/>
        </p:nvPicPr>
        <p:blipFill>
          <a:blip r:embed="rId3"/>
          <a:stretch/>
        </p:blipFill>
        <p:spPr>
          <a:xfrm>
            <a:off x="3419640" y="2997360"/>
            <a:ext cx="4321080" cy="1439640"/>
          </a:xfrm>
          <a:prstGeom prst="rect">
            <a:avLst/>
          </a:prstGeom>
          <a:ln w="0">
            <a:noFill/>
          </a:ln>
        </p:spPr>
      </p:pic>
      <p:pic>
        <p:nvPicPr>
          <p:cNvPr id="453" name="Obrázek 13" descr="Ganga_Dashara,_at_Haridwar.jpg"/>
          <p:cNvPicPr/>
          <p:nvPr/>
        </p:nvPicPr>
        <p:blipFill>
          <a:blip r:embed="rId4"/>
          <a:stretch/>
        </p:blipFill>
        <p:spPr>
          <a:xfrm>
            <a:off x="1476360" y="299736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Zástupný symbol pro zápatí 3"/>
          <p:cNvSpPr/>
          <p:nvPr/>
        </p:nvSpPr>
        <p:spPr>
          <a:xfrm>
            <a:off x="539640" y="6237360"/>
            <a:ext cx="770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ovéPole 6"/>
          <p:cNvSpPr/>
          <p:nvPr/>
        </p:nvSpPr>
        <p:spPr>
          <a:xfrm>
            <a:off x="468360" y="692280"/>
            <a:ext cx="8207280" cy="55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Všechny uveřejněné odkazy [cit. 2013-02-25] dostupné pod licencí Public domain – na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cz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aje ČR –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Šumava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cs.wikipedia.org/wiki/Soubor:Sumava_CZ_I1B-1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Český les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cs.wikipedia.org/wiki/Soubor:Cesky_les_CZ_I1A-1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ušné hor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Krusne_hory_CZ_I3A-2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Jizerské hor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Jizerske_hory_CZ_I4A-6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konoše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Krkonose_CZ_I4A-7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Orlické hor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Orlicke_hory_CZ_I4B-2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álický Sněžník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cs.wikipedia.org/wiki/Soubor:Kralicky_Sneznik_CZ_I4C-4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Hrubý Jeseník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Hruby_Jesenik_CZ_I4C-7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Nízký Jeseník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cs.wikipedia.org/wiki/Soubor:Nizky_Jesenik_CZ_I4C-8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Beskydy – 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Bílé Karpaty – 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Českomoravská vrchovina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http://cs.wikipedia.org/wiki/Soubor:Ceskomoravska_vrchovina_CZ_I2C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Labe ( Mapa toku 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cs.wikipedia.org/wiki/Soubor:Labe-pr%C5%AFtok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Kost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3"/>
              </a:rPr>
              <a:t>http://cs.wikipedia.org/wiki/Soubor:Kost-letecky-pohled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Náchod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4"/>
              </a:rPr>
              <a:t>http://cs.wikipedia.org/wiki/Soubor:N%C3%A1chod_from_air_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Buchlov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5"/>
              </a:rPr>
              <a:t>http://cs.wikipedia.org/wiki/Soubor:The_Buchlov_Castl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án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6"/>
              </a:rPr>
              <a:t>http://cs.wikipedia.org/wiki/Soubor:Castle_Lany_CZ_197x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Rabí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7"/>
              </a:rPr>
              <a:t>http://cs.wikipedia.org/wiki/Soubor:View_of_the_Rab%C3%AD_Castle_(2)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ednice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8"/>
              </a:rPr>
              <a:t>http://cs.wikipedia.org/wiki/Soubor:Lednice,_z%C3%A1mek_(05)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rlík (zámek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9"/>
              </a:rPr>
              <a:t>http://cs.wikipedia.org/wiki/Soubor:Orl%C3%ADk_7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rlík (hrad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0"/>
              </a:rPr>
              <a:t>http://cs.wikipedia.org/wiki/Soubor:Humpolec,Orlik.jp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počno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1"/>
              </a:rPr>
              <a:t>http://cs.wikipedia.org/wiki/Soubor:Opo%C4%8Dno_-_z%C3%A1meck%C3%A9_n%C3%A1dvo%C5%99%C3%AD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rosk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2"/>
              </a:rPr>
              <a:t>http://cs.wikipedia.org/wiki/Soubor:Hrad_Trosky,_leteck%C3%BD_sn%C3%ADmek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koř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3"/>
              </a:rPr>
              <a:t>http://cs.wikipedia.org/wiki/Soubor:Hrad_Oko%C5%99_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Bítov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4"/>
              </a:rPr>
              <a:t>http://cs.wikipedia.org/wiki/Soubor:Hrad_B%C3%ADtov_nad_Vranovskou_p%C5%99ehradou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Zvíkov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5"/>
              </a:rPr>
              <a:t>http://cs.wikipedia.org/wiki/Soubor:Zv%C3%ADkov_4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oket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6"/>
              </a:rPr>
              <a:t>http://cs.wikipedia.org/wiki/Soubor:071107-Loket-Castle-Hrad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ský ráj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7"/>
              </a:rPr>
              <a:t>http://cs.wikipedia.org/wiki/Soubor:Sk%C3%A1la_Sokolka_nad_Kom%C3%A1rovsk%C3%BDm_rybn%C3%ADkem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ský ráj (fotka 2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8"/>
              </a:rPr>
              <a:t>http://en.wikipedia.org/wiki/File:Ceskyraj_hrubaskal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ský ráj (fotka 3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9"/>
              </a:rPr>
              <a:t>http://cs.wikipedia.org/wiki/Soubor:Cesky_Raj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ázeňská města (mapa) – 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hře (mapa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30"/>
              </a:rPr>
              <a:t>http://cs.wikipedia.org/wiki/Soubor:Mapaohr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Vltava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31"/>
              </a:rPr>
              <a:t>http://cs.wikipedia.org/wiki/Soubor:Meanders_of_Tepla_Vltav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rné jezero - http://cs.wikipedia.org/wiki/Soubor:%C4%8Cern%C3%A9_jezero_zab%C3%ADran%C3%A9_z_karov%C3%A9_st%C4%9Bny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Rožmberk - http://cs.wikipedia.org/wiki/Soubor:Rybn%C3%ADk_Ro%C5%BEmberk_zabran%C3%BD_z_oblasti_reten%C4%8Dn%C3%ADho_prostoru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ipno - http://cs.wikipedia.org/wiki/Soubor:Lipno_nad_Vltavou,_p%C5%99ehradn%C3%AD_hr%C3%A1z,_p%C5%99ehrad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ástupný symbol pro zápatí 3"/>
          <p:cNvSpPr/>
          <p:nvPr/>
        </p:nvSpPr>
        <p:spPr>
          <a:xfrm>
            <a:off x="684360" y="6138720"/>
            <a:ext cx="75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délník 7"/>
          <p:cNvSpPr/>
          <p:nvPr/>
        </p:nvSpPr>
        <p:spPr>
          <a:xfrm>
            <a:off x="539640" y="6165720"/>
            <a:ext cx="79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Vytvořeno dne 25. 2. 20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85920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e České republi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ezentaci žáci poznávají přírodní zvláštnosti krajů ČR. Získávají znalosti na dané téma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vyhledat na mapách jednotlivé kraje České republiky a charakterizovat hospodářské poměry, přírodní zvláštnosti a kulturní zajíma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KRAJE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6" descr="Asie.jpg"/>
          <p:cNvPicPr/>
          <p:nvPr/>
        </p:nvPicPr>
        <p:blipFill>
          <a:blip r:embed="rId1"/>
          <a:stretch/>
        </p:blipFill>
        <p:spPr>
          <a:xfrm>
            <a:off x="324000" y="1557360"/>
            <a:ext cx="6264000" cy="363996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6"/>
          <p:cNvSpPr/>
          <p:nvPr/>
        </p:nvSpPr>
        <p:spPr>
          <a:xfrm>
            <a:off x="4572000" y="105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kem 14 kr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četně Pr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ntrum kraje je krajské mě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krajském městě je krajský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64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8000" y="1341360"/>
            <a:ext cx="2422800" cy="150660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6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Šumava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Krušné H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Plechý 1378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línovec 124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Český les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Jizerské h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Čerchov 1042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Smrk 112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72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74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7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Krkonoše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Králický Sn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něžka 1602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rálický Sněžník 14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Orlické hor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Hrubý Jese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Velká Deštná 1115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Praděd 149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80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44920"/>
            <a:ext cx="2376720" cy="139068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82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86000"/>
            <a:ext cx="2428560" cy="1422360"/>
          </a:xfrm>
          <a:prstGeom prst="rect">
            <a:avLst/>
          </a:prstGeom>
          <a:ln w="0">
            <a:noFill/>
          </a:ln>
        </p:spPr>
      </p:pic>
      <p:sp>
        <p:nvSpPr>
          <p:cNvPr id="38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Nízký Jeseník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Bílé Karp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lunečná 800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Velká Javořina 9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eskyd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      Českomoravská Vrchov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Lysá Hora 1323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Javořice 83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Obrázek 6" descr="Asie.jpg"/>
          <p:cNvPicPr/>
          <p:nvPr/>
        </p:nvPicPr>
        <p:blipFill>
          <a:blip r:embed="rId1"/>
          <a:stretch/>
        </p:blipFill>
        <p:spPr>
          <a:xfrm>
            <a:off x="250920" y="189000"/>
            <a:ext cx="6624720" cy="5922720"/>
          </a:xfrm>
          <a:prstGeom prst="rect">
            <a:avLst/>
          </a:prstGeom>
          <a:ln w="0">
            <a:noFill/>
          </a:ln>
        </p:spPr>
      </p:pic>
      <p:sp>
        <p:nvSpPr>
          <p:cNvPr id="38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LABE (MAPA TOK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00720" y="148428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392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979640" y="1484280"/>
            <a:ext cx="2432160" cy="1631880"/>
          </a:xfrm>
          <a:prstGeom prst="rect">
            <a:avLst/>
          </a:prstGeom>
          <a:ln w="0">
            <a:noFill/>
          </a:ln>
        </p:spPr>
      </p:pic>
      <p:sp>
        <p:nvSpPr>
          <p:cNvPr id="39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RADY A ZÁMKY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ovéPole 9"/>
          <p:cNvSpPr/>
          <p:nvPr/>
        </p:nvSpPr>
        <p:spPr>
          <a:xfrm>
            <a:off x="179280" y="1484280"/>
            <a:ext cx="18716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ch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 okresní město v Královéhradec-kém kraji na severovýchodě Čech. Bylo založeno v polovině 13. století rytířem Hronem z rodu Načeradic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ovéPole 10"/>
          <p:cNvSpPr/>
          <p:nvPr/>
        </p:nvSpPr>
        <p:spPr>
          <a:xfrm>
            <a:off x="6804000" y="1557360"/>
            <a:ext cx="1871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gotický hrad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cházející se v Českém ráji. Postavil jej někdy před rokem 1349 Beneš z Vartemberka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ovéPole 11"/>
          <p:cNvSpPr/>
          <p:nvPr/>
        </p:nvSpPr>
        <p:spPr>
          <a:xfrm>
            <a:off x="179280" y="3789360"/>
            <a:ext cx="1871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uchl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královský hrad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ba stavby tohoto hradu se odhaduje na 1. polovinu 13. století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ovéPole 12"/>
          <p:cNvSpPr/>
          <p:nvPr/>
        </p:nvSpPr>
        <p:spPr>
          <a:xfrm>
            <a:off x="6732720" y="3716280"/>
            <a:ext cx="2232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mek Lá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 barokní stavba, jež se nachází na jižním okraji obce Lány v okrese Klad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estavěn na letohrádek v 17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Obrázek 13" descr="Ganga_Dashara,_at_Haridwar.jpg"/>
          <p:cNvPicPr/>
          <p:nvPr/>
        </p:nvPicPr>
        <p:blipFill>
          <a:blip r:embed="rId3"/>
          <a:stretch/>
        </p:blipFill>
        <p:spPr>
          <a:xfrm>
            <a:off x="4356000" y="3357720"/>
            <a:ext cx="2303640" cy="1749240"/>
          </a:xfrm>
          <a:prstGeom prst="rect">
            <a:avLst/>
          </a:prstGeom>
          <a:ln w="0">
            <a:noFill/>
          </a:ln>
        </p:spPr>
      </p:pic>
      <p:pic>
        <p:nvPicPr>
          <p:cNvPr id="401" name="Obrázek 7" descr="800px-Cesky_les_CZ_I1A-1.png"/>
          <p:cNvPicPr/>
          <p:nvPr/>
        </p:nvPicPr>
        <p:blipFill>
          <a:blip r:embed="rId4"/>
          <a:stretch/>
        </p:blipFill>
        <p:spPr>
          <a:xfrm>
            <a:off x="1979640" y="3357720"/>
            <a:ext cx="23032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00720" y="126828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979640" y="1268280"/>
            <a:ext cx="2270160" cy="1513080"/>
          </a:xfrm>
          <a:prstGeom prst="rect">
            <a:avLst/>
          </a:prstGeom>
          <a:ln w="0">
            <a:noFill/>
          </a:ln>
        </p:spPr>
      </p:pic>
      <p:sp>
        <p:nvSpPr>
          <p:cNvPr id="40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RADY A ZÁMKY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ovéPole 9"/>
          <p:cNvSpPr/>
          <p:nvPr/>
        </p:nvSpPr>
        <p:spPr>
          <a:xfrm>
            <a:off x="250920" y="1341360"/>
            <a:ext cx="18716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a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zřícenina hradu ležící ve stejnojmenné vesnici na vyvýšeném ostrohu nad řekou Otav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ovéPole 10"/>
          <p:cNvSpPr/>
          <p:nvPr/>
        </p:nvSpPr>
        <p:spPr>
          <a:xfrm>
            <a:off x="6732720" y="1413000"/>
            <a:ext cx="1942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mek Le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 v obci Lednice na pravém břehu Dyje. Vystavěn v 16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ovéPole 11"/>
          <p:cNvSpPr/>
          <p:nvPr/>
        </p:nvSpPr>
        <p:spPr>
          <a:xfrm>
            <a:off x="179280" y="292428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lík u Humpol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zřícenina 2 km severovýchodně od města Humpolec. Postaven 14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ovéPole 12"/>
          <p:cNvSpPr/>
          <p:nvPr/>
        </p:nvSpPr>
        <p:spPr>
          <a:xfrm>
            <a:off x="6732720" y="3068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l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jihočeský zámek umístěný na skalnatém ostrohu nad Vltav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ázek 13" descr="Ganga_Dashara,_at_Haridwar.jpg"/>
          <p:cNvPicPr/>
          <p:nvPr/>
        </p:nvPicPr>
        <p:blipFill>
          <a:blip r:embed="rId3"/>
          <a:stretch/>
        </p:blipFill>
        <p:spPr>
          <a:xfrm>
            <a:off x="4716360" y="2997360"/>
            <a:ext cx="1943280" cy="1749240"/>
          </a:xfrm>
          <a:prstGeom prst="rect">
            <a:avLst/>
          </a:prstGeom>
          <a:ln w="0">
            <a:noFill/>
          </a:ln>
        </p:spPr>
      </p:pic>
      <p:pic>
        <p:nvPicPr>
          <p:cNvPr id="412" name="Obrázek 7" descr="800px-Cesky_les_CZ_I1A-1.png"/>
          <p:cNvPicPr/>
          <p:nvPr/>
        </p:nvPicPr>
        <p:blipFill>
          <a:blip r:embed="rId4"/>
          <a:stretch/>
        </p:blipFill>
        <p:spPr>
          <a:xfrm>
            <a:off x="1908000" y="2924280"/>
            <a:ext cx="2376720" cy="1476360"/>
          </a:xfrm>
          <a:prstGeom prst="rect">
            <a:avLst/>
          </a:prstGeom>
          <a:ln w="0">
            <a:noFill/>
          </a:ln>
        </p:spPr>
      </p:pic>
      <p:pic>
        <p:nvPicPr>
          <p:cNvPr id="413" name="Obrázek 12" descr="800px-Opočno_-_zámecké_nádvoří.jpg"/>
          <p:cNvPicPr/>
          <p:nvPr/>
        </p:nvPicPr>
        <p:blipFill>
          <a:blip r:embed="rId5"/>
          <a:stretch/>
        </p:blipFill>
        <p:spPr>
          <a:xfrm>
            <a:off x="2843280" y="4508640"/>
            <a:ext cx="2089080" cy="1392120"/>
          </a:xfrm>
          <a:prstGeom prst="rect">
            <a:avLst/>
          </a:prstGeom>
          <a:ln w="0">
            <a:noFill/>
          </a:ln>
        </p:spPr>
      </p:pic>
      <p:sp>
        <p:nvSpPr>
          <p:cNvPr id="414" name="TextovéPole 13"/>
          <p:cNvSpPr/>
          <p:nvPr/>
        </p:nvSpPr>
        <p:spPr>
          <a:xfrm>
            <a:off x="179280" y="4581360"/>
            <a:ext cx="2592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oč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 město v Královéhradeckém kra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vními doloženými majiteli Opočna byli páni z Dobrušky, kteří místo získali kolem roku 1350 a vybudovali opevněný gotický hr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40:01Z</dcterms:modified>
  <cp:revision>151</cp:revision>
  <dc:subject/>
  <dc:title>č. 21 – Česká republika a Evropa - opakování</dc:title>
</cp:coreProperties>
</file>