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6B1-A6EC-451B-85E2-7EC781E9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C445-58B8-4A00-92D9-7D646EA6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4FD-6DEF-4044-9873-F2834DE0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A67-1D89-48FF-A2D7-94BF8713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EECE-EAB4-49F5-8912-FFD2D886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C55A-AD0D-493A-A96D-68BEB7CB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39AA-9F19-48E5-A440-4BDD423B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9C8B-B97B-4AB9-BEF4-A71263CB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8970-7F5B-4746-B392-D3F0C5EA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FB12-D619-4B87-A1FA-D51E8ED6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450D-3B8E-41F3-9BFD-33BCD905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106-5786-41E1-8E0D-54AACABA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6342-4E04-4851-8814-1BD1DCEC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A620-183D-4E11-9062-256D45F7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EA73-BC76-48E4-8082-71061C36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C30C-8C0A-4B1F-A22A-762F259C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CA61-59BD-454B-B61F-C5A09D84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FDA82-7AFE-4B56-8CB2-E916E199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E9F5F-6257-4FCE-970C-12BF0BC0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E119A-A318-4724-A37D-81CD0E5F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09862-5F47-4CBF-BA70-2171811C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1E9F3-C02B-4A06-9395-902EAB5C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B54-6A21-4A39-B3F8-3A3BCCB0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FC212-4FE3-4D8B-AD3F-152D8682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DEDE4-D1F2-4CC2-A637-EF2A56A4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2899D-5689-4C8B-B83F-01EB08D3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9C729-ADFF-4CDA-8163-EA92C777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1202C-BAC3-474D-A11C-B99A5C2D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D41C9-164D-4195-A91B-DDFA489F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0D6FB-4973-467E-A581-FF2C6D1E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4016B-39F1-4E9E-A28E-0EC50B4E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F4A1E-6BED-46AB-8F75-28E73687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9E328-D473-49C8-8EB2-7F327F0B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7D4-4F0A-4A0E-A425-B85DF028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01757-F0E7-46E4-AE3F-C6C5C06E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87AA9-8716-4E94-95A2-9C476DE4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A431E-DD69-46E0-9AF9-46FA1208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A0E19-0DFE-4F5F-A7D9-86003B73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48AA2-084B-4C05-A928-226B2758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E8252-9F49-4C87-8915-B3E135BA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1C21D-4027-47BE-9A7A-E6AB8DBC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81EB8-AE03-4477-B849-20F9BA01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64744-68BF-437E-AB92-16B9F7C1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9B623-99F8-44DB-BEDD-229AEEFD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FD5-CCA5-4C2D-B65C-8512630A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E5859-9284-4179-8A70-AD8E3D77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78A132-9E12-47C4-82AE-975E34A4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18E17-6119-4634-A383-56FE6278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BCDCD-558C-4C67-A38E-1BDD3CEB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E7377-E699-40A0-BF0B-64A034C7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8D075A-77EC-48B1-BB8F-1569DBA8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60FD8-CA61-4E5F-AE49-B5D4319B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7D141-D2BB-4FAB-B4B8-CDCEFB5C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93567-1BD2-4848-97BA-29E56EE7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AFB49-3BD1-4498-8089-301A7B5B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E34-44FD-4127-B1FF-CCF36215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CE157-18F8-4DB0-9811-03B1E79C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48931-7915-4137-8DF1-454A0F9C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ADA43-0D3A-4F6C-B90B-2089682B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9D219C-4554-4D61-95BD-D7C1EE88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864C3-7759-4358-8F02-A0E899D3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CA6B91-2134-47DF-A0B0-DAEA6FCE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F7859B-A414-4104-9016-15C8753F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803C59-3D2C-4907-B133-4CA7F37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BE0554-8FE4-483F-B614-244F591E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47810F-76FE-4A50-9AF7-FAB0C882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62C-89CB-4CD8-B007-73F2CE93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F1833-18B4-4C3B-B298-3413E321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031D2E-9DFA-4B15-9D98-CECEEAD5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C672B-C752-4630-865A-006D771E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5BB0D8-D7CF-42AE-A52D-3BA0B863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7995AE-A8DD-43E6-9A2E-47013664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629CD9-D141-4993-A614-B3315645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C75E6-8330-43E0-95AD-8A2549C0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8F2920-864B-4087-85B5-10A1CBBD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2DE5FA-7C53-46E2-93B9-A101ACE1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DFC538-E86B-4693-9E23-57D5A8F5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433-E829-4417-8B1B-F3369676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E03CAC-B469-405C-8942-45FA9C94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5A5AE-16B7-4456-97A8-44273AA4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408587-7207-4ED4-B57D-1E86BC4B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C32748-63AD-4D8D-9F1D-03FC0A0C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9D2DB6-F88E-4EB2-8A5D-DDC1077B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100-1931-485B-BDF7-04A2DC1F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B71C-8F6B-4BD0-B8CF-1D7CA8216F85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3F78-1E7F-4B7C-BD4A-349DB5C17E9A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BD68-75FE-44CB-85B0-5F6820D338FE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8DB4-B60C-4BC9-8034-749265B6654B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0498-7411-4B94-BA46-08612CB1AABA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DAC9-829E-488D-A013-047D061D775F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F46A-101E-4D5A-80FF-72ABF8431401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kipedia.cz/" TargetMode="External"/><Relationship Id="rId2" Type="http://schemas.openxmlformats.org/officeDocument/2006/relationships/hyperlink" Target="http://cs.wikipedia.org/wiki/Soubor:Sumava_CZ_I1B-1.png" TargetMode="External"/><Relationship Id="rId3" Type="http://schemas.openxmlformats.org/officeDocument/2006/relationships/hyperlink" Target="http://cs.wikipedia.org/wiki/Soubor:Cesky_les_CZ_I1A-1.png" TargetMode="External"/><Relationship Id="rId4" Type="http://schemas.openxmlformats.org/officeDocument/2006/relationships/hyperlink" Target="http://cs.wikipedia.org/wiki/Soubor:Krusne_hory_CZ_I3A-2.png" TargetMode="External"/><Relationship Id="rId5" Type="http://schemas.openxmlformats.org/officeDocument/2006/relationships/hyperlink" Target="http://cs.wikipedia.org/wiki/Soubor:Jizerske_hory_CZ_I4A-6.png" TargetMode="External"/><Relationship Id="rId6" Type="http://schemas.openxmlformats.org/officeDocument/2006/relationships/hyperlink" Target="http://cs.wikipedia.org/wiki/Soubor:Krkonose_CZ_I4A-7.png" TargetMode="External"/><Relationship Id="rId7" Type="http://schemas.openxmlformats.org/officeDocument/2006/relationships/hyperlink" Target="http://cs.wikipedia.org/wiki/Soubor:Orlicke_hory_CZ_I4B-2.png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Č. 6 –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ŘÍRODNÍ PODMÍNKY ČR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692280"/>
            <a:ext cx="57531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D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ovéPole 6"/>
          <p:cNvSpPr/>
          <p:nvPr/>
        </p:nvSpPr>
        <p:spPr>
          <a:xfrm>
            <a:off x="500040" y="1643040"/>
            <a:ext cx="7858080" cy="32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šechny uveřejněné odkazy [cit. 2012-11-02] dostupné pod licencí Public domain – na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wikipedia.cz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ČR – světové strany (Obrysová mapa)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Šumav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cs.wikipedia.org/wiki/Soubor:Sumava_CZ_I1B-1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Český Les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cs.wikipedia.org/wiki/Soubor:Cesky_les_CZ_I1A-1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rušné hor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http://cs.wikipedia.org/wiki/Soubor:Krusne_hory_CZ_I3A-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Jizerské hor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http://cs.wikipedia.org/wiki/Soubor:Jizerske_hory_CZ_I4A-6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rkonoš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http://cs.wikipedia.org/wiki/Soubor:Krkonose_CZ_I4A-7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rlické hor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http://cs.wikipedia.org/wiki/Soubor:Orlicke_hory_CZ_I4B-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rálický Sněžník - http://cs.wikipedia.org/wiki/Soubor:Kralicky_Sneznik_CZ_I4C-4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Hrubý Jeseník - http://cs.wikipedia.org/wiki/Soubor:Hruby_Jesenik_CZ_I4C-7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Nízký Jeseník - http://cs.wikipedia.org/wiki/Soubor:Nizky_Jesenik_CZ_I4C-8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eskydy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ílé Karpaty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Českomoravská vrchovina - http://cs.wikipedia.org/wiki/Soubor:Ceskomoravska_vrchovina_CZ_I2C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Nížiny 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tři mapy)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Řeky (Mapa)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Říp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Rotunda - http://cs.wikipedia.org/wiki/Soubor:RotundaRip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55640" y="981000"/>
          <a:ext cx="7632720" cy="3311640"/>
        </p:xfrm>
        <a:graphic>
          <a:graphicData uri="http://schemas.openxmlformats.org/drawingml/2006/table">
            <a:tbl>
              <a:tblPr/>
              <a:tblGrid>
                <a:gridCol w="2952720"/>
                <a:gridCol w="468000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podmínky ČR – povrch, členitost a pohoř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Žáci získávají základní znalosti o přírodních podmínkách České republiky, povrchu, členitosti a pohoří. Součástí prezentace je i pracovní li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ekávaný výs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 – L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příroda – 2. stupe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– znát přírodní podmínky ČR, popsat povrch a jeho členit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h učebního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zent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h interak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ýk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REPUBLIKA (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ĚTOVÉ STRAN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rázek 11" descr="800px-Czech_Republic_districts.png"/>
          <p:cNvPicPr/>
          <p:nvPr/>
        </p:nvPicPr>
        <p:blipFill>
          <a:blip r:embed="rId1"/>
          <a:stretch/>
        </p:blipFill>
        <p:spPr>
          <a:xfrm>
            <a:off x="684360" y="1268280"/>
            <a:ext cx="69120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63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00280"/>
            <a:ext cx="2376720" cy="1479600"/>
          </a:xfrm>
          <a:prstGeom prst="rect">
            <a:avLst/>
          </a:prstGeom>
          <a:ln w="0">
            <a:noFill/>
          </a:ln>
        </p:spPr>
      </p:pic>
      <p:pic>
        <p:nvPicPr>
          <p:cNvPr id="364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8000" y="1341360"/>
            <a:ext cx="2422800" cy="1506600"/>
          </a:xfrm>
          <a:prstGeom prst="rect">
            <a:avLst/>
          </a:prstGeom>
          <a:ln w="0">
            <a:noFill/>
          </a:ln>
        </p:spPr>
      </p:pic>
      <p:pic>
        <p:nvPicPr>
          <p:cNvPr id="365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41360"/>
            <a:ext cx="2428560" cy="1511280"/>
          </a:xfrm>
          <a:prstGeom prst="rect">
            <a:avLst/>
          </a:prstGeom>
          <a:ln w="0">
            <a:noFill/>
          </a:ln>
        </p:spPr>
      </p:pic>
      <p:sp>
        <p:nvSpPr>
          <p:cNvPr id="366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Šumava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Krušné H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Plechý 1378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Klínovec 1244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Český Les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Jizerské h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Čerchov 1042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- Smrk 1124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71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00280"/>
            <a:ext cx="2376720" cy="1479600"/>
          </a:xfrm>
          <a:prstGeom prst="rect">
            <a:avLst/>
          </a:prstGeom>
          <a:ln w="0">
            <a:noFill/>
          </a:ln>
        </p:spPr>
      </p:pic>
      <p:pic>
        <p:nvPicPr>
          <p:cNvPr id="372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9800" y="1341360"/>
            <a:ext cx="2419200" cy="1506600"/>
          </a:xfrm>
          <a:prstGeom prst="rect">
            <a:avLst/>
          </a:prstGeom>
          <a:ln w="0">
            <a:noFill/>
          </a:ln>
        </p:spPr>
      </p:pic>
      <p:pic>
        <p:nvPicPr>
          <p:cNvPr id="373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41360"/>
            <a:ext cx="2428560" cy="1511280"/>
          </a:xfrm>
          <a:prstGeom prst="rect">
            <a:avLst/>
          </a:prstGeom>
          <a:ln w="0">
            <a:noFill/>
          </a:ln>
        </p:spPr>
      </p:pic>
      <p:sp>
        <p:nvSpPr>
          <p:cNvPr id="37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Krkonoše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Králický Sněž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Sněžka 1602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Králický Sněžník 1423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Orlické hory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Hrubý Jese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Velká Deštná 1115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Praděd 149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79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44920"/>
            <a:ext cx="2376720" cy="1390680"/>
          </a:xfrm>
          <a:prstGeom prst="rect">
            <a:avLst/>
          </a:prstGeom>
          <a:ln w="0">
            <a:noFill/>
          </a:ln>
        </p:spPr>
      </p:pic>
      <p:pic>
        <p:nvPicPr>
          <p:cNvPr id="380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9800" y="1341360"/>
            <a:ext cx="2419200" cy="150660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86000"/>
            <a:ext cx="2428560" cy="1422360"/>
          </a:xfrm>
          <a:prstGeom prst="rect">
            <a:avLst/>
          </a:prstGeom>
          <a:ln w="0">
            <a:noFill/>
          </a:ln>
        </p:spPr>
      </p:pic>
      <p:sp>
        <p:nvSpPr>
          <p:cNvPr id="382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Nízký Jeseník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Bílé Karp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Slunečná 800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Velká Javořina 97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Beskydy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      Českomoravská Vrchov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Lysá Hora 1323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Javořice 837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É NÍŽI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ovéPole 12"/>
          <p:cNvSpPr/>
          <p:nvPr/>
        </p:nvSpPr>
        <p:spPr>
          <a:xfrm>
            <a:off x="468360" y="1484280"/>
            <a:ext cx="79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Pola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yjsko-svratecký ú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olnomoravský ú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Obrázek 9" descr="800px-Polabi.jpg"/>
          <p:cNvPicPr/>
          <p:nvPr/>
        </p:nvPicPr>
        <p:blipFill>
          <a:blip r:embed="rId1"/>
          <a:stretch/>
        </p:blipFill>
        <p:spPr>
          <a:xfrm>
            <a:off x="3419640" y="1125360"/>
            <a:ext cx="2592360" cy="1516320"/>
          </a:xfrm>
          <a:prstGeom prst="rect">
            <a:avLst/>
          </a:prstGeom>
          <a:ln w="0">
            <a:noFill/>
          </a:ln>
        </p:spPr>
      </p:pic>
      <p:pic>
        <p:nvPicPr>
          <p:cNvPr id="391" name="Obrázek 10" descr="800px-DyjskosvrateckyUval.jpg"/>
          <p:cNvPicPr/>
          <p:nvPr/>
        </p:nvPicPr>
        <p:blipFill>
          <a:blip r:embed="rId2"/>
          <a:stretch/>
        </p:blipFill>
        <p:spPr>
          <a:xfrm>
            <a:off x="5292720" y="2565360"/>
            <a:ext cx="2584440" cy="1511280"/>
          </a:xfrm>
          <a:prstGeom prst="rect">
            <a:avLst/>
          </a:prstGeom>
          <a:ln w="0">
            <a:noFill/>
          </a:ln>
        </p:spPr>
      </p:pic>
      <p:pic>
        <p:nvPicPr>
          <p:cNvPr id="392" name="Obrázek 11" descr="800px-DyjskosvrateckyUval.jpg"/>
          <p:cNvPicPr/>
          <p:nvPr/>
        </p:nvPicPr>
        <p:blipFill>
          <a:blip r:embed="rId3"/>
          <a:stretch/>
        </p:blipFill>
        <p:spPr>
          <a:xfrm>
            <a:off x="3995640" y="4076640"/>
            <a:ext cx="25923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Obrázek 8" descr="RekyCR800x600.jpg"/>
          <p:cNvPicPr/>
          <p:nvPr/>
        </p:nvPicPr>
        <p:blipFill>
          <a:blip r:embed="rId1"/>
          <a:stretch/>
        </p:blipFill>
        <p:spPr>
          <a:xfrm>
            <a:off x="468360" y="1197000"/>
            <a:ext cx="7559640" cy="4772160"/>
          </a:xfrm>
          <a:prstGeom prst="rect">
            <a:avLst/>
          </a:prstGeom>
          <a:ln w="0">
            <a:noFill/>
          </a:ln>
        </p:spPr>
      </p:pic>
      <p:sp>
        <p:nvSpPr>
          <p:cNvPr id="39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NEJVĚTŠÍ ČESKÉ ŘE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Obrázek 17" descr="435px-RotundaRip.jpg"/>
          <p:cNvPicPr/>
          <p:nvPr/>
        </p:nvPicPr>
        <p:blipFill>
          <a:blip r:embed="rId1"/>
          <a:stretch/>
        </p:blipFill>
        <p:spPr>
          <a:xfrm>
            <a:off x="1547640" y="2565360"/>
            <a:ext cx="2376720" cy="3272040"/>
          </a:xfrm>
          <a:prstGeom prst="rect">
            <a:avLst/>
          </a:prstGeom>
          <a:ln w="0">
            <a:noFill/>
          </a:ln>
        </p:spPr>
      </p:pic>
      <p:sp>
        <p:nvSpPr>
          <p:cNvPr id="39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ŘÍ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9" descr="rip800x600.jpg"/>
          <p:cNvPicPr/>
          <p:nvPr/>
        </p:nvPicPr>
        <p:blipFill>
          <a:blip r:embed="rId2"/>
          <a:stretch/>
        </p:blipFill>
        <p:spPr>
          <a:xfrm>
            <a:off x="4140360" y="692280"/>
            <a:ext cx="4671720" cy="2733480"/>
          </a:xfrm>
          <a:prstGeom prst="rect">
            <a:avLst/>
          </a:prstGeom>
          <a:ln w="0">
            <a:noFill/>
          </a:ln>
        </p:spPr>
      </p:pic>
      <p:sp>
        <p:nvSpPr>
          <p:cNvPr id="402" name="Přímá spojovací čára 13"/>
          <p:cNvSpPr/>
          <p:nvPr/>
        </p:nvSpPr>
        <p:spPr>
          <a:xfrm flipH="1">
            <a:off x="2987640" y="1413000"/>
            <a:ext cx="2664000" cy="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ovéPole 14"/>
          <p:cNvSpPr/>
          <p:nvPr/>
        </p:nvSpPr>
        <p:spPr>
          <a:xfrm>
            <a:off x="2987640" y="1052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p (455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Elipsa 15"/>
          <p:cNvSpPr/>
          <p:nvPr/>
        </p:nvSpPr>
        <p:spPr>
          <a:xfrm>
            <a:off x="5580000" y="1341360"/>
            <a:ext cx="144360" cy="14292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ovéPole 16"/>
          <p:cNvSpPr/>
          <p:nvPr/>
        </p:nvSpPr>
        <p:spPr>
          <a:xfrm>
            <a:off x="395280" y="155736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mátná 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Dle pověsti na ni vystoupil prao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ch a dovedl tak český národ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alézá se zde rotunda sv. Ji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ůvodně zasvěcena sv. Vojtě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9:15:51Z</dcterms:created>
  <dc:creator>Drahuše</dc:creator>
  <dc:description/>
  <dc:language>en-US</dc:language>
  <cp:lastModifiedBy>martina</cp:lastModifiedBy>
  <dcterms:modified xsi:type="dcterms:W3CDTF">2013-06-09T07:38:44Z</dcterms:modified>
  <cp:revision>98</cp:revision>
  <dc:subject/>
  <dc:title>č. 21 – Česká republika a Evropa - opakování</dc:title>
</cp:coreProperties>
</file>