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EDC-39A6-4E09-B627-451EE447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4FA-9D5C-4410-9D9B-30BC6BDB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417-7E0C-4619-9FD8-C98F7970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94D-EADF-412D-9EF0-F8A98112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994-3476-4084-BFE1-07C53DDA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B1B-E053-4CF9-B5CB-D4B20700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FB1-BC35-4911-A7AA-A81039D7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6F7-0492-4CBF-B872-E21D928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1676-A60B-4B08-9036-D16DDA4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C0D9-81D9-41FC-8BAE-55900E12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16C-5A29-4698-BEBB-EF2A11C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4E6-4A10-4B76-A208-0CA67CA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A90-1E31-4759-AA73-6C2ED4B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C737-1A5E-4BAA-AAB9-8472898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E29E-5396-4E53-9CBB-5199D04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D7F0-D70F-4E6B-8E88-A668FEE1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81F-FDAF-437B-9F2C-CC947E1F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DDA6F-C507-4DC1-8486-E008E60B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56F63-E029-4970-BD70-C2DE6B3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2D685-BAA1-4830-9FB7-8D1AD335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C4AB6-5D3D-4C56-AF12-C914688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DA0C8-BA65-4AB1-A5B3-D2D28892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63B-E767-4FBE-A037-937C3AD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A9F30-A2AB-4AC3-BF9C-6ED5F442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3837D-DCF8-4253-BDD2-F6F81F7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0CFF4-EE09-40A3-8D6E-3A4D7E2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C86A0-D838-4049-A0F8-08BEBEB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E2812-46A2-4833-8EB9-B821C84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54976-E5BD-4331-8AC7-76DEAA5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328F5-BC64-441C-8EE9-02C4F4EE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A8C9-2A77-4CBB-9064-6B2A9231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FF95-B658-46C7-A020-FB7493C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52DF-B61B-46FB-8E4A-B0C029A6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DFD-4BD1-455E-97C6-FE89EDC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737F-73A1-46AD-A3C9-6EDFE41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C953-1331-414E-8B58-9A3AA18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E071-4913-4D01-B7AB-508D6D6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8832-4211-45BB-A7E5-A80EB22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374B-AEBC-428D-9486-7ACCCF8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2B117-EE4D-409F-8194-3D1C172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731-5942-480E-8035-D371E8F6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0E79-0DC7-48AD-9F72-CF057363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842E-AF71-4CA7-8410-42093BB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E9626-9F24-41E6-AF90-433BD68A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2A5-3053-4D36-BB6F-F6D9B30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85000-D40F-4E2C-9C42-E3D5BA4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C209B-A289-4810-9B73-0990C5A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6F081-85FC-4462-9361-FD0ED7C7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F17DD-CF9B-469F-B9FB-E1A58AA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A57F8-2455-4B71-A207-5B93BE6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B937C-DB8C-48ED-9AF8-148B031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F6761-1CB9-4AC6-95DD-C4F9E1C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B2BF2-6617-41A0-BC91-126B460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4C4D6-40E7-4693-8797-D2DAF151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C7E6F-4948-49DF-8475-923D67FD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9D3-67D9-4D48-9EAD-AC8F9851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32A86-EAD2-4E27-998C-A79407EC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10D76-9968-4A9E-A43A-25491AE4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EDC6F-F80A-4FB8-913D-55C5A0C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2D1EE-15C7-4761-BEB0-A600594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8B063-4029-439A-9B11-762F771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E19DC-ACC5-4FA5-A345-1E9AF0D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55F50-0520-41AB-B124-72475D72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896A8-9944-4BD1-ACA7-D188197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68106-AFC2-4E66-AD34-A9F16CB0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A0032-7D0E-418A-880F-D1C7EF6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C2E-82A0-4797-83E4-7C5F7F3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57582-2D3D-47CD-9ED8-AB2AD3E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F0320-5F83-40AB-ABB6-B3FC5AB7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EC502-FB02-450D-8EF6-1BC6945B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BEE11-EDD4-49B1-8D00-3C17C07E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3E794-C958-48AE-BF86-EBCC52D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1FBCC-439E-4784-8E57-11B73FAB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D8A3D-2607-4359-8B7A-B01A391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D3A7B-BFD1-48E6-8BA6-D1F06692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2FF6C-D3E1-492D-8369-BF540C41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B1A74-B03C-46A1-8529-D60E762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DBB-5A1C-4966-A7E6-AA36FCE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06AA6-46B1-4994-A351-83A4725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1C064-309D-4F2C-A6D6-A4E5072F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5355F-4525-4A90-85CD-57BA19E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8CB12-FA3E-47F4-9700-23B94FB2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59244-972A-4854-AF88-7297DBC6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7F4-1AF5-4583-BED3-9E9665C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66F7-145B-4E37-A816-420B9DA3E5D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01F-3B7C-4F0A-8C5B-B2679AAF6E2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711-637F-45CD-836A-2690C268941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436E-506E-48DC-A749-E5ADE42B25F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B04C-FDF5-4F76-9413-7FB99C0E635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C2D-7B9A-4F92-8777-E3B4D7A9CC7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8C34-0BF8-4925-BFDB-246B78D0660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cs.wikipedia.org/wiki/Soubor:Gobi_Desert.jpg" TargetMode="External"/><Relationship Id="rId3" Type="http://schemas.openxmlformats.org/officeDocument/2006/relationships/hyperlink" Target="http://cs.wikipedia.org/wiki/Soubor:FujiSunriseKawaguchiko2025WP.jpg" TargetMode="External"/><Relationship Id="rId4" Type="http://schemas.openxmlformats.org/officeDocument/2006/relationships/hyperlink" Target="http://en.wikipedia.org/wiki/File:Ganges-Brahmaputra-Meghna_basins.jpg" TargetMode="External"/><Relationship Id="rId5" Type="http://schemas.openxmlformats.org/officeDocument/2006/relationships/hyperlink" Target="http://cs.wikipedia.org/wiki/Soubor:GreatWall_2004_Summer_4.jpg" TargetMode="External"/><Relationship Id="rId6" Type="http://schemas.openxmlformats.org/officeDocument/2006/relationships/hyperlink" Target="http://en.wikipedia.org/wiki/File:Monastery_around_Dhamek_stupa,_Sarnath.jpg" TargetMode="External"/><Relationship Id="rId7" Type="http://schemas.openxmlformats.org/officeDocument/2006/relationships/hyperlink" Target="http://en.wikipedia.org/wiki/File:Ganga_Dashara,_at_Haridwar.jpg" TargetMode="External"/><Relationship Id="rId8" Type="http://schemas.openxmlformats.org/officeDocument/2006/relationships/hyperlink" Target="http://ru.wikipedia.org/wiki/&#1060;&#1072;&#1081;&#1083;:EthnAfrica.jpg" TargetMode="External"/><Relationship Id="rId9" Type="http://schemas.openxmlformats.org/officeDocument/2006/relationships/hyperlink" Target="http://cs.wikipedia.org/wiki/Soubor:African_continent-cs.svg" TargetMode="External"/><Relationship Id="rId10" Type="http://schemas.openxmlformats.org/officeDocument/2006/relationships/hyperlink" Target="http://cs.wikipedia.org/wiki/Soubor:Zebras,_Serengeti_savana_plains,_Tanzania.jpg" TargetMode="External"/><Relationship Id="rId11" Type="http://schemas.openxmlformats.org/officeDocument/2006/relationships/hyperlink" Target="http://cs.wikipedia.org/wiki/Soubor:All_Gizah_Pyramids.jpg" TargetMode="External"/><Relationship Id="rId12" Type="http://schemas.openxmlformats.org/officeDocument/2006/relationships/hyperlink" Target="http://en.wikipedia.org/wiki/File:Egyptian_funerary_stela.jpg" TargetMode="External"/><Relationship Id="rId13" Type="http://schemas.openxmlformats.org/officeDocument/2006/relationships/hyperlink" Target="http://cs.wikipedia.org/wiki/Soubor:Asian_Elephant_Prague_Zoo.jpg" TargetMode="External"/><Relationship Id="rId14" Type="http://schemas.openxmlformats.org/officeDocument/2006/relationships/hyperlink" Target="http://cs.wikipedia.org/wiki/Soubor:Chameau_de_bactriane.JPG" TargetMode="External"/><Relationship Id="rId15" Type="http://schemas.openxmlformats.org/officeDocument/2006/relationships/hyperlink" Target="http://cs.wikipedia.org/wiki/Soubor:Zebras.jpg" TargetMode="External"/><Relationship Id="rId16" Type="http://schemas.openxmlformats.org/officeDocument/2006/relationships/hyperlink" Target="http://cs.wikipedia.org/wiki/Soubor:Impala.JPG" TargetMode="External"/><Relationship Id="rId17" Type="http://schemas.openxmlformats.org/officeDocument/2006/relationships/hyperlink" Target="http://cs.wikipedia.org/wiki/Soubor:Giraffe_standing.jpg" TargetMode="External"/><Relationship Id="rId18" Type="http://schemas.openxmlformats.org/officeDocument/2006/relationships/hyperlink" Target="http://cs.wikipedia.org/wiki/Soubor:Smirolato.JPG" TargetMode="External"/><Relationship Id="rId19" Type="http://schemas.openxmlformats.org/officeDocument/2006/relationships/hyperlink" Target="http://cs.wikipedia.org/wiki/Soubor:Male_silverback_Gorilla.JPG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8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FRIK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765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AUNA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Diagram 13" descr=""/>
          <p:cNvPicPr/>
          <p:nvPr/>
        </p:nvPicPr>
        <p:blipFill>
          <a:blip r:embed="rId1"/>
          <a:stretch/>
        </p:blipFill>
        <p:spPr>
          <a:xfrm>
            <a:off x="463680" y="1390680"/>
            <a:ext cx="4114800" cy="4565520"/>
          </a:xfrm>
          <a:prstGeom prst="rect">
            <a:avLst/>
          </a:prstGeom>
          <a:ln w="0">
            <a:noFill/>
          </a:ln>
        </p:spPr>
      </p:pic>
      <p:pic>
        <p:nvPicPr>
          <p:cNvPr id="416" name="Diagram 17" descr=""/>
          <p:cNvPicPr/>
          <p:nvPr/>
        </p:nvPicPr>
        <p:blipFill>
          <a:blip r:embed="rId2"/>
          <a:stretch/>
        </p:blipFill>
        <p:spPr>
          <a:xfrm>
            <a:off x="4492800" y="1335240"/>
            <a:ext cx="4114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6"/>
          <p:cNvSpPr/>
          <p:nvPr/>
        </p:nvSpPr>
        <p:spPr>
          <a:xfrm>
            <a:off x="539640" y="1341360"/>
            <a:ext cx="785808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 obrázk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sie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(Mapa)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sie (Politick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ušť Gob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cs.wikipedia.org/wiki/Soubor:Gobi_Deser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opka Fudž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://cs.wikipedia.org/wiki/Soubor:FujiSunriseKawaguchiko2025W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Ganga (Mapa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4"/>
              </a:rPr>
              <a:t>http://en.wikipedia.org/wiki/File:Ganges-Brahmaputra-Meghna_basin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elká čínská zeď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5"/>
              </a:rPr>
              <a:t>http://cs.wikipedia.org/wiki/Soubor:GreatWall_2004_Summer_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ddhistický chrám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en.wikipedia.org/wiki/File:Monastery_around_Dhamek_stupa,_Sarnat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vátná koupe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7"/>
              </a:rPr>
              <a:t>http://en.wikipedia.org/wiki/File:Ganga_Dashara,_at_Haridwa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yvatelé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ru.wikipedia.org/wiki/%D0%A4%D0%B0%D0%B9%D0%BB:EthnAfric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litická mapa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African_continent-cs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árodní park Serenget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Zebras,_Serengeti_savana_plains,_Tanzan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yramid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1"/>
              </a:rPr>
              <a:t>http://cs.wikipedia.org/wiki/Soubor:All_Gizah_Pyramid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ieroglyf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en.wikipedia.org/wiki/File:Egyptian_funerary_ste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lo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Asian_Elephant_Prague_Zo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lblou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Chameau_de_bactria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e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Zebra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ntilop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Impa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iraf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Giraffe_standin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osorožec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Smirolat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Goril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Male_silverback_Goril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yena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Spotted_hyena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och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pferd_auftauchend_0505012_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okodýl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eCrocodi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impanz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himpan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v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Lion_waiting_in_Namib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sie, Afr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si upevňují znalosti o světadílech, poznávají a rozlišují přírodní a společenské znaky. Získávají další nové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1042920" y="1484280"/>
            <a:ext cx="5832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 (POLITICKÁ MAP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6" descr="Asie.jpg"/>
          <p:cNvPicPr/>
          <p:nvPr/>
        </p:nvPicPr>
        <p:blipFill>
          <a:blip r:embed="rId1"/>
          <a:stretch/>
        </p:blipFill>
        <p:spPr>
          <a:xfrm>
            <a:off x="179280" y="1628640"/>
            <a:ext cx="7201080" cy="4148280"/>
          </a:xfrm>
          <a:prstGeom prst="rect">
            <a:avLst/>
          </a:prstGeom>
          <a:ln w="0">
            <a:noFill/>
          </a:ln>
        </p:spPr>
      </p:pic>
      <p:sp>
        <p:nvSpPr>
          <p:cNvPr id="366" name="TextovéPole 7"/>
          <p:cNvSpPr/>
          <p:nvPr/>
        </p:nvSpPr>
        <p:spPr>
          <a:xfrm>
            <a:off x="4859280" y="350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50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ětší: Rusko, Čína, In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yspělejší: Japonsko, Iz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 flipV="1">
            <a:off x="6804000" y="2636640"/>
            <a:ext cx="0" cy="122364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 flipH="1" flipV="1">
            <a:off x="5219280" y="1989000"/>
            <a:ext cx="1584360" cy="648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římá spojovací čára 19"/>
          <p:cNvSpPr/>
          <p:nvPr/>
        </p:nvSpPr>
        <p:spPr>
          <a:xfrm flipH="1" flipV="1">
            <a:off x="6948360" y="3141360"/>
            <a:ext cx="503280" cy="71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římá spojovací čára 21"/>
          <p:cNvSpPr/>
          <p:nvPr/>
        </p:nvSpPr>
        <p:spPr>
          <a:xfrm flipH="1">
            <a:off x="4140360" y="3141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3"/>
          <p:cNvSpPr/>
          <p:nvPr/>
        </p:nvSpPr>
        <p:spPr>
          <a:xfrm flipH="1" flipV="1">
            <a:off x="6372000" y="3428640"/>
            <a:ext cx="1655640" cy="43164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5"/>
          <p:cNvSpPr/>
          <p:nvPr/>
        </p:nvSpPr>
        <p:spPr>
          <a:xfrm flipH="1">
            <a:off x="2555640" y="3429000"/>
            <a:ext cx="3816360" cy="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římá spojovací čára 27"/>
          <p:cNvSpPr/>
          <p:nvPr/>
        </p:nvSpPr>
        <p:spPr>
          <a:xfrm flipH="1">
            <a:off x="5219640" y="4365720"/>
            <a:ext cx="2160720" cy="28728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30"/>
          <p:cNvSpPr/>
          <p:nvPr/>
        </p:nvSpPr>
        <p:spPr>
          <a:xfrm flipV="1">
            <a:off x="5219640" y="3068280"/>
            <a:ext cx="0" cy="1584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římá spojovací čára 32"/>
          <p:cNvSpPr/>
          <p:nvPr/>
        </p:nvSpPr>
        <p:spPr>
          <a:xfrm flipH="1">
            <a:off x="684360" y="4365720"/>
            <a:ext cx="7775280" cy="136692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36"/>
          <p:cNvSpPr/>
          <p:nvPr/>
        </p:nvSpPr>
        <p:spPr>
          <a:xfrm flipH="1" flipV="1">
            <a:off x="610920" y="3212640"/>
            <a:ext cx="73080" cy="251964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124000" y="1628640"/>
            <a:ext cx="2136960" cy="1602000"/>
          </a:xfrm>
          <a:prstGeom prst="rect">
            <a:avLst/>
          </a:prstGeom>
          <a:ln w="0">
            <a:noFill/>
          </a:ln>
        </p:spPr>
      </p:pic>
      <p:pic>
        <p:nvPicPr>
          <p:cNvPr id="378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4211640" y="162864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2124000" y="3213000"/>
            <a:ext cx="2303640" cy="1871640"/>
          </a:xfrm>
          <a:prstGeom prst="rect">
            <a:avLst/>
          </a:prstGeom>
          <a:ln w="0">
            <a:noFill/>
          </a:ln>
        </p:spPr>
      </p:pic>
      <p:sp>
        <p:nvSpPr>
          <p:cNvPr id="38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9"/>
          <p:cNvSpPr/>
          <p:nvPr/>
        </p:nvSpPr>
        <p:spPr>
          <a:xfrm>
            <a:off x="17928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šť Go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chlad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ští na svě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ž -4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el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0"/>
          <p:cNvSpPr/>
          <p:nvPr/>
        </p:nvSpPr>
        <p:spPr>
          <a:xfrm>
            <a:off x="6804000" y="1557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pka Fud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le 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pka, posle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upce 17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apons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1"/>
          <p:cNvSpPr/>
          <p:nvPr/>
        </p:nvSpPr>
        <p:spPr>
          <a:xfrm>
            <a:off x="179280" y="3789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ka G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vátná ř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ů, nacház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v sever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6732720" y="371628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vátné koup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ové věří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koupete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nze, vaše d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očiště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4427640" y="32130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HIST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1258920" y="2492280"/>
            <a:ext cx="3166920" cy="210996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4427640" y="2492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393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dh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ddhismus je nábožensko-filosofický systém, jehož základ vytvořil Gautama Buddha pravděpodobně v 5. století př. n. l. v severovýchodní Indii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má stanoveného boh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á čínská ze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arý systém opevnění táhnoucí se napříč severní Čín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eď se táhne v ohromující délce cca 6000 km (se všemi odbočkami 8858,8k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OBYVATEL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AF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Obrázek 8" descr="600px-EthnAfrica.jpg"/>
          <p:cNvPicPr/>
          <p:nvPr/>
        </p:nvPicPr>
        <p:blipFill>
          <a:blip r:embed="rId1"/>
          <a:stretch/>
        </p:blipFill>
        <p:spPr>
          <a:xfrm>
            <a:off x="539640" y="1341360"/>
            <a:ext cx="4437000" cy="4437000"/>
          </a:xfrm>
          <a:prstGeom prst="rect">
            <a:avLst/>
          </a:prstGeom>
          <a:ln w="0">
            <a:noFill/>
          </a:ln>
        </p:spPr>
      </p:pic>
      <p:sp>
        <p:nvSpPr>
          <p:cNvPr id="399" name="TextovéPole 9"/>
          <p:cNvSpPr/>
          <p:nvPr/>
        </p:nvSpPr>
        <p:spPr>
          <a:xfrm>
            <a:off x="5148360" y="177336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rozšířenější etnika Af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ra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frič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erb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as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Him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Obrázek 6" descr="Asie.jpg"/>
          <p:cNvPicPr/>
          <p:nvPr/>
        </p:nvPicPr>
        <p:blipFill>
          <a:blip r:embed="rId1"/>
          <a:stretch/>
        </p:blipFill>
        <p:spPr>
          <a:xfrm>
            <a:off x="1332000" y="765000"/>
            <a:ext cx="5425920" cy="5126040"/>
          </a:xfrm>
          <a:prstGeom prst="rect">
            <a:avLst/>
          </a:prstGeom>
          <a:ln w="0">
            <a:noFill/>
          </a:ln>
        </p:spPr>
      </p:pic>
      <p:sp>
        <p:nvSpPr>
          <p:cNvPr id="40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FRIKA -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250920" y="2637000"/>
            <a:ext cx="3384360" cy="1823760"/>
          </a:xfrm>
          <a:prstGeom prst="rect">
            <a:avLst/>
          </a:prstGeom>
          <a:ln w="0">
            <a:noFill/>
          </a:ln>
        </p:spPr>
      </p:pic>
      <p:pic>
        <p:nvPicPr>
          <p:cNvPr id="40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3635280" y="2637000"/>
            <a:ext cx="2737080" cy="1819080"/>
          </a:xfrm>
          <a:prstGeom prst="rect">
            <a:avLst/>
          </a:prstGeom>
          <a:ln w="0">
            <a:noFill/>
          </a:ln>
        </p:spPr>
      </p:pic>
      <p:sp>
        <p:nvSpPr>
          <p:cNvPr id="409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dní park Sereng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verní Tanzanie, východně od Viktoriina jezera. Jedná se o jedno z nejslavnějších a nejrozsáhlejších chráněných území Afr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v roce 19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gyptské pyramidy a hierogly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yramidy jsou pohřební budovy pro dávné faraony Egypta. Přes 100 metrů vysok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gypťané nazývali hieroglyfy "písmo bohů" neboť věřili, že jej vynalezl bůh Thov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2" descr="Egyptian_funerary_stela.jpg"/>
          <p:cNvPicPr/>
          <p:nvPr/>
        </p:nvPicPr>
        <p:blipFill>
          <a:blip r:embed="rId3"/>
          <a:stretch/>
        </p:blipFill>
        <p:spPr>
          <a:xfrm>
            <a:off x="6516720" y="2205000"/>
            <a:ext cx="16635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06Z</dcterms:modified>
  <cp:revision>143</cp:revision>
  <dc:subject/>
  <dc:title>č. 21 – Česká republika a Evropa - opakování</dc:title>
</cp:coreProperties>
</file>