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423-A600-4F1B-9182-94587A9C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AD7-4FC4-4F8C-9DAD-5DF15CF4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C82-AFA9-4547-9F26-6E69F22E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20A-F905-4868-ABC7-A77B1576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180E-86B6-4365-8EC8-7A459F1E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DDA9-9F34-46C0-9D68-6F6E94AD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6985-7283-405F-B946-4AEF45EE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5D31-4221-43DC-BA40-7C6C6E59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8288-1B69-48BC-BC12-D4B194A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630B-194E-43ED-9BE3-54DA2429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D986-CD07-472E-B316-1957E397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950-E797-45DF-8B63-AECE982E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9ECD-5790-4FFE-874A-147EA27C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C416-C7E3-4C7B-AA6E-30E078D1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4375-1542-49B3-B091-65C8DA7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521-FFC9-4EDE-83E7-37C3B29F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75C3-C67E-488F-925A-E947CB6A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2CAE5-32A4-477B-99C1-51A7B5A4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7E57A-3C0A-4F86-B833-22FDA3B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6BB20-A750-497F-8CED-2D47AB99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7671C-B133-46A6-8CF9-BC4789A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6321A-A9AC-4F67-9F58-C7F0C636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06A-CD80-4A66-AB7A-334672E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32C3C-C74E-4339-B420-C6C8388C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27DC8-06A7-4F54-BB53-1E817B21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176E6-0194-4D41-AF30-A63785D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95A52-90EF-486D-9991-BAE7921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F2885-667F-4A68-8798-FD065EC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DABEE-2C96-423C-9E3F-61E0459F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DDD0A-1D58-426C-8CF3-22C36130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11D5D-ABDB-4C29-9DED-DAFCC49C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0942-A977-4BC1-BF16-187B0E07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BBDD-250F-4924-A6C1-6907D21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045-F37D-49BC-9FEF-F695FF8A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6EA2-9A4B-4087-8506-2F39F044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D7C9-3D33-49F9-9596-C12F6BEF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7356-8A8D-4687-B254-21FA169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97DA-8520-4957-9B12-D5781A3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6848-C7DB-4A53-8A18-14280D4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2007-4CA9-4489-A6D7-E66D304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6BEC-8BAD-49FD-B35E-E3D3DFE2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5060-E28F-4636-BDA7-5E161ED7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8951-B7F4-4457-82AF-7DC74697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F76A7-B905-415A-B35F-5C331073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31E-F6B5-4228-B602-44A03EA8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A39C5-F255-405A-BF4F-2791BB2A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F2647-E663-4F9F-AFF8-AA1A3815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86D66-8FC0-45E3-88A5-1BE2A32C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EE1A6-804E-455B-93DF-8F1A036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90FB0-B4A5-43FA-8588-3A37046C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A031B-8B07-4AC7-8B55-569DA1C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0F74D-E4A9-42ED-8194-F8FCEFB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2FCF1-B3D8-41DF-8B6D-99F74C5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04A2A-49A0-4D8A-97BE-669AF40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341FD-8AA5-460C-8079-6F0BFB8E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282-53AD-4B76-BA27-F673299B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0CA8A-BF8A-49E2-8BF3-DACAD7F5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EE7AB-C272-43FF-B496-1C941EEE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DBD85-3DED-4CA9-B0F8-5CEE8EC1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B97F5-C212-49F0-87BD-C0F957DF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69F8D-3E03-498B-BEF6-6CCD759E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34C76-7B31-4D03-A37F-A149D373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16E7A-5B7C-4023-AA40-65C9ACF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8D992-B891-4744-9466-8C45AD1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27ACC-9324-4F3F-B513-A9A2FD4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D1C08-80C3-490D-B443-1B554CD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B7C-C600-490D-BDBC-3E39952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A444C-F39F-44D6-9328-88C0511A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A2FB2-5AAD-4815-B6F8-222026F5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351AE-BEE3-46B9-A18E-C03366C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10ADA-D2C7-40AE-B76F-617917BB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43BE6-6EF9-49C1-9429-4AE759EC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DEEB0-D59B-4B46-9149-7862DFAF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C34EB-CA7F-40C8-930D-430FE7E1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66F4A-47E6-40D6-84CC-5B692927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600F4-0A19-4350-8575-7A78C5DE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188DA-0794-4F4B-A218-BCB490A0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0B3-8F72-4220-8BF4-DC1262F9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A664A-3CE5-4495-A38B-B301321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5A908-8FAC-443E-A707-556A706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72BC8-7E22-4341-890F-A368A662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0FE18-0B58-47C7-B197-A0FC1FA0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370AF-7407-4B0D-A48D-17B6BD7D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767-E9D5-49BC-A620-A755202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C483-1E90-45CC-8D85-F893BE3CBB1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AF4-874D-45DD-9F96-28D9DF4F719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F0C-6985-471E-B419-91ED3F31406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484-EEEC-4298-A814-74380B39BC3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944-DA79-4522-A53C-476D0568F2E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D4B1-C7C4-42E0-9EE5-8797E45AE10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5691-71E4-432B-95B2-FC7C0C79D42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Kuusk_Keila-Paldiski_rdt_&#228;&#228;res.jpg" TargetMode="External"/><Relationship Id="rId3" Type="http://schemas.openxmlformats.org/officeDocument/2006/relationships/hyperlink" Target="http://cs.wikipedia.org/wiki/Soubor:Abies_alba_Orjen.jpg" TargetMode="External"/><Relationship Id="rId4" Type="http://schemas.openxmlformats.org/officeDocument/2006/relationships/hyperlink" Target="http://cs.wikipedia.org/wiki/Soubor:Pinus_nigra_young_tree_Bulgaria.jpg" TargetMode="External"/><Relationship Id="rId5" Type="http://schemas.openxmlformats.org/officeDocument/2006/relationships/hyperlink" Target="http://cs.wikipedia.org/wiki/Soubor:Larix_decidua_Winter.jpg" TargetMode="External"/><Relationship Id="rId6" Type="http://schemas.openxmlformats.org/officeDocument/2006/relationships/hyperlink" Target="http://cs.wikipedia.org/wiki/Soubor:Fagus_sylvatica_Cristata_JPG01a.jpg" TargetMode="External"/><Relationship Id="rId7" Type="http://schemas.openxmlformats.org/officeDocument/2006/relationships/hyperlink" Target="http://cs.wikipedia.org/wiki/Soubor:KorkeichePortugal1994.jpg" TargetMode="External"/><Relationship Id="rId8" Type="http://schemas.openxmlformats.org/officeDocument/2006/relationships/hyperlink" Target="http://cs.wikipedia.org/wiki/Soubor:Alnus_glutinosa_011.jpg" TargetMode="External"/><Relationship Id="rId9" Type="http://schemas.openxmlformats.org/officeDocument/2006/relationships/hyperlink" Target="http://cs.wikipedia.org/wiki/Soubor:Populier_Populus_canadensis.jpg" TargetMode="External"/><Relationship Id="rId10" Type="http://schemas.openxmlformats.org/officeDocument/2006/relationships/hyperlink" Target="http://en.wikipedia.org/wiki/File:Fraxinus_americana_002.jpg" TargetMode="External"/><Relationship Id="rId11" Type="http://schemas.openxmlformats.org/officeDocument/2006/relationships/hyperlink" Target="http://cs.wikipedia.org/wiki/Soubor:Betula_Pendula_at_Stockholm_University_2005-07-01.jpg" TargetMode="External"/><Relationship Id="rId12" Type="http://schemas.openxmlformats.org/officeDocument/2006/relationships/hyperlink" Target="http://cs.wikipedia.org/wiki/Soubor:Litoria_caerulea.jpg" TargetMode="External"/><Relationship Id="rId13" Type="http://schemas.openxmlformats.org/officeDocument/2006/relationships/hyperlink" Target="http://cs.wikipedia.org/wiki/Soubor:Bjchwzh.jpg" TargetMode="External"/><Relationship Id="rId14" Type="http://schemas.openxmlformats.org/officeDocument/2006/relationships/hyperlink" Target="http://cs.wikipedia.org/wiki/Soubor:Arborophila_brunneopectus_male_-_Kaeng_Krachan.jpg" TargetMode="External"/><Relationship Id="rId15" Type="http://schemas.openxmlformats.org/officeDocument/2006/relationships/hyperlink" Target="http://cs.wikipedia.org/wiki/Soubor:Feldhase.jpg" TargetMode="External"/><Relationship Id="rId16" Type="http://schemas.openxmlformats.org/officeDocument/2006/relationships/hyperlink" Target="http://cs.wikipedia.org/wiki/Soubor:Abramis_ballerus.jpg" TargetMode="External"/><Relationship Id="rId17" Type="http://schemas.openxmlformats.org/officeDocument/2006/relationships/hyperlink" Target="http://cs.wikipedia.org/wiki/Soubor:Eichh&#246;rnchen_D&#252;sseldorf_Hofgarten_edit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8</a:t>
            </a: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–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mínky ČR, rozmístění obyvatelstva, vesnice a města</a:t>
            </a:r>
            <a:br>
              <a:rPr sz="2900"/>
            </a:br>
            <a:br>
              <a:rPr sz="27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86000"/>
            <a:ext cx="7559640" cy="4394160"/>
          </a:xfrm>
          <a:prstGeom prst="rect">
            <a:avLst/>
          </a:prstGeom>
          <a:ln w="0">
            <a:noFill/>
          </a:ln>
        </p:spPr>
      </p:pic>
      <p:sp>
        <p:nvSpPr>
          <p:cNvPr id="41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RAJE A KRAJSKÁ MĚSTA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71600"/>
            <a:ext cx="7559640" cy="4422600"/>
          </a:xfrm>
          <a:prstGeom prst="rect">
            <a:avLst/>
          </a:prstGeom>
          <a:ln w="0">
            <a:noFill/>
          </a:ln>
        </p:spPr>
      </p:pic>
      <p:sp>
        <p:nvSpPr>
          <p:cNvPr id="41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SKANZEM, LÁZEŇSKÁ, HORNICKÁ A HISTOR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DŮLEŽITÁ ČESKÁ MĚ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71600"/>
            <a:ext cx="7559640" cy="4422600"/>
          </a:xfrm>
          <a:prstGeom prst="rect">
            <a:avLst/>
          </a:prstGeom>
          <a:ln w="0">
            <a:noFill/>
          </a:ln>
        </p:spPr>
      </p:pic>
      <p:sp>
        <p:nvSpPr>
          <p:cNvPr id="42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USTOTA OSÍDLENÍ KRA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6"/>
          <p:cNvSpPr/>
          <p:nvPr/>
        </p:nvSpPr>
        <p:spPr>
          <a:xfrm>
            <a:off x="75564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2 obyvatel/km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ovéPole 7"/>
          <p:cNvSpPr/>
          <p:nvPr/>
        </p:nvSpPr>
        <p:spPr>
          <a:xfrm>
            <a:off x="2342880" y="35002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ovéPole 8"/>
          <p:cNvSpPr/>
          <p:nvPr/>
        </p:nvSpPr>
        <p:spPr>
          <a:xfrm>
            <a:off x="2312640" y="29973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 601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ovéPole 9"/>
          <p:cNvSpPr/>
          <p:nvPr/>
        </p:nvSpPr>
        <p:spPr>
          <a:xfrm>
            <a:off x="1487880" y="2276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5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ovéPole 10"/>
          <p:cNvSpPr/>
          <p:nvPr/>
        </p:nvSpPr>
        <p:spPr>
          <a:xfrm>
            <a:off x="2854800" y="19162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39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ovéPole 11"/>
          <p:cNvSpPr/>
          <p:nvPr/>
        </p:nvSpPr>
        <p:spPr>
          <a:xfrm>
            <a:off x="1197720" y="3789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ovéPole 12"/>
          <p:cNvSpPr/>
          <p:nvPr/>
        </p:nvSpPr>
        <p:spPr>
          <a:xfrm>
            <a:off x="2350440" y="4869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3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ovéPole 13"/>
          <p:cNvSpPr/>
          <p:nvPr/>
        </p:nvSpPr>
        <p:spPr>
          <a:xfrm>
            <a:off x="3998520" y="2565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ovéPole 14"/>
          <p:cNvSpPr/>
          <p:nvPr/>
        </p:nvSpPr>
        <p:spPr>
          <a:xfrm>
            <a:off x="3502800" y="4149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5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ovéPole 15"/>
          <p:cNvSpPr/>
          <p:nvPr/>
        </p:nvSpPr>
        <p:spPr>
          <a:xfrm>
            <a:off x="4070880" y="3213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4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ovéPole 16"/>
          <p:cNvSpPr/>
          <p:nvPr/>
        </p:nvSpPr>
        <p:spPr>
          <a:xfrm>
            <a:off x="4583520" y="4869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2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ovéPole 17"/>
          <p:cNvSpPr/>
          <p:nvPr/>
        </p:nvSpPr>
        <p:spPr>
          <a:xfrm>
            <a:off x="6096600" y="4508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9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ovéPole 18"/>
          <p:cNvSpPr/>
          <p:nvPr/>
        </p:nvSpPr>
        <p:spPr>
          <a:xfrm>
            <a:off x="5304240" y="3860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1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ovéPole 19"/>
          <p:cNvSpPr/>
          <p:nvPr/>
        </p:nvSpPr>
        <p:spPr>
          <a:xfrm>
            <a:off x="6167880" y="3357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7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ovéPole 6"/>
          <p:cNvSpPr/>
          <p:nvPr/>
        </p:nvSpPr>
        <p:spPr>
          <a:xfrm>
            <a:off x="539640" y="1700280"/>
            <a:ext cx="785808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1-04] dostupné pod licencí Public domain – 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R  map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mr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Kuusk_Keila-Paldiski_rdt_äär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dl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Abies_alba_Orje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orov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Pinus_nigra_young_tree_Bulgar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odří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Larix_decidua_Wint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u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Fagus_sylvatica_Cristata_JPG01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ub - 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KorkeichePortugal1994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lš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cs.wikipedia.org/wiki/Soubor:Alnus_glutinosa_01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Topol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Populier_Populus_canadensi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asa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en.wikipedia.org/wiki/File:Fraxinus_americana_00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říz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Betula_Pendula_at_Stockholm_University_2005-07-0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Žáb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Litoria_caerule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žant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Bjchwzh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roptev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Arborophila_brunneopectus_male_-_Kaeng_Kracha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Zajíc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Feldha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yby (Cejn)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Abramis_baller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Veverk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Eichhörnchen_Düsseldorf_Hofgarten_ed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ivoké prase - http://cs.wikipedia.org/wiki/Soubor:Wild_Boar_Habbitat_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atel - http://cs.wikipedia.org/wiki/Soubor:Sphyrapicus_ruber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rnec - http://cs.wikipedia.org/wiki/Soubor:Capreolus_capreolus_(Marek_Szczepanek)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len - http://cs.wikipedia.org/wiki/Soubor:Silz_cerf2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zevec - http://cs.wikipedia.org/wiki/Soubor:Taxidea_tax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aje, měst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apa, měst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apa hustoty obyvatelstv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49416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mínky ČR, rozmístění obyvatelstva, vesnice a mě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poznávají živou přírodu a města ČR, popisují rozmístění obyvatelstva. V prezentaci žáci získávají základní znalosti o České republice. Součástí prezentace je i 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znát přírodní podmínky ČR, popsat povrch a jeho členit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vést hlavní údaje o rozmístění obyvatels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REPUBLIKA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OUSEDN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Í STÁ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11" descr="800px-Czech_Republic_districts.png"/>
          <p:cNvPicPr/>
          <p:nvPr/>
        </p:nvPicPr>
        <p:blipFill>
          <a:blip r:embed="rId1"/>
          <a:stretch/>
        </p:blipFill>
        <p:spPr>
          <a:xfrm>
            <a:off x="250920" y="1197000"/>
            <a:ext cx="6405480" cy="475308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6659640" y="184464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78 864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élka hr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2289.7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en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ejně jako okolní stá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732720" y="3500280"/>
            <a:ext cx="1439640" cy="216072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6" descr="800px-Sumava_CZ_I1B-1.png"/>
          <p:cNvPicPr/>
          <p:nvPr/>
        </p:nvPicPr>
        <p:blipFill>
          <a:blip r:embed="rId2"/>
          <a:stretch/>
        </p:blipFill>
        <p:spPr>
          <a:xfrm>
            <a:off x="2556000" y="1341360"/>
            <a:ext cx="1584360" cy="237492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8" descr="800px-Krusne_hory_CZ_I3A-2.png"/>
          <p:cNvPicPr/>
          <p:nvPr/>
        </p:nvPicPr>
        <p:blipFill>
          <a:blip r:embed="rId3"/>
          <a:stretch/>
        </p:blipFill>
        <p:spPr>
          <a:xfrm>
            <a:off x="6726240" y="1341360"/>
            <a:ext cx="144612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2556000" y="3573360"/>
            <a:ext cx="1598400" cy="2130480"/>
          </a:xfrm>
          <a:prstGeom prst="rect">
            <a:avLst/>
          </a:prstGeom>
          <a:ln w="0">
            <a:noFill/>
          </a:ln>
        </p:spPr>
      </p:pic>
      <p:sp>
        <p:nvSpPr>
          <p:cNvPr id="36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JEHLIČ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2"/>
          <p:cNvSpPr/>
          <p:nvPr/>
        </p:nvSpPr>
        <p:spPr>
          <a:xfrm>
            <a:off x="468360" y="148428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Smrk (Picea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Jedle (Ab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nejběžnější stro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šišky rostou nah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ČR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5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4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orovice (Pinu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Modřín (Lar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tromy i keře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opadavý jehlič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0 druhů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Obrázek 9" descr="800px-Polabi.jpg"/>
          <p:cNvPicPr/>
          <p:nvPr/>
        </p:nvPicPr>
        <p:blipFill>
          <a:blip r:embed="rId1"/>
          <a:stretch/>
        </p:blipFill>
        <p:spPr>
          <a:xfrm>
            <a:off x="1692360" y="1341360"/>
            <a:ext cx="2303280" cy="345600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8" descr="450px-Pinus_nigra_young_tree_Bulgaria.jpg"/>
          <p:cNvPicPr/>
          <p:nvPr/>
        </p:nvPicPr>
        <p:blipFill>
          <a:blip r:embed="rId2"/>
          <a:stretch/>
        </p:blipFill>
        <p:spPr>
          <a:xfrm>
            <a:off x="4140360" y="134136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9" descr="800px-Alnus_glutinosa_011.jpg"/>
          <p:cNvPicPr/>
          <p:nvPr/>
        </p:nvPicPr>
        <p:blipFill>
          <a:blip r:embed="rId3"/>
          <a:stretch/>
        </p:blipFill>
        <p:spPr>
          <a:xfrm>
            <a:off x="4140360" y="3141720"/>
            <a:ext cx="2376360" cy="1685880"/>
          </a:xfrm>
          <a:prstGeom prst="rect">
            <a:avLst/>
          </a:prstGeom>
          <a:ln w="0">
            <a:noFill/>
          </a:ln>
        </p:spPr>
      </p:pic>
      <p:sp>
        <p:nvSpPr>
          <p:cNvPr id="37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LIST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2"/>
          <p:cNvSpPr/>
          <p:nvPr/>
        </p:nvSpPr>
        <p:spPr>
          <a:xfrm>
            <a:off x="324000" y="1268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uk (Fag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až 4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ub (Quer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neopadáva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60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lše (Al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rostou rychle ale do malé vý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3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Obrázek 9" descr="800px-Polabi.jpg"/>
          <p:cNvPicPr/>
          <p:nvPr/>
        </p:nvPicPr>
        <p:blipFill>
          <a:blip r:embed="rId1"/>
          <a:stretch/>
        </p:blipFill>
        <p:spPr>
          <a:xfrm>
            <a:off x="2484360" y="3284640"/>
            <a:ext cx="1785960" cy="24494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8" descr="450px-Pinus_nigra_young_tree_Bulgaria.jpg"/>
          <p:cNvPicPr/>
          <p:nvPr/>
        </p:nvPicPr>
        <p:blipFill>
          <a:blip r:embed="rId2"/>
          <a:stretch/>
        </p:blipFill>
        <p:spPr>
          <a:xfrm>
            <a:off x="3203640" y="1484280"/>
            <a:ext cx="2238480" cy="167652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9" descr="800px-Alnus_glutinosa_011.jpg"/>
          <p:cNvPicPr/>
          <p:nvPr/>
        </p:nvPicPr>
        <p:blipFill>
          <a:blip r:embed="rId3"/>
          <a:stretch/>
        </p:blipFill>
        <p:spPr>
          <a:xfrm>
            <a:off x="4427640" y="3284640"/>
            <a:ext cx="1873080" cy="2496960"/>
          </a:xfrm>
          <a:prstGeom prst="rect">
            <a:avLst/>
          </a:prstGeom>
          <a:ln w="0">
            <a:noFill/>
          </a:ln>
        </p:spPr>
      </p:pic>
      <p:sp>
        <p:nvSpPr>
          <p:cNvPr id="38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LIST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12"/>
          <p:cNvSpPr/>
          <p:nvPr/>
        </p:nvSpPr>
        <p:spPr>
          <a:xfrm>
            <a:off x="324000" y="12682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říza (Bet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bílá ků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2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opol (Populu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Jasan (Fraxi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měkké dřevo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- v ČR 2 dru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100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ruhů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6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rázek 8" descr="800px-Krusne_hory_CZ_I3A-2.png"/>
          <p:cNvPicPr/>
          <p:nvPr/>
        </p:nvPicPr>
        <p:blipFill>
          <a:blip r:embed="rId1"/>
          <a:stretch/>
        </p:blipFill>
        <p:spPr>
          <a:xfrm>
            <a:off x="4140360" y="2349360"/>
            <a:ext cx="1857240" cy="1224000"/>
          </a:xfrm>
          <a:prstGeom prst="rect">
            <a:avLst/>
          </a:prstGeom>
          <a:ln w="0">
            <a:noFill/>
          </a:ln>
        </p:spPr>
      </p:pic>
      <p:pic>
        <p:nvPicPr>
          <p:cNvPr id="386" name="Obrázek 9" descr="280px-Arborophila_brunneopectus_male_-_Kaeng_Krachan.jpg"/>
          <p:cNvPicPr/>
          <p:nvPr/>
        </p:nvPicPr>
        <p:blipFill>
          <a:blip r:embed="rId2"/>
          <a:stretch/>
        </p:blipFill>
        <p:spPr>
          <a:xfrm>
            <a:off x="826920" y="2708280"/>
            <a:ext cx="1833840" cy="1225440"/>
          </a:xfrm>
          <a:prstGeom prst="rect">
            <a:avLst/>
          </a:prstGeom>
          <a:ln w="0">
            <a:noFill/>
          </a:ln>
        </p:spPr>
      </p:pic>
      <p:pic>
        <p:nvPicPr>
          <p:cNvPr id="387" name="Obrázek 9" descr="800px-Jizerske_hory_CZ_I4A-6.png"/>
          <p:cNvPicPr/>
          <p:nvPr/>
        </p:nvPicPr>
        <p:blipFill>
          <a:blip r:embed="rId3"/>
          <a:stretch/>
        </p:blipFill>
        <p:spPr>
          <a:xfrm>
            <a:off x="4716360" y="4653000"/>
            <a:ext cx="1981440" cy="1297080"/>
          </a:xfrm>
          <a:prstGeom prst="rect">
            <a:avLst/>
          </a:prstGeom>
          <a:ln w="0">
            <a:noFill/>
          </a:ln>
        </p:spPr>
      </p:pic>
      <p:pic>
        <p:nvPicPr>
          <p:cNvPr id="388" name="Obrázek 6" descr="800px-Sumava_CZ_I1B-1.png"/>
          <p:cNvPicPr/>
          <p:nvPr/>
        </p:nvPicPr>
        <p:blipFill>
          <a:blip r:embed="rId4"/>
          <a:stretch/>
        </p:blipFill>
        <p:spPr>
          <a:xfrm>
            <a:off x="2556000" y="1484280"/>
            <a:ext cx="1670040" cy="1297080"/>
          </a:xfrm>
          <a:prstGeom prst="rect">
            <a:avLst/>
          </a:prstGeom>
          <a:ln w="0">
            <a:noFill/>
          </a:ln>
        </p:spPr>
      </p:pic>
      <p:pic>
        <p:nvPicPr>
          <p:cNvPr id="389" name="Obrázek 7" descr="800px-Cesky_les_CZ_I1A-1.png"/>
          <p:cNvPicPr/>
          <p:nvPr/>
        </p:nvPicPr>
        <p:blipFill>
          <a:blip r:embed="rId5"/>
          <a:stretch/>
        </p:blipFill>
        <p:spPr>
          <a:xfrm>
            <a:off x="2484360" y="3573360"/>
            <a:ext cx="2266920" cy="1511280"/>
          </a:xfrm>
          <a:prstGeom prst="rect">
            <a:avLst/>
          </a:prstGeom>
          <a:ln w="0">
            <a:noFill/>
          </a:ln>
        </p:spPr>
      </p:pic>
      <p:sp>
        <p:nvSpPr>
          <p:cNvPr id="39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ZVÍŘATA ŽIJÍCÍ V NÍŽINÁCH, U VODY A VE VOD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AUN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12"/>
          <p:cNvSpPr/>
          <p:nvPr/>
        </p:nvSpPr>
        <p:spPr>
          <a:xfrm>
            <a:off x="468360" y="14842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táci (Ave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Obojživelné (Amphib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bažant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- žá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korop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Savci (Mammalia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yby (Osteichthy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zajíc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- Ce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Obrázek 7" descr="800px-Cesky_les_CZ_I1A-1.png"/>
          <p:cNvPicPr/>
          <p:nvPr/>
        </p:nvPicPr>
        <p:blipFill>
          <a:blip r:embed="rId1"/>
          <a:stretch/>
        </p:blipFill>
        <p:spPr>
          <a:xfrm>
            <a:off x="7472520" y="3213000"/>
            <a:ext cx="1671480" cy="1079640"/>
          </a:xfrm>
          <a:prstGeom prst="rect">
            <a:avLst/>
          </a:prstGeom>
          <a:ln w="0">
            <a:noFill/>
          </a:ln>
        </p:spPr>
      </p:pic>
      <p:pic>
        <p:nvPicPr>
          <p:cNvPr id="395" name="Obrázek 14" descr="800px-Taxidea_taxus.jpg"/>
          <p:cNvPicPr/>
          <p:nvPr/>
        </p:nvPicPr>
        <p:blipFill>
          <a:blip r:embed="rId2"/>
          <a:stretch/>
        </p:blipFill>
        <p:spPr>
          <a:xfrm>
            <a:off x="5940360" y="4941720"/>
            <a:ext cx="1725840" cy="1151280"/>
          </a:xfrm>
          <a:prstGeom prst="rect">
            <a:avLst/>
          </a:prstGeom>
          <a:ln w="0">
            <a:noFill/>
          </a:ln>
        </p:spPr>
      </p:pic>
      <p:pic>
        <p:nvPicPr>
          <p:cNvPr id="396" name="Obrázek 9" descr="800px-Jizerske_hory_CZ_I4A-6.png"/>
          <p:cNvPicPr/>
          <p:nvPr/>
        </p:nvPicPr>
        <p:blipFill>
          <a:blip r:embed="rId3"/>
          <a:stretch/>
        </p:blipFill>
        <p:spPr>
          <a:xfrm>
            <a:off x="6875640" y="2133720"/>
            <a:ext cx="1728720" cy="1171440"/>
          </a:xfrm>
          <a:prstGeom prst="rect">
            <a:avLst/>
          </a:prstGeom>
          <a:ln w="0">
            <a:noFill/>
          </a:ln>
        </p:spPr>
      </p:pic>
      <p:pic>
        <p:nvPicPr>
          <p:cNvPr id="397" name="Obrázek 6" descr="800px-Sumava_CZ_I1B-1.png"/>
          <p:cNvPicPr/>
          <p:nvPr/>
        </p:nvPicPr>
        <p:blipFill>
          <a:blip r:embed="rId4"/>
          <a:stretch/>
        </p:blipFill>
        <p:spPr>
          <a:xfrm>
            <a:off x="7093080" y="4221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98" name="Obrázek 9" descr="280px-Arborophila_brunneopectus_male_-_Kaeng_Krachan.jpg"/>
          <p:cNvPicPr/>
          <p:nvPr/>
        </p:nvPicPr>
        <p:blipFill>
          <a:blip r:embed="rId5"/>
          <a:stretch/>
        </p:blipFill>
        <p:spPr>
          <a:xfrm>
            <a:off x="2484360" y="1700280"/>
            <a:ext cx="1224000" cy="1866960"/>
          </a:xfrm>
          <a:prstGeom prst="rect">
            <a:avLst/>
          </a:prstGeom>
          <a:ln w="0">
            <a:noFill/>
          </a:ln>
        </p:spPr>
      </p:pic>
      <p:sp>
        <p:nvSpPr>
          <p:cNvPr id="39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ZVÍŘATA ŽIJÍCÍ NA HORÁCH A V LES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AUN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8" descr="800px-Krusne_hory_CZ_I3A-2.png"/>
          <p:cNvPicPr/>
          <p:nvPr/>
        </p:nvPicPr>
        <p:blipFill>
          <a:blip r:embed="rId6"/>
          <a:stretch/>
        </p:blipFill>
        <p:spPr>
          <a:xfrm>
            <a:off x="6012000" y="1052640"/>
            <a:ext cx="1858680" cy="1215720"/>
          </a:xfrm>
          <a:prstGeom prst="rect">
            <a:avLst/>
          </a:prstGeom>
          <a:ln w="0">
            <a:noFill/>
          </a:ln>
        </p:spPr>
      </p:pic>
      <p:pic>
        <p:nvPicPr>
          <p:cNvPr id="403" name="Diagram 23" descr=""/>
          <p:cNvPicPr/>
          <p:nvPr/>
        </p:nvPicPr>
        <p:blipFill>
          <a:blip r:embed="rId7"/>
          <a:stretch/>
        </p:blipFill>
        <p:spPr>
          <a:xfrm>
            <a:off x="2981160" y="1109520"/>
            <a:ext cx="4187880" cy="4784760"/>
          </a:xfrm>
          <a:prstGeom prst="rect">
            <a:avLst/>
          </a:prstGeom>
          <a:ln w="0">
            <a:noFill/>
          </a:ln>
        </p:spPr>
      </p:pic>
      <p:pic>
        <p:nvPicPr>
          <p:cNvPr id="404" name="Diagram 25" descr=""/>
          <p:cNvPicPr/>
          <p:nvPr/>
        </p:nvPicPr>
        <p:blipFill>
          <a:blip r:embed="rId8"/>
          <a:stretch/>
        </p:blipFill>
        <p:spPr>
          <a:xfrm>
            <a:off x="-6480" y="1127160"/>
            <a:ext cx="24638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BYVATELÉ Č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Če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oravan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lezan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ěm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usov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lá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ietnam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kraji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Schoolbook"/>
              </a:rPr>
              <a:t>Obča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Schoolbook"/>
              </a:rPr>
              <a:t>Zde žijící cizin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Obdélník 6"/>
          <p:cNvSpPr/>
          <p:nvPr/>
        </p:nvSpPr>
        <p:spPr>
          <a:xfrm>
            <a:off x="611280" y="573264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Vytvořeno dne 4. 1. 20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39:24Z</dcterms:modified>
  <cp:revision>116</cp:revision>
  <dc:subject/>
  <dc:title>č. 21 – Česká republika a Evropa - opakování</dc:title>
</cp:coreProperties>
</file>