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FB25-D587-4F55-9241-D9C1602632D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D903-80C7-4891-83B8-9E467BCA790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E1F9-2E2A-4E56-9935-253B1CC7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1FD5-5BF7-4BDC-A674-17D03A22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F8CF-1E76-4B82-8AED-8695BFD1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5BFE-3307-4B2F-98B4-08954C05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B4C0-76AA-429E-BF96-773B4DF0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35C4-5C03-45B8-8B62-D72D1BD8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466E-1468-42F0-BD95-E9908ED1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107E-CCCE-4305-925F-FF912C77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B0B7-8F00-4775-BFBC-D854EAF8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234D-0E17-42C4-BC3D-CE1D7EE5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38D5-F49C-453A-8032-80BF4CD0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FC3D-DEF3-4D98-A94C-B3F9FDF3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6FB1-5B8F-4817-A06E-8DC8149D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CD2E-84E5-4FB0-BD07-139ED422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5352-2814-43D5-BADA-355977F6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D1F1-C74B-4621-B3A8-DB414EEFA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A94E-49BB-4C6A-BD14-041847F7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593D-3F7F-4C10-930E-44ECA481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25AF-EB3E-48B7-83E1-7511544D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06EB-208C-4F65-92E2-40994103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1DB7-32D8-40DD-9532-5B1FD74F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0E8F-8F41-44E6-8322-36239671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0964-CE0A-4EE1-98A9-E4C44221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834C-276C-4C00-80EF-E6EC3FAF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7496-FADB-49E6-9093-2E94B4639A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440C-ED20-46B9-90BA-0BF172BCAED9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1071720"/>
            <a:ext cx="777240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00"/>
                </a:solidFill>
                <a:latin typeface="Arial Black"/>
              </a:rPr>
              <a:t>Cvičná prezentac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67816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b7"/>
                </a:solidFill>
                <a:latin typeface="Arial"/>
              </a:rPr>
              <a:t>Společný postup tvorby prezentace v MS PowerPoin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Zástupný symbol pro zápatí 4"/>
          <p:cNvSpPr/>
          <p:nvPr/>
        </p:nvSpPr>
        <p:spPr>
          <a:xfrm>
            <a:off x="1357200" y="5715000"/>
            <a:ext cx="7072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1835280" y="3500280"/>
            <a:ext cx="5752800" cy="140040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VELKÝ PÁTEK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85880" y="1928880"/>
            <a:ext cx="754992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Velký páte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e lidé chodili mýt do potoka, aby se jim vyhýbaly choroby. Někde se chlapci potápěli a snažili se ústy uchopit ze dna vody kamínek, který pak hodili levačkou za hlavu - pak je nebolely zuby. Textilníci předli pašijové nitě, těmi udělali několik stehů, které pak rodinu chránily před uhranutím a zlými duchy. Košile ušitá pašijovými nitěmi chránila před bleskem. Nesmělo se prát prádlo, nesmělo se pracovat v sadu, nesmělo se nic půjčovat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0" descr="C:\Documents and Settings\Spravce\Dokumenty\Kliparty\Kliparty_1\WMF\Udalosti\eve_9104.wmf"/>
          <p:cNvPicPr/>
          <p:nvPr/>
        </p:nvPicPr>
        <p:blipFill>
          <a:blip r:embed="rId1"/>
          <a:stretch/>
        </p:blipFill>
        <p:spPr>
          <a:xfrm>
            <a:off x="8215200" y="600084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42" name="Zástupný symbol pro zápatí 4"/>
          <p:cNvSpPr/>
          <p:nvPr/>
        </p:nvSpPr>
        <p:spPr>
          <a:xfrm>
            <a:off x="1357200" y="6245280"/>
            <a:ext cx="66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BÍLÁ SOBOTA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62192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Bílo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sobotu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e z ohořelých dřívek udělal křížek a ten se donesl na pole, aby bylo úrodné. Někde se dávaly za trámy domu uhlíky, aby odradily požár. Doma se uklízelo, bílilo, pekly se mazance a beránci, pletly pomlázky, zdobila vajíčk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0" descr="C:\Documents and Settings\Spravce\Dokumenty\Kliparty\Kliparty_1\WMF\Udalosti\eve_9104.wmf"/>
          <p:cNvPicPr/>
          <p:nvPr/>
        </p:nvPicPr>
        <p:blipFill>
          <a:blip r:embed="rId1"/>
          <a:stretch/>
        </p:blipFill>
        <p:spPr>
          <a:xfrm>
            <a:off x="8072280" y="598500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46" name="Zástupný symbol pro zápatí 4"/>
          <p:cNvSpPr/>
          <p:nvPr/>
        </p:nvSpPr>
        <p:spPr>
          <a:xfrm>
            <a:off x="1357200" y="6245280"/>
            <a:ext cx="657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BOŽÍ HOD VELIKONOČNÍ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6560" y="2924280"/>
            <a:ext cx="72630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Boží hod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velikonoční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stala každá návštěva kousek posvěceného jídla, trochu se ho dalo na pole, do studny a na zahradu - aby byla úroda, voda a dostatek ovoce.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10" descr="C:\Documents and Settings\Spravce\Dokumenty\Kliparty\Kliparty_1\WMF\Udalosti\eve_9104.wmf"/>
          <p:cNvPicPr/>
          <p:nvPr/>
        </p:nvPicPr>
        <p:blipFill>
          <a:blip r:embed="rId1"/>
          <a:stretch/>
        </p:blipFill>
        <p:spPr>
          <a:xfrm>
            <a:off x="8072280" y="600084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50" name="Zástupný symbol pro zápatí 4"/>
          <p:cNvSpPr/>
          <p:nvPr/>
        </p:nvSpPr>
        <p:spPr>
          <a:xfrm>
            <a:off x="1143000" y="6245280"/>
            <a:ext cx="678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VELIKONOČNÍ</a:t>
            </a:r>
            <a:br>
              <a:rPr sz="7200"/>
            </a:b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PONDĚLÍ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26920" y="2708280"/>
            <a:ext cx="8066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Velikonoční ponděl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je dnem, který následuje po neděli Zmrtvýchvstání Páně. U nás je spojeno s nejrůznějšími tradicemi a zvyklostmi, které lze zařadit k rituálům nastávajícího jar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našich krajích je zvykem chodit s  pomlázkou, což je pletený prut, kterým chlapci bijí děvčata z okolí. Za to dostanou malovaná vajíčka čili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cs-CZ" sz="2800" spc="-1" strike="noStrike">
                <a:solidFill>
                  <a:srgbClr val="00b0f0"/>
                </a:solidFill>
                <a:latin typeface="Arial"/>
              </a:rPr>
              <a:t>a</a:t>
            </a:r>
            <a:r>
              <a:rPr b="1" lang="cs-CZ" sz="2800" spc="-1" strike="noStrike">
                <a:solidFill>
                  <a:srgbClr val="161616"/>
                </a:solidFill>
                <a:latin typeface="Arial"/>
              </a:rPr>
              <a:t>s</a:t>
            </a:r>
            <a:r>
              <a:rPr b="1" lang="cs-CZ" sz="2800" spc="-1" strike="noStrike">
                <a:solidFill>
                  <a:srgbClr val="66ff66"/>
                </a:solidFill>
                <a:latin typeface="Arial"/>
              </a:rPr>
              <a:t>l</a:t>
            </a:r>
            <a:r>
              <a:rPr b="1" lang="cs-CZ" sz="2800" spc="-1" strike="noStrike">
                <a:solidFill>
                  <a:srgbClr val="ffc000"/>
                </a:solidFill>
                <a:latin typeface="Arial"/>
              </a:rPr>
              <a:t>i</a:t>
            </a:r>
            <a:r>
              <a:rPr b="1" lang="cs-CZ" sz="2800" spc="-1" strike="noStrike">
                <a:solidFill>
                  <a:srgbClr val="d82852"/>
                </a:solidFill>
                <a:latin typeface="Arial"/>
              </a:rPr>
              <a:t>c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0" descr="C:\Documents and Settings\Spravce\Dokumenty\Kliparty\Kliparty_1\WMF\Udalosti\eve_9104.wmf"/>
          <p:cNvPicPr/>
          <p:nvPr/>
        </p:nvPicPr>
        <p:blipFill>
          <a:blip r:embed="rId1"/>
          <a:stretch/>
        </p:blipFill>
        <p:spPr>
          <a:xfrm>
            <a:off x="8072280" y="598500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54" name="Zástupný symbol pro zápatí 4"/>
          <p:cNvSpPr/>
          <p:nvPr/>
        </p:nvSpPr>
        <p:spPr>
          <a:xfrm>
            <a:off x="1357200" y="6245280"/>
            <a:ext cx="6500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9" descr="C:\Documents and Settings\Spravce\Dokumenty\Kliparty\Kliparty_3\WMF\Vira\rel10016.wmf"/>
          <p:cNvPicPr/>
          <p:nvPr/>
        </p:nvPicPr>
        <p:blipFill>
          <a:blip r:embed="rId1"/>
          <a:stretch/>
        </p:blipFill>
        <p:spPr>
          <a:xfrm flipH="1">
            <a:off x="1071720" y="1071720"/>
            <a:ext cx="2146320" cy="4456080"/>
          </a:xfrm>
          <a:prstGeom prst="rect">
            <a:avLst/>
          </a:prstGeom>
          <a:ln w="0">
            <a:noFill/>
          </a:ln>
        </p:spPr>
      </p:pic>
      <p:pic>
        <p:nvPicPr>
          <p:cNvPr id="156" name="Obdélník 6" descr=""/>
          <p:cNvPicPr/>
          <p:nvPr/>
        </p:nvPicPr>
        <p:blipFill>
          <a:blip r:embed="rId2"/>
          <a:stretch/>
        </p:blipFill>
        <p:spPr>
          <a:xfrm>
            <a:off x="2955960" y="1566720"/>
            <a:ext cx="6065640" cy="2224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C:\Documents and Settings\Spravce\Dokumenty\Kliparty\Kliparty_1\WMF\Udalosti\eve_9104.wmf"/>
          <p:cNvPicPr/>
          <p:nvPr/>
        </p:nvPicPr>
        <p:blipFill>
          <a:blip r:embed="rId3"/>
          <a:stretch/>
        </p:blipFill>
        <p:spPr>
          <a:xfrm>
            <a:off x="8072280" y="598500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58" name="Zástupný symbol pro zápatí 5"/>
          <p:cNvSpPr/>
          <p:nvPr/>
        </p:nvSpPr>
        <p:spPr>
          <a:xfrm>
            <a:off x="2124000" y="6143760"/>
            <a:ext cx="587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Zástupný symbol pro zápatí 3"/>
          <p:cNvSpPr/>
          <p:nvPr/>
        </p:nvSpPr>
        <p:spPr>
          <a:xfrm>
            <a:off x="1116000" y="5708520"/>
            <a:ext cx="727236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Vytvořeno dne  18. 1. 201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14200" y="981000"/>
          <a:ext cx="8715600" cy="4281480"/>
        </p:xfrm>
        <a:graphic>
          <a:graphicData uri="http://schemas.openxmlformats.org/drawingml/2006/table">
            <a:tbl>
              <a:tblPr/>
              <a:tblGrid>
                <a:gridCol w="3372120"/>
                <a:gridCol w="534348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ičná prezentace - společný postup tvorby prezentace v MS PowerPoint 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zentace seznamuje žáky s jednotlivými kroky tvorby prezentace  na dané téma. Žáci si společně přímou prací na PC procvičí tvorbu  prezentac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 – ovládat základy psaní na klávesnici, na uživatelské úrovni práci s textovým editorem, využívat vhodné aplik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zentace, pracovní li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ýklad, aktivit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Rectangle 1"/>
          <p:cNvSpPr/>
          <p:nvPr/>
        </p:nvSpPr>
        <p:spPr>
          <a:xfrm>
            <a:off x="179280" y="4244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č.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582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 Black"/>
              </a:rPr>
              <a:t>Úkol: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Arial Black"/>
              </a:rPr>
              <a:t>      </a:t>
            </a:r>
            <a:r>
              <a:rPr b="1" lang="cs-CZ" sz="2400" spc="-1" strike="noStrike">
                <a:solidFill>
                  <a:srgbClr val="ffffb7"/>
                </a:solidFill>
                <a:latin typeface="Arial Black"/>
              </a:rPr>
              <a:t>Společná tvorba prezentace na téma Velikonoce 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85716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 Black"/>
              </a:rPr>
              <a:t>Postu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puštěním programu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owerPoin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e objeví na ploš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vní prázdný snímek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rezentace většinou jen pro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adpis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anelu nástrojů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ikneme 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tlačítko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ávrh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 po straně se nám otevře okno s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šablonou grafických návrh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barevným spektrem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nimačním schématem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ybereme pro všechny snímky a vše potvrdíme kliknutí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ový snímek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tvoříme kliknutím 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tlačítko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se stejným nápisem v 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anelu nástroj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Po straně se nám otevře okno se způsoby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rozložení snímk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Vyberem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(Nadpis a obsah)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potvrdíme kliknutí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Text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doplníme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opírováním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 předlohy po kliknutím do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textového pole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upravujem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ho přes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anel nástroj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adpis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upravíme 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velikost 72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tučně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žlutě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Text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upravíme 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velikost 32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ázev dn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ztučním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 prezentace vložím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Klipart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upravíme  jejich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velik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otovou prezentaci spustím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abídkou Prezentace – Spustit prezentac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Zástupný symbol pro zápatí 3"/>
          <p:cNvSpPr/>
          <p:nvPr/>
        </p:nvSpPr>
        <p:spPr>
          <a:xfrm>
            <a:off x="928800" y="6072120"/>
            <a:ext cx="75722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Vytvořeno dne 18.1. 201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83851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0"/>
            <a:ext cx="91440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1.    VELIKONO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2.   ŠKAREDÁ STŘE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škaredou středu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se nesmíte mračit, jinak se budete mračit každou středu v roce. Na škaredou středu začínaly tři přísné postní dny. Ženy se oblékaly do tmavých obleků. Končila všechna společenská posedávání, muži omezili kouření a pití. Hlavním pokrmem byla čočka a hrách. Začínala se již také malovat vejce, aby byla připravena na pomlázk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3.    ZELENÝ ČTVRT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Zelený čtvrtek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musíte časně vstát a omýt se rosou - nebudete nemocní. Hospodyně musí zamést dům ještě před východem slunce a smetí odnést na křižovatku - nebudete mít v domě blechy. V Orlických horách se házel do studny chléb s medem - aby v ní byla voda celý rok. Také jidáše s medem zaručovaly zdraví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4.     VELKÝ PÁT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elký pátek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se lidé chodili mýt do potoka, aby se jim vyhýbaly choroby. Někde se chlapci potápěli a snažili se ústy uchopit ze dna vody kamínek, který pak hodili levačkou za hlavu - pak je nebolely zuby. Textilníci předli pašijové nitě, těmi udělali několik stehů, které pak rodinu chránily před uhranutím a zlými duchy. Košile ušitá pašijovými nitěmi chránila před bleskem. Nesmělo se prát prádlo, nesmělo se pracovat v sadu, nesmělo se nic půjčov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5.     BÍLÁ SOBO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Bílou sobotu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se z ohořelých dřívek udělal křížek a ten se donesl na pole, aby bylo úrodné. Někde se dávaly za trámy domu uhlíky, aby odradily požár. Doma se uklízelo, bílilo, pekly se mazance a beránci, pletly pomlázky, zdobila vajíčk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6.     BOŽÍ HOD VELIKONOČNÍ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Boží hod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elikonoční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dostala každá návštěva kousek posvěceného jídla, trochu se ho dalo na pole, do studny a na zahradu - aby byla úroda, voda a dostatek ovoc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7.     VELIKONOČNÍ PONDĚLÍ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elikonoční pondělí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je dnem, který následuje po neděli Zmrtvýchvstání Páně. U nás je spojeno s nejrůznějšími tradicemi a zvyklostmi, které lze zařadit k rituálům nastávajícího jara. V našich krajích je zvykem chodit s pomlázkou, což je pletený prut, kterým chlapci bijí děvčata z okolí. Za to dostanou malovaná vajíčka čili kraslic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8.     VESELÉ VELIKONOCE přeje 8. tří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 Black"/>
              </a:rPr>
              <a:t>Obrázky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Zástupný symbol pro zápatí 2"/>
          <p:cNvSpPr/>
          <p:nvPr/>
        </p:nvSpPr>
        <p:spPr>
          <a:xfrm>
            <a:off x="1214280" y="6143760"/>
            <a:ext cx="7358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7" descr="C:\Documents and Settings\Spravce\Dokumenty\Kliparty\Kliparty_3\WMF\Prilezitosti\eve10007.wmf"/>
          <p:cNvPicPr/>
          <p:nvPr/>
        </p:nvPicPr>
        <p:blipFill>
          <a:blip r:embed="rId1"/>
          <a:stretch/>
        </p:blipFill>
        <p:spPr>
          <a:xfrm>
            <a:off x="5214960" y="1785960"/>
            <a:ext cx="3494160" cy="3597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C:\Documents and Settings\Spravce\Dokumenty\Kliparty\Kliparty_1\WMF\Udalosti\eve_9104.wmf"/>
          <p:cNvPicPr/>
          <p:nvPr/>
        </p:nvPicPr>
        <p:blipFill>
          <a:blip r:embed="rId2"/>
          <a:stretch/>
        </p:blipFill>
        <p:spPr>
          <a:xfrm>
            <a:off x="3929040" y="1571760"/>
            <a:ext cx="1698480" cy="1468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C:\Documents and Settings\Spravce\Dokumenty\Kliparty\Kliparty_3\WMF\Vira\rel10016.wmf"/>
          <p:cNvPicPr/>
          <p:nvPr/>
        </p:nvPicPr>
        <p:blipFill>
          <a:blip r:embed="rId3"/>
          <a:stretch/>
        </p:blipFill>
        <p:spPr>
          <a:xfrm flipH="1">
            <a:off x="1143000" y="1428840"/>
            <a:ext cx="2146320" cy="445608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3851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 Black"/>
              </a:rPr>
              <a:t>Internetové zdroje obrázků</a:t>
            </a:r>
            <a:r>
              <a:rPr b="1" lang="cs-CZ" sz="3200" spc="-1" strike="noStrike">
                <a:solidFill>
                  <a:srgbClr val="ffff4a"/>
                </a:solidFill>
                <a:latin typeface="Arial Black"/>
              </a:rPr>
              <a:t>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13880" y="1143000"/>
            <a:ext cx="80074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Všechny uveřejněné odkazy 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[cit. 2012-01-18] dostupné pod licencí </a:t>
            </a: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office. microsof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Zdroje obrázků:  vajíčko - [eve_9104]. Dostupný pod licencí office. microsof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                            </a:t>
            </a: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pomlázka - [eve_10007]. Dostupný pod licencí office. microsof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                             </a:t>
            </a: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oltář - [rel_10016]. Dostupný pod licencí office. microsof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1428840" y="6072120"/>
            <a:ext cx="70722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fff00"/>
                </a:solidFill>
                <a:latin typeface="Arial Black"/>
              </a:rPr>
              <a:t>VELIKONOCE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Picture 7" descr="C:\Documents and Settings\Spravce\Dokumenty\Kliparty\Kliparty_3\WMF\Prilezitosti\eve10007.wmf"/>
          <p:cNvPicPr/>
          <p:nvPr/>
        </p:nvPicPr>
        <p:blipFill>
          <a:blip r:embed="rId1"/>
          <a:stretch/>
        </p:blipFill>
        <p:spPr>
          <a:xfrm>
            <a:off x="4572000" y="2357280"/>
            <a:ext cx="3494160" cy="3597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C:\Documents and Settings\Spravce\Dokumenty\Kliparty\Kliparty_1\WMF\Udalosti\eve_9104.wmf"/>
          <p:cNvPicPr/>
          <p:nvPr/>
        </p:nvPicPr>
        <p:blipFill>
          <a:blip r:embed="rId2"/>
          <a:stretch/>
        </p:blipFill>
        <p:spPr>
          <a:xfrm>
            <a:off x="1714680" y="2786040"/>
            <a:ext cx="1698480" cy="1468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C:\Documents and Settings\Spravce\Dokumenty\Kliparty\Kliparty_1\WMF\Udalosti\eve_9104.wmf"/>
          <p:cNvPicPr/>
          <p:nvPr/>
        </p:nvPicPr>
        <p:blipFill>
          <a:blip r:embed="rId3"/>
          <a:stretch/>
        </p:blipFill>
        <p:spPr>
          <a:xfrm>
            <a:off x="8072280" y="598500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29" name="TextovéPole 6"/>
          <p:cNvSpPr/>
          <p:nvPr/>
        </p:nvSpPr>
        <p:spPr>
          <a:xfrm>
            <a:off x="3643200" y="19288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Správné řeš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Zástupný symbol pro zápatí 7"/>
          <p:cNvSpPr/>
          <p:nvPr/>
        </p:nvSpPr>
        <p:spPr>
          <a:xfrm>
            <a:off x="1500120" y="6286680"/>
            <a:ext cx="64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07552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ŠKAREDÁ </a:t>
            </a:r>
            <a:br>
              <a:rPr sz="7200"/>
            </a:b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STŘEDA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85520" y="2356920"/>
            <a:ext cx="7047000" cy="36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škaredou středu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e nesmíte mračit, jinak se budete mračit každou středu v ro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škaredou středu začínaly tři přísné postní dny. Ženy se oblékaly do tmavých obleků. Končila všechna společenská posedávání, muži omezili kouření a pití. Hlavním pokrmem byla čočka a hrách. Začínala se již také malovat vejce, aby byla připravena na pomlázku. 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10" descr="C:\Documents and Settings\Spravce\Dokumenty\Kliparty\Kliparty_1\WMF\Udalosti\eve_9104.wmf"/>
          <p:cNvPicPr/>
          <p:nvPr/>
        </p:nvPicPr>
        <p:blipFill>
          <a:blip r:embed="rId1"/>
          <a:stretch/>
        </p:blipFill>
        <p:spPr>
          <a:xfrm>
            <a:off x="8072280" y="598500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34" name="Zástupný symbol pro zápatí 4"/>
          <p:cNvSpPr/>
          <p:nvPr/>
        </p:nvSpPr>
        <p:spPr>
          <a:xfrm>
            <a:off x="1214280" y="6308640"/>
            <a:ext cx="69296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ZELENÝ ČTVRTEK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6560" y="2781360"/>
            <a:ext cx="726300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Zelený čtvrtek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usíte časně vstát a omýt se rosou - nebudete nemocní. Hospodyně musí zamést dům ještě před východem slunce a smetí odnést na křižovatku - nebudete mít v domě blechy. V Orlických horách se házel do studny chléb s medem - aby v ní byla voda celý rok. Také jidáše s medem zaručovaly zdrav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0" descr="C:\Documents and Settings\Spravce\Dokumenty\Kliparty\Kliparty_1\WMF\Udalosti\eve_9104.wmf"/>
          <p:cNvPicPr/>
          <p:nvPr/>
        </p:nvPicPr>
        <p:blipFill>
          <a:blip r:embed="rId1"/>
          <a:stretch/>
        </p:blipFill>
        <p:spPr>
          <a:xfrm>
            <a:off x="8072280" y="598500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38" name="Zástupný symbol pro zápatí 4"/>
          <p:cNvSpPr/>
          <p:nvPr/>
        </p:nvSpPr>
        <p:spPr>
          <a:xfrm>
            <a:off x="1500120" y="6245280"/>
            <a:ext cx="6357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0:10:19Z</dcterms:created>
  <dc:creator>zak</dc:creator>
  <dc:description/>
  <dc:language>en-US</dc:language>
  <cp:lastModifiedBy>martina</cp:lastModifiedBy>
  <dcterms:modified xsi:type="dcterms:W3CDTF">2013-08-22T15:04:34Z</dcterms:modified>
  <cp:revision>49</cp:revision>
  <dc:subject/>
  <dc:title>VELIKONCE</dc:title>
</cp:coreProperties>
</file>