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252-3902-4780-932D-DD4DB6F6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98F-9AD3-4A97-8440-C38184CC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266-C430-47CE-95DC-4009A541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7B4-5BA4-457F-9DF5-2C132DF9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362-5130-4F7E-9B28-ED828E29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DA3-BBA9-4EB2-B42A-395A3C9D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C1B-4729-4D0C-B481-800F87EE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1F7-0AE2-4CB7-95F0-4B94BC4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D4E-D421-4997-8F95-0E51943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3B5-A9DC-4B1C-8509-D3BCDE9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BBA-9843-4306-B88A-99C7B20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81D-616C-4E34-91CC-3F1CC6C6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48C1-9C36-43F4-ADAD-FAC5F872FB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USB_Flash_Drive_animated.gif?uselang=cs" TargetMode="External"/><Relationship Id="rId3" Type="http://schemas.openxmlformats.org/officeDocument/2006/relationships/hyperlink" Target="http://commons.wikimedia.org/wiki/File:Wacom_Pen-tablet_without_mouse.jpg?uselang=cs" TargetMode="External"/><Relationship Id="rId4" Type="http://schemas.openxmlformats.org/officeDocument/2006/relationships/hyperlink" Target="http://commons.wikimedia.org/wiki/File:K7_SEM_Motherboard.jpg" TargetMode="External"/><Relationship Id="rId5" Type="http://schemas.openxmlformats.org/officeDocument/2006/relationships/hyperlink" Target="http://commons.wikimedia.org/wiki/File:Hard_disk_Western_Digital_WD1200_%28dark1%29.jpg" TargetMode="External"/><Relationship Id="rId6" Type="http://schemas.openxmlformats.org/officeDocument/2006/relationships/hyperlink" Target="http://commons.wikimedia.org/wiki/File:Memory_module_DDRAM_20-03-2006.jpg" TargetMode="External"/><Relationship Id="rId7" Type="http://schemas.openxmlformats.org/officeDocument/2006/relationships/hyperlink" Target="http://commons.wikimedia.org/wiki/File:Creative_SoundBlaster_Audigy_2_%28SB0400%29-3.jpg" TargetMode="External"/><Relationship Id="rId8" Type="http://schemas.openxmlformats.org/officeDocument/2006/relationships/hyperlink" Target="http://commons.wikimedia.org/wiki/File:Ethernet_pci_card.jpg" TargetMode="External"/><Relationship Id="rId9" Type="http://schemas.openxmlformats.org/officeDocument/2006/relationships/hyperlink" Target="http://commons.wikimedia.org/wiki/File:ATI_Radeon_HD_4890_Graphics_Card-vertical_black_background_oblique_view.jpg" TargetMode="External"/><Relationship Id="rId10" Type="http://schemas.openxmlformats.org/officeDocument/2006/relationships/hyperlink" Target="http://commons.wikimedia.org/wiki/File:DVD_drive.jpg?uselang=cs" TargetMode="External"/><Relationship Id="rId11" Type="http://schemas.openxmlformats.org/officeDocument/2006/relationships/hyperlink" Target="http://commons.wikimedia.org/wiki/File:PC_Netzteil_FSP350-60MDN_Rev._A_Ansicht_1.jpg" TargetMode="External"/><Relationship Id="rId12" Type="http://schemas.openxmlformats.org/officeDocument/2006/relationships/hyperlink" Target="http://commons.wikimedia.org/wiki/File:PC_Netzteil_FSP350-60MDN_Rev._A_Ansicht_1.jpg" TargetMode="External"/><Relationship Id="rId13" Type="http://schemas.openxmlformats.org/officeDocument/2006/relationships/hyperlink" Target="http://upload.wikimedia.org/wikipedia/commons/a/a3/AM486_DX2-80_and_i486_DX2-66.jpg" TargetMode="External"/><Relationship Id="rId14" Type="http://schemas.openxmlformats.org/officeDocument/2006/relationships/hyperlink" Target="http://commons.wikimedia.org/wiki/File:Zone_Evil_Joypad_ZE-JPD-010_Green.jpg?uselang=cs" TargetMode="External"/><Relationship Id="rId15" Type="http://schemas.openxmlformats.org/officeDocument/2006/relationships/hyperlink" Target="http://commons.wikimedia.org/wiki/File:MiniDIN-6_Connector_Pinout.svg?uselang=cs" TargetMode="External"/><Relationship Id="rId16" Type="http://schemas.openxmlformats.org/officeDocument/2006/relationships/hyperlink" Target="http://commons.wikimedia.org/wiki/File:DVI-Buchse%2BStecker.JPG" TargetMode="External"/><Relationship Id="rId17" Type="http://schemas.openxmlformats.org/officeDocument/2006/relationships/hyperlink" Target="http://commons.wikimedia.org/wiki/File:USB_Connector.jpg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a periferie počítač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2428560"/>
            <a:ext cx="75009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Počíta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zařízení, které zpracovává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da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mocí předem vytvořeného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program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klad a procvičování uč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délník 3"/>
          <p:cNvSpPr/>
          <p:nvPr/>
        </p:nvSpPr>
        <p:spPr>
          <a:xfrm>
            <a:off x="1643040" y="5429160"/>
            <a:ext cx="6143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ytvořeno dne 4. 9.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Tento projekt je spolufinancován Evropským sociálním fondem a státním rozpočtem České republik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zápatí 3"/>
          <p:cNvSpPr/>
          <p:nvPr/>
        </p:nvSpPr>
        <p:spPr>
          <a:xfrm>
            <a:off x="1285920" y="5357880"/>
            <a:ext cx="7143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ware a periferie počítač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popis jednotlivých částí PC, kdy žáci samostatně pojmenují součásti a zařízení PC a roztřídí vstupní a výstupní zařízení P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dodržovat pravidla zacházení s výpočetní technik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285840" y="4291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č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é sl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fyzick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hard disk, procesor, grafická karta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programov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MS Windows, MS Office, Mac OS X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6072120"/>
            <a:ext cx="778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: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uvnitř 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propojuje jednotlivé součástky počítače do fungujícího celku a poskytuje jim elektrické napájen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ákladní součást počítače, která vykonává strojový kód spuštěného počítačov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vnitřní elektronická paměť počítače určená pro dočasné uložení zpracovávaných dat a spouštěn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evný disk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D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je zařízení, které používá počítač k dočasnému nebo trvalému uchovávání většího množství 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oučástí počítače jejímž úkolem je vytvářet grafický výstup na monitoru, grafické výpočty atd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rozšiřující karta počítače pro vstup a výstup zvukového signálu, ovládaná softwarov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IC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slouží ke vzájemné komunikaci počítačů počítačové sí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Napájecí zdroj počítač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sloužící ke zpracování střídavého napětí dodávaného ze sítě na nízké napětí potřebné k napájení komponentů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Chladič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ventilátor, který ochlazuje vnitřní prostor počítače a zabraňuje přehřá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skříň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louží k mechanickému upevnění všech ostatních vnitřních dílů a čás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4"/>
          <p:cNvSpPr/>
          <p:nvPr/>
        </p:nvSpPr>
        <p:spPr>
          <a:xfrm>
            <a:off x="500040" y="6215040"/>
            <a:ext cx="828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2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ý název k obrázk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1180800" cy="16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428840" y="85716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2786040" y="1143000"/>
            <a:ext cx="128592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3929040" y="928800"/>
            <a:ext cx="181944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5572080" y="857160"/>
            <a:ext cx="1743120" cy="16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6"/>
          <a:stretch/>
        </p:blipFill>
        <p:spPr>
          <a:xfrm>
            <a:off x="357120" y="2714760"/>
            <a:ext cx="2067120" cy="19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7"/>
          <a:stretch/>
        </p:blipFill>
        <p:spPr>
          <a:xfrm>
            <a:off x="2286000" y="3071880"/>
            <a:ext cx="174312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8"/>
          <a:stretch/>
        </p:blipFill>
        <p:spPr>
          <a:xfrm>
            <a:off x="3929040" y="3357720"/>
            <a:ext cx="1486080" cy="136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9"/>
          <a:stretch/>
        </p:blipFill>
        <p:spPr>
          <a:xfrm>
            <a:off x="5214960" y="3429000"/>
            <a:ext cx="1685880" cy="14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10"/>
          <a:stretch/>
        </p:blipFill>
        <p:spPr>
          <a:xfrm>
            <a:off x="7215120" y="1571760"/>
            <a:ext cx="1219320" cy="104760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20"/>
          <p:cNvSpPr/>
          <p:nvPr/>
        </p:nvSpPr>
        <p:spPr>
          <a:xfrm>
            <a:off x="569880" y="50007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"/>
          <p:cNvPicPr/>
          <p:nvPr/>
        </p:nvPicPr>
        <p:blipFill>
          <a:blip r:embed="rId11"/>
          <a:stretch/>
        </p:blipFill>
        <p:spPr>
          <a:xfrm>
            <a:off x="6715080" y="3214800"/>
            <a:ext cx="186696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22"/>
          <p:cNvSpPr/>
          <p:nvPr/>
        </p:nvSpPr>
        <p:spPr>
          <a:xfrm>
            <a:off x="580320" y="5357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USB flash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23"/>
          <p:cNvSpPr/>
          <p:nvPr/>
        </p:nvSpPr>
        <p:spPr>
          <a:xfrm>
            <a:off x="576000" y="57150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DVD mecha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24"/>
          <p:cNvSpPr/>
          <p:nvPr/>
        </p:nvSpPr>
        <p:spPr>
          <a:xfrm>
            <a:off x="2214720" y="500076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mikroproc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délník 25"/>
          <p:cNvSpPr/>
          <p:nvPr/>
        </p:nvSpPr>
        <p:spPr>
          <a:xfrm>
            <a:off x="2217960" y="53578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am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26"/>
          <p:cNvSpPr/>
          <p:nvPr/>
        </p:nvSpPr>
        <p:spPr>
          <a:xfrm>
            <a:off x="2357280" y="5715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tab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27"/>
          <p:cNvSpPr/>
          <p:nvPr/>
        </p:nvSpPr>
        <p:spPr>
          <a:xfrm>
            <a:off x="3861360" y="5000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8"/>
          <p:cNvSpPr/>
          <p:nvPr/>
        </p:nvSpPr>
        <p:spPr>
          <a:xfrm>
            <a:off x="3358800" y="53578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29"/>
          <p:cNvSpPr/>
          <p:nvPr/>
        </p:nvSpPr>
        <p:spPr>
          <a:xfrm>
            <a:off x="3287880" y="571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30"/>
          <p:cNvSpPr/>
          <p:nvPr/>
        </p:nvSpPr>
        <p:spPr>
          <a:xfrm>
            <a:off x="4718160" y="53578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31"/>
          <p:cNvSpPr/>
          <p:nvPr/>
        </p:nvSpPr>
        <p:spPr>
          <a:xfrm>
            <a:off x="4790520" y="57150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droj napá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2"/>
          <p:cNvSpPr/>
          <p:nvPr/>
        </p:nvSpPr>
        <p:spPr>
          <a:xfrm>
            <a:off x="5432040" y="50007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pev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AM486_DX2-80_and_i486_DX2-66"/>
          <p:cNvPicPr/>
          <p:nvPr/>
        </p:nvPicPr>
        <p:blipFill>
          <a:blip r:embed="rId12"/>
          <a:stretch/>
        </p:blipFill>
        <p:spPr>
          <a:xfrm>
            <a:off x="7072200" y="5214960"/>
            <a:ext cx="1543320" cy="809640"/>
          </a:xfrm>
          <a:prstGeom prst="rect">
            <a:avLst/>
          </a:prstGeom>
          <a:ln w="0">
            <a:noFill/>
          </a:ln>
        </p:spPr>
      </p:pic>
      <p:sp>
        <p:nvSpPr>
          <p:cNvPr id="79" name="Zástupný symbol pro zápatí 27"/>
          <p:cNvSpPr/>
          <p:nvPr/>
        </p:nvSpPr>
        <p:spPr>
          <a:xfrm>
            <a:off x="714240" y="6143760"/>
            <a:ext cx="778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, kterým počítač pořizuje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klávesnic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odvozená od klávesnice psacího stroje. Je určena ke vkládání znaků a ovládán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myš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ožňuje pohybovat kurzorem myši a vyvolávat události stiskem tlačít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amepad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k ovládání počítače při hraní počítačových 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can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ke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umožňující převedení fyzické předlohy do digitální podoby pro další využití, většinou pomoc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fon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pro přeměnu zvukového signálu na signál elektrick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ý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ává data od počítače k uživat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nit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ákladní výstupní zařízení sloužící k zobrazování textových a grafických informa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Tiskár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ařízení, které slouží k přenosu dat uložených v elektronické podobě na papí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Reprodukto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sou zvuková výstupní zaří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zápatí 4"/>
          <p:cNvSpPr/>
          <p:nvPr/>
        </p:nvSpPr>
        <p:spPr>
          <a:xfrm>
            <a:off x="714240" y="6215040"/>
            <a:ext cx="735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3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pojte 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8062920" cy="154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42960" y="928800"/>
            <a:ext cx="796140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5072040" y="53582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y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75280" y="52869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kláves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2005200" y="4858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5931360" y="5358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sk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18760" y="48582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eproduk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932160" y="49294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6001560" y="485820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zd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9"/>
          <p:cNvSpPr/>
          <p:nvPr/>
        </p:nvSpPr>
        <p:spPr>
          <a:xfrm>
            <a:off x="2076120" y="528624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002000" y="535824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5002920" y="485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3"/>
          <p:cNvSpPr/>
          <p:nvPr/>
        </p:nvSpPr>
        <p:spPr>
          <a:xfrm>
            <a:off x="577080" y="485784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flash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216960" y="52869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dataproj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zápatí 17"/>
          <p:cNvSpPr/>
          <p:nvPr/>
        </p:nvSpPr>
        <p:spPr>
          <a:xfrm>
            <a:off x="857160" y="6000840"/>
            <a:ext cx="757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Internetové zdroje obrázků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4284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šechny uveřejněné odkazy [cit. 2011-09-04] dostupné pod licencí Creative Commons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media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flash disk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mmons.wikimedia.org/wiki/File:USB_Flash_Drive_animated.gif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ablet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ommons.wikimedia.org/wiki/File:Wacom_Pen-tablet_without_mous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ladní des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commons.wikimedia.org/wiki/File:K7_SEM_Motherbo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evný disk -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commons.wikimedia.org/wiki/File:Hard_disk_Western_Digital_WD1200_%28dark1%29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perační paměť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commons.wikimedia.org/wiki/File:Memory_module_DDRAM_20-03-20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vuk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commons.wikimedia.org/wiki/File:Creative_SoundBlaster_Audigy_2_%28SB0400%29-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íť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rafick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commons.wikimedia.org/wiki/File:ATI_Radeon_HD_4890_Graphics_Card-vertical_black_background_oblique_view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D mechani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commons.wikimedia.org/wiki/File:DVD_driv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 napájení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commons.wikimedia.org/wiki/File:PC_Netzteil_FSP350-60MDN_Rev._A_Ansicht_1.jpg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ocesor -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upload.wikimedia.org/wikipedia/commons/a/a3/AM486_DX2-80_and_i486_DX2-6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amepad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commons.wikimedia.org/wiki/File:Zone_Evil_Joypad_ZE-JPD-010_Green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S/2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commons.wikimedia.org/wiki/File:MiniDIN-6_Connector_Pinout.sv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I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commons.wikimedia.org/wiki/File:DVI-Buchse%2BSteck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commons.wikimedia.org/wiki/File:USB_Connecto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GA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VGA_connector_PNr%C2%B0005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TX pover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ATX_PC_back_connectors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CR cards connector - http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RS connector – http://commons.wikimedia.org/wiki/File:Salida-entrada_de_audioplacamadre.jpg?uselang=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zápatí 4"/>
          <p:cNvSpPr/>
          <p:nvPr/>
        </p:nvSpPr>
        <p:spPr>
          <a:xfrm>
            <a:off x="571680" y="621504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42:50Z</dcterms:created>
  <dc:creator>ZS Kadan</dc:creator>
  <dc:description/>
  <dc:language>en-US</dc:language>
  <cp:lastModifiedBy>martina</cp:lastModifiedBy>
  <dcterms:modified xsi:type="dcterms:W3CDTF">2013-08-22T14:57:08Z</dcterms:modified>
  <cp:revision>44</cp:revision>
  <dc:subject/>
  <dc:title>Hardware a periferie počítače  </dc:title>
</cp:coreProperties>
</file>