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CC87-21B7-4181-B5E8-49F2D053FE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4669-D678-4E0E-93E2-78725A54BE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73E-F6B4-4C5E-A914-C32B328B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B20-9AEB-4C24-BA55-9367667C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364-31B6-4D58-8C98-C752F49D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CEB-7218-4C25-976E-20F1FF7D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2FF7-9360-4F4E-BC6C-CAF987F7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128D-88AD-481D-B105-E3A522F0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C484-291E-4864-9325-9FE9AE3B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016B-BE99-4F30-BDBC-A5351C3C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3078-2302-4A02-9B1B-9529C444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9B06-8486-401E-8B21-21CE168A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FF9F-2F8C-490B-80C6-B56C40B7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4A4-7B9B-43F9-855C-BBAA8082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7940-E8AC-4331-B70F-C4A03579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F86C-622B-4AFE-8D50-31E3EB58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7FFE-8374-4E13-8D17-55A582D4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F4E4-F4CA-41A6-8723-EB32CF30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348B-B83C-4AEE-BAE0-5F25D1D8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F955-234F-4E31-BD37-EF30EBBD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992AB-A8CC-47CF-9C90-645BD043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B99EC-CD6C-422B-9C75-95B8C262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F46BA-8168-47C7-8FFA-68B71DB0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F1217-C342-4D07-B1CE-574B1AB7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845-83E6-40F9-963F-CD4B97C4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B1049-3D10-499F-82D6-4704DC29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AA58C-A0C6-43B2-AD77-B49A5516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5810C-0154-4CF1-962E-258D3B79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14067-AB54-4698-BDA0-969B00E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6769A-6C4B-480F-B87C-2E65BB74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544C4-FF24-4FE5-8633-8881B08D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DFC3-0E44-497D-8FA1-188D67E2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A8417-A3D9-4704-89D7-67BD62BC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ED9A9-C403-40AA-8958-6398B0C3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FDB21-444E-4E08-B44E-B562C1AA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78F-B06F-4E06-92CF-1A22C1A1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16DA5-CD21-4957-898A-5D250BFB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92927-008E-46F7-88FE-DDAF38D3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46DC9-080A-4F4F-97DA-86326F20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28CC9-4D94-49EE-8512-13372CCB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939A1-B8E7-4B37-8FEB-0DE5083B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E7363-B358-4BD9-AFDD-EA289F22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04EA0-47FC-45F8-840E-F00F8E0C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84C0-D12F-4FBC-A2AF-02EF8FD2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02989-4D3E-4F3E-BB42-6FC519FE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18CC5-9B1E-4EB9-95C4-0B12AEEB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F5D-91B0-4F6F-B8BC-237690AC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1306E-E523-48C2-BABF-E2EB5570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2286A-A9E7-4BFA-84F3-1EDF0EE7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D77D7-DD32-48EE-9800-4FA31BB6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E3CFA-BABD-448A-B7CA-001ADF69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F4D34-DACE-4DC8-99BA-9C595AC0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265E4-EBC1-4858-86D7-EBBDFB92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CF7D4-A27E-4D02-86D2-FDB7FE26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3788B-F2AA-49D7-AA7E-E711270A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1659C-8AD7-47EA-9A9B-712A3A4E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AF470-8F47-4D90-91F9-9FF81918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CEB-BAD4-4523-AF64-BF2C6CA0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1039C-409E-4667-BDC2-86FBA8A5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3F330-7EC7-4DD2-8CF5-383683DC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368A8-C2B6-4CEE-8466-60FE6BF0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51AC5-B213-4E5D-BC40-5450D81A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505FC-4AF4-4906-A780-50067464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69EBD-C768-43B6-A43E-7E2C44F6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89E43-0F5F-48CF-9E20-27F49AAA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AC953-333A-45B8-BF39-C701D8E6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EBB1F-0E4A-4B65-A1EC-E8A908E9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D9427-DE78-46DA-ADFE-24306496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0A6-7313-4E38-B1B5-608AB259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9D9A1-B2F7-4CAE-AE4A-FA8F9D94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574EF-7B74-4B7E-AA83-3EDECA39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CAC0C-6DE9-429D-9D72-14B6D9CB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C537D-82E4-48BE-B960-54B6928E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3B0AD-686F-4461-A1E5-D40563DB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1894A-BEC5-4FFC-BC69-0B9BD48B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F599F-52E5-433A-96A6-7A43D942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D2AF6-EA4A-4677-B8B1-645C2725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8C69B-888D-427B-AE40-D7004BD6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A745E-4E1B-4DB3-829D-1D75E224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8D7-1002-4DE2-89D7-83F0F2A9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56361-195B-47F8-B562-08529941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BD71B-D158-40F7-A8AB-EDB565DC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4AD96-E9DB-47F9-A119-739B3B53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FE6E5-463B-481D-B77E-BBF77D0C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9FC10-B958-49BD-925A-9152C6B6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D193D-74CB-4737-B8B3-DAD6FB85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93BF7-1270-4578-9DEA-E0612A71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0839D-860D-46FC-95D1-08C66DEF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6CB07-6943-45A5-85DE-865B4951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D0BF5-7917-4D4F-AC37-05A623AE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1A6-CED2-42BF-B7BA-99829EB8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4ECF1-5022-4409-B592-A17B70D4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5983E-45D4-4EC7-86BD-F9956ECE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CB9B6-811A-41A5-9EA8-A47C459D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FCAA0-9478-42F2-B264-09188D2A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2DFDB-986D-47B7-9BEA-C04302BA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657D5-6047-4DF7-9BCB-3BF086B9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50ED7-9E95-4AC2-BE6A-10FC315F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699D-47D7-4706-ABBA-5ED7FBDCA4C2}" type="datetime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CBC7-70DF-4A1A-8FF0-EDDEF0B1241C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5F79-A48A-4F41-A02F-4E075A76BF22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E021-2A78-4E7B-8765-A95D3F3969B3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D0E0-8FBB-4A28-A98C-BCBD65445C32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49A8-FBD4-46AF-B998-5F3B26E5478A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7C03-9398-42AB-A379-605193C3E098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7EAF-90B1-45E2-A544-846265A07E0B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4C47-B82E-4FEF-940D-99D7746A25E3}" type="datetime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4AD5-B05C-447B-925B-886C1BC7AE13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BE90-0BFC-4C7A-A925-2D2BC8030533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312C-C11B-4DD4-8AA1-C6238BFF1B62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E037-B187-4B72-AD5E-989AF4114132}" type="datetime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44DD-7B25-4B18-B4FC-40C2AEFAE7EB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olný tvar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olný tvar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2C85-E08E-46E5-A781-EE5ED4C79C61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0FF0-7CF6-470B-96B3-B87B04F01E69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Nadpis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336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Pro vlastní bezpečno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Zástupný symbol pro zápatí 4"/>
          <p:cNvSpPr/>
          <p:nvPr/>
        </p:nvSpPr>
        <p:spPr>
          <a:xfrm>
            <a:off x="611280" y="5732640"/>
            <a:ext cx="78897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Vytvořeno dne 4. 4.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1692360" y="18900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Zástupný symbol pro zápatí 3"/>
          <p:cNvSpPr/>
          <p:nvPr/>
        </p:nvSpPr>
        <p:spPr>
          <a:xfrm>
            <a:off x="1000080" y="5357880"/>
            <a:ext cx="678672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79280" y="1052640"/>
          <a:ext cx="8715600" cy="360504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vidla bezpečného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seznámení žáků se zásady bezpečného využívání internetu z hlediska svobodného média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Rectangle 1"/>
          <p:cNvSpPr/>
          <p:nvPr/>
        </p:nvSpPr>
        <p:spPr>
          <a:xfrm>
            <a:off x="179280" y="60768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48104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adresu svého bydliště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telefonní čís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adresu školy, kam chodíš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jména a adresy rodičů a rodinných příslušníků a jejich telefonní čísl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3452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Zástupný symbol pro zápatí 4"/>
          <p:cNvSpPr/>
          <p:nvPr/>
        </p:nvSpPr>
        <p:spPr>
          <a:xfrm>
            <a:off x="1214280" y="5857920"/>
            <a:ext cx="7215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přihlašovací jméno počítač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heslo počítač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přihlašovací jméno e-mai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heslo e-mai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údaje o kreditní kartě nebo peněžním účt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Zástupný symbol pro zápatí 4"/>
          <p:cNvSpPr/>
          <p:nvPr/>
        </p:nvSpPr>
        <p:spPr>
          <a:xfrm>
            <a:off x="1071720" y="5857920"/>
            <a:ext cx="73580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edomlouvej osobní schůzku s někým, s kým jsi se seznámil prostřednictvím Internet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eodpovídej na osobní výzvy od těch, které neznáš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eodpovídej na zlé, urážlivé, nevkusné nebo hrubé e-ma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2" name="Zástupný symbol pro zápatí 4"/>
          <p:cNvSpPr/>
          <p:nvPr/>
        </p:nvSpPr>
        <p:spPr>
          <a:xfrm>
            <a:off x="785880" y="5857920"/>
            <a:ext cx="78580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soubory přiložené k e-mailům, pokud přijdou z míst, které nezná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webové stránky, které jsou určené jen pro dospě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Zástupný symbol pro zápatí 4"/>
          <p:cNvSpPr/>
          <p:nvPr/>
        </p:nvSpPr>
        <p:spPr>
          <a:xfrm>
            <a:off x="1357200" y="5857920"/>
            <a:ext cx="7215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714320"/>
            <a:ext cx="82296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0000"/>
                </a:solidFill>
                <a:latin typeface="Lucida Sans Unicode"/>
              </a:rPr>
              <a:t>Sociální sítě: Lidé.cz, Líbímseti at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sdělování vašich osobních údaj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sdělování vašeho osobního denního program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vystavování osobních fotografií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navazování kontakt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Nadpis 2" descr=""/>
          <p:cNvPicPr/>
          <p:nvPr/>
        </p:nvPicPr>
        <p:blipFill>
          <a:blip r:embed="rId1"/>
          <a:stretch/>
        </p:blipFill>
        <p:spPr>
          <a:xfrm>
            <a:off x="195120" y="158760"/>
            <a:ext cx="8723520" cy="1494000"/>
          </a:xfrm>
          <a:prstGeom prst="rect">
            <a:avLst/>
          </a:prstGeom>
          <a:ln w="0">
            <a:noFill/>
          </a:ln>
        </p:spPr>
      </p:pic>
      <p:sp>
        <p:nvSpPr>
          <p:cNvPr id="398" name="Zástupný symbol pro zápatí 4"/>
          <p:cNvSpPr/>
          <p:nvPr/>
        </p:nvSpPr>
        <p:spPr>
          <a:xfrm>
            <a:off x="1285920" y="5857920"/>
            <a:ext cx="71438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23:00:14Z</dcterms:created>
  <dc:creator>ZS Kadan</dc:creator>
  <dc:description/>
  <dc:language>en-US</dc:language>
  <cp:lastModifiedBy>martina</cp:lastModifiedBy>
  <dcterms:modified xsi:type="dcterms:W3CDTF">2013-08-22T15:08:27Z</dcterms:modified>
  <cp:revision>14</cp:revision>
  <dc:subject/>
  <dc:title>Pravidla bezpečného internetu</dc:title>
</cp:coreProperties>
</file>