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84BB-B774-4157-9D38-358058E4A2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FC8-96B8-4E79-99AA-DF0A261229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738-E704-462E-808D-1CB72CBB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A05-C63E-4EE8-B4C2-132859B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07A-1806-4968-A855-D70FED94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114-3CBC-4952-B202-8614B6DE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873-E4C0-4D00-8E23-B821276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63D-6F9E-444E-B25B-633B400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21E-CB1A-4DDD-AEF9-D454893E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AEC-5776-480B-A24A-34B3D5B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016-7A78-45A5-A577-05ACEEA6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DCB-0350-48F4-B225-E889B85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E55-E4BD-4E9D-947E-8CF4C8A0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39A-1039-43D5-861F-1AEB741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D8B8-F445-4EF9-9C4A-E5C6C7C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C41B-C1BA-4D22-973E-FE9C055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5DD2-508C-41E8-9171-A251A7ED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B86-1F00-4515-8604-80C298E8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7AE3-73E6-4EAA-948C-7C1C2187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B8F-C09A-4D10-B961-0CAA00F1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BCA-C63B-42CB-87F5-798CC43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A69-4378-4EE5-9ED4-1E3DB28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3F2-6955-4439-8DE3-292D2245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053-C5BB-4042-B07A-E2FE2C0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66D-91B7-48B2-A33E-EFACD4F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08B-343C-4E2F-B78E-0DAD5BD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541-0792-4C83-A254-4ACB09F073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BD7-B570-42DA-B16D-CAFE4915F40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vskadan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5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Základní prvky internetového prohlížeč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ozi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Zástupný symbol pro zápatí 6"/>
          <p:cNvSpPr/>
          <p:nvPr/>
        </p:nvSpPr>
        <p:spPr>
          <a:xfrm>
            <a:off x="1000080" y="6165720"/>
            <a:ext cx="728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Nový začátek (New start) CZ.1.07/1.4.00/21.1409 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571680" y="5877000"/>
            <a:ext cx="8143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Vytvořeno dne 25. 2. 201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133720"/>
          <a:ext cx="8712360" cy="3321000"/>
        </p:xfrm>
        <a:graphic>
          <a:graphicData uri="http://schemas.openxmlformats.org/drawingml/2006/table">
            <a:tbl>
              <a:tblPr/>
              <a:tblGrid>
                <a:gridCol w="3370320"/>
                <a:gridCol w="5342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prvky internetového prohlížeč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prací s internetovým prohlížečem. Žáci se seznámí s jeho základními prvk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1332000" y="12754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a Zpět a Vpř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785600"/>
            <a:ext cx="842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vrátí na předchoz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posune na následujíc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m kliknutí na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ebo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se posuneme o strán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dle tlačíte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je symbol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malé šipky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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po kliknutí na ni se nám zobrazí nabídka všech navštívených strán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kurzorové klávesy vlevo a vpravo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listování stránek přes klávesnici)</a:t>
            </a:r>
            <a:r>
              <a:rPr b="1" lang="cs-CZ" sz="20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Zástupný symbol pro zápatí 6"/>
          <p:cNvSpPr/>
          <p:nvPr/>
        </p:nvSpPr>
        <p:spPr>
          <a:xfrm>
            <a:off x="1071720" y="6400800"/>
            <a:ext cx="735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anel ad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 tohoto okénka zapisujeme webové adre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dresa se skládá z několika slov oddělených tečkami a je psána bez mezer, čárek a háč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zvskadan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dnotlivé webové stránky obsahují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hypertextové odkaz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které odkazují na další webové stránky a poznáme je změnou kurzoru myš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Esc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pozastavení načítání stránky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Zástupný symbol pro zápatí 6"/>
          <p:cNvSpPr/>
          <p:nvPr/>
        </p:nvSpPr>
        <p:spPr>
          <a:xfrm>
            <a:off x="1000080" y="6243480"/>
            <a:ext cx="75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o Aktualizovat a Oblíbené položky,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785960"/>
            <a:ext cx="842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Aktualiza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↓↑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ačte na dlouhodobě otevřené stránce aktuální data a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zobrazí stránku znov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F5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aktualizace otevřené stránky přes klávesnici)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kazují na často navštěvované stránky, které si zařadíme kliknutím na polož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Přidat oblíbenou polož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Histori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ajdeme v záložc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umožňuje najít navštívené stránky v minu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071720" y="6243480"/>
            <a:ext cx="792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Domů</a:t>
            </a:r>
            <a:br>
              <a:rPr sz="4400"/>
            </a:b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42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m znovu načte „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ou stránk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“ = (stránku výchoz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yvolání nabídky domů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vedeme v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lavní nabíd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kliknutím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stroj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Možnosti internet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v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ialogovém okně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 záložko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ecn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píšeme požadovanou internetovou adresu do políčk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á stránk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tvrdím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214280" y="6243480"/>
            <a:ext cx="76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Tis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slouží pro vytištění aktuální webové strán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liknutím na </a:t>
            </a:r>
            <a:r>
              <a:rPr b="1" i="1" lang="cs-CZ" sz="2800" spc="-1" strike="noStrike">
                <a:solidFill>
                  <a:srgbClr val="333399"/>
                </a:solidFill>
                <a:latin typeface="Tahoma"/>
              </a:rPr>
              <a:t>symbol malé šip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dle vyvoláme nabíd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hl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stránku před tiskem zkontroluj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928800" y="624348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Internetové vyhledáva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4240" y="19288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líme je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fultextov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 fultext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edáme informaci zadáním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klíčového slov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do okénka vyhledávače a zvolíme podobu výsledku hledání (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tex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obráze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td.)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Google.cz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sou odkazy řazeny přehledně pod jednotlivými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es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stupně se přes ně proklikáme k požadované informaci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Seznam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143000" y="6243480"/>
            <a:ext cx="77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Ukládání dat z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960" y="185688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celé strán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Úplná 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stránky bez obrázků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14300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8:31:33Z</dcterms:created>
  <dc:creator>Server</dc:creator>
  <dc:description/>
  <dc:language>en-US</dc:language>
  <cp:lastModifiedBy>martina</cp:lastModifiedBy>
  <dcterms:modified xsi:type="dcterms:W3CDTF">2013-08-22T15:06:35Z</dcterms:modified>
  <cp:revision>29</cp:revision>
  <dc:subject/>
  <dc:title>Základní prvky prohlížeče</dc:title>
</cp:coreProperties>
</file>