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2456-F845-4DED-88E7-F66AA4AC0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2EC3-DD58-4887-A665-741CD65B2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8C99-2D13-4F78-8D1A-BB3F74EE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E79A-926E-4DCC-95C8-3BE82FD0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EBA-6263-4300-BDD0-CD1657BD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7651-7D53-4D25-B751-17D41089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03FE-5821-4F88-BB41-401B4C37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269B-5A49-4C55-90D0-507D468A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5656-9927-43C5-B91A-3A35C96C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29A4-1E4A-4630-B5E2-5D3933BA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1B5A-F3DD-4DA2-989C-F4599584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137B-39C6-42B8-87B0-D43A2852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70D5-AB28-46B1-AB1B-1C01DED4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598D-6699-4BB0-A7A3-6EA17B77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0F9B-D16B-4D8C-BB63-B25EF3A6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CE8C-C098-4477-99EB-B5AEEC40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CB0A-6695-403C-87B8-BC41C145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DBFB-64B7-4B43-A981-C7E3C3F8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3BA2-A9DD-4FA6-9189-C3800B0A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1F289-4093-424F-9214-038A5DBB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D9F7B-D766-4011-BD66-B5344BEF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D02A0-E774-4666-B098-ECD61BBB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7B08A-1994-40A7-B620-30D19E6C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12AA7-1222-466B-85DE-2544FB61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56A3-0E47-431E-9B0F-D2535C06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8D681-681A-4837-9058-13D5A511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C3125-CA9B-4A88-A57C-A8A8B65D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B2859-FF49-4512-B0BE-C973429B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047B1-E04E-49D9-A314-AB75395E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4AAF5-2C49-45A9-9BF2-A6B85931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77E3B-6286-4DA5-8884-FB1DEC2A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4571B-9716-4C62-BC49-1A6F5709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FBFCB-C392-45EA-87B6-140848F7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3E403-A73F-4B32-AC8B-5F9132F6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B0BD3-E45C-47B7-AC59-2A148276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47F6-8B25-475C-9B6E-BD5CB9A1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9077C-2573-4892-ACE3-6D331CF8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A66C9-1462-4D1A-935F-426DD853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A3303-EE03-4136-B442-A3470CF8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91FD1-069F-46B8-BAF4-72134CA1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D4146-BC57-415D-9C44-FE61E405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5A94E-39CE-4156-A41D-7ADF2A86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A066A-9FB1-4E54-A948-228162E9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7CB4A-9FFD-4B94-90F7-FCB9AFE6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79E23-5396-4216-8FC2-AAC49356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DCA06-645B-4923-9282-79540E92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CFF0-72B8-4782-A7EB-99E73D3D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117B0-4661-4784-8A01-8083FA65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3087A-ABD8-4A1B-846B-9E5C6651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D6FDE-945B-4B4F-AFD7-B1C6F92A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1FC5A-82C5-4322-BBAE-A736120A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EDBEE-E115-4DC1-B425-79AC728A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89B55-5332-4222-B7AC-EF331BEE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0B2E6-6D1E-4313-97E2-C423CDD5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F4EA0-BC82-4F40-BB14-EAFF8921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E3317-7977-438B-BC07-1F9844DA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1FDCE-7B07-4213-B0F0-EC463299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D13-B316-415E-8EBF-68D987E5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AA959-86B9-4369-B8DE-D2D7E04B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BF944-886E-404F-B4C2-5FE7445C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BE71B-645C-4E97-9D1F-A1905EAC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8CF20-05A1-4CF3-AE04-606AE729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F0D38-2F82-4521-ADD9-2912C6C1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422CE-DEF2-484C-A0A4-BE16B965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24FFE-0D4B-4ACF-B84F-2337FC05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9395C-218A-43F8-994D-579D470E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77FF8-8A32-4BE0-832C-2CF08561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74950-539C-40A8-9C6A-7659ED7C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CD2D-6E3A-4BDB-A090-F4CE257A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5DA88-B344-4F52-B7ED-9FBD31C7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3F9C7-C02D-4488-A9E6-FF8E60C8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BA93E-2DC4-4D7E-93AE-460A2031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45CB7-63B0-4428-9606-34B59DAB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68D45-C994-4E68-A10B-5A6260D6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53315-75A6-4402-A61A-B1C403D3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22850-1B16-4648-A1F0-48377D45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EE19F-19A6-449F-9C6C-770F299E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A2228-4893-4A3E-979F-931A733C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D958D-BFD2-4A84-84B4-9D48175C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1838-4A0C-41FE-B65D-9F627646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D6A65-47D5-45A0-9941-A63BD811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06673-E888-4E54-ABCB-E0ECD14A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FCBCD-2875-41E5-9D78-40E23DEB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048D2-D623-4AF7-ABE7-B29FFD35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B1A44-14C1-462E-99AC-93BDF5AF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4AC6-A864-47C4-B82F-157DE102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ýseč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stenec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Prstenec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Obdélní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ADA5-D615-4C7E-AC3D-A83F00DA7A59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1599-B2E3-40C7-81B2-31D9DA92961F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Obdélní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Výseč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rstenec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Prstenec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Obdélní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délní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9699-916B-40E5-ADB7-E18F624C99E0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2E15-5DB3-4EA9-9C05-E306635A6CB0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a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Elipsa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8A49-B8E6-4889-9E4B-32834A597420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C5DB-AB9E-42FE-AE74-0DF7DBE3E5BA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C74E-15FD-413A-A545-4A83D43A0A2D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B324-860A-466C-BAC0-61CEE18099ED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Obdélní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délní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42BE-36D3-4209-AB3D-FC91C0D3FD0F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3ED3-B381-4B82-A724-A2817FF236AD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666A-D367-4EBC-8126-824CBE7EE6A7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4A4A-AD6C-48B1-87B1-4FC8D8A2839F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Obdélník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Obdélník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Vývojový diagram: postup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Vývojový diagram: postup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AAF8-03D3-4E6A-B94C-74745CD9B74C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5F20-3BF9-4D87-99C3-888FB851B4F2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1" lang="cs-CZ" sz="6000" spc="-1" strike="noStrike">
                <a:solidFill>
                  <a:srgbClr val="4f271c"/>
                </a:solidFill>
                <a:latin typeface="Gill Sans MT"/>
              </a:rPr>
              <a:t>MS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6000" spc="-1" strike="noStrike">
                <a:solidFill>
                  <a:srgbClr val="4f271c"/>
                </a:solidFill>
                <a:latin typeface="Gill Sans MT"/>
              </a:rPr>
              <a:t>PowerPoint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2003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891a7"/>
                </a:solidFill>
                <a:latin typeface="Gill Sans MT"/>
              </a:rPr>
              <a:t>postup tvorby prezentac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Zástupný symbol pro zápatí 4"/>
          <p:cNvSpPr/>
          <p:nvPr/>
        </p:nvSpPr>
        <p:spPr>
          <a:xfrm>
            <a:off x="1332000" y="5734080"/>
            <a:ext cx="72784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"/>
          <p:cNvPicPr/>
          <p:nvPr/>
        </p:nvPicPr>
        <p:blipFill>
          <a:blip r:embed="rId1"/>
          <a:stretch/>
        </p:blipFill>
        <p:spPr>
          <a:xfrm>
            <a:off x="2340000" y="3284640"/>
            <a:ext cx="57531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8)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Spuštění prezentace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332000" y="1447560"/>
            <a:ext cx="7602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Hotovou prezentaci spustíme nabídkou</a:t>
            </a:r>
            <a:r>
              <a:rPr b="0" lang="cs-CZ" sz="41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1" lang="cs-CZ" sz="4100" spc="-1" strike="noStrike">
                <a:solidFill>
                  <a:srgbClr val="3891a7"/>
                </a:solidFill>
                <a:latin typeface="Gill Sans MT"/>
              </a:rPr>
              <a:t>Prezentace – Spustit prezentaci </a:t>
            </a: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s možností (</a:t>
            </a:r>
            <a:r>
              <a:rPr b="0" lang="cs-CZ" sz="4100" spc="-1" strike="noStrike">
                <a:solidFill>
                  <a:srgbClr val="3891a7"/>
                </a:solidFill>
                <a:latin typeface="Gill Sans MT"/>
              </a:rPr>
              <a:t>Od začátku</a:t>
            </a: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, </a:t>
            </a:r>
            <a:r>
              <a:rPr b="0" lang="cs-CZ" sz="4100" spc="-1" strike="noStrike">
                <a:solidFill>
                  <a:srgbClr val="3891a7"/>
                </a:solidFill>
                <a:latin typeface="Gill Sans MT"/>
              </a:rPr>
              <a:t>Z aktuálního snímku</a:t>
            </a: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 …)</a:t>
            </a:r>
            <a:r>
              <a:rPr b="1" lang="cs-CZ" sz="4100" spc="-1" strike="noStrike">
                <a:solidFill>
                  <a:srgbClr val="3891a7"/>
                </a:solidFill>
                <a:latin typeface="Gill Sans MT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100" spc="-1" strike="noStrike">
                <a:solidFill>
                  <a:srgbClr val="3891a7"/>
                </a:solidFill>
                <a:latin typeface="Gill Sans MT"/>
              </a:rPr>
              <a:t>Spustit</a:t>
            </a:r>
            <a:r>
              <a:rPr b="1" lang="cs-CZ" sz="41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4100" spc="-1" strike="noStrike">
                <a:solidFill>
                  <a:srgbClr val="3891a7"/>
                </a:solidFill>
                <a:latin typeface="Gill Sans MT"/>
              </a:rPr>
              <a:t>prezentaci</a:t>
            </a: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 můžeme také přes klávesnici – </a:t>
            </a:r>
            <a:r>
              <a:rPr b="1" lang="cs-CZ" sz="4100" spc="-1" strike="noStrike">
                <a:solidFill>
                  <a:srgbClr val="c00000"/>
                </a:solidFill>
                <a:latin typeface="Gill Sans MT"/>
              </a:rPr>
              <a:t>F5</a:t>
            </a:r>
            <a:endParaRPr b="0" lang="en-US" sz="41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Zástupný symbol pro zápatí 4"/>
          <p:cNvSpPr/>
          <p:nvPr/>
        </p:nvSpPr>
        <p:spPr>
          <a:xfrm>
            <a:off x="1928880" y="6000840"/>
            <a:ext cx="66816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Zástupný symbol pro zápatí 3"/>
          <p:cNvSpPr/>
          <p:nvPr/>
        </p:nvSpPr>
        <p:spPr>
          <a:xfrm>
            <a:off x="1332000" y="5516640"/>
            <a:ext cx="6669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11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50920" y="981000"/>
          <a:ext cx="8643960" cy="3888000"/>
        </p:xfrm>
        <a:graphic>
          <a:graphicData uri="http://schemas.openxmlformats.org/drawingml/2006/table">
            <a:tbl>
              <a:tblPr/>
              <a:tblGrid>
                <a:gridCol w="3343320"/>
                <a:gridCol w="530064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S PowerPoint 2003 - postup tvorby 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 seznamuje žáky s jednotlivými kroky tvorby prezentace v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S PowerPoint 2003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Žáci se seznámí s obsahem panelu nástrojů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 –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ovládat základy psaní na klávesnici, na uživatelské úrovni práci s textovým editorem, využívat vhodné aplik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Rectangle 1"/>
          <p:cNvSpPr/>
          <p:nvPr/>
        </p:nvSpPr>
        <p:spPr>
          <a:xfrm>
            <a:off x="468360" y="410040"/>
            <a:ext cx="71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č.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cs-CZ" sz="65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1)</a:t>
            </a:r>
            <a:r>
              <a:rPr b="0" lang="cs-CZ" sz="65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Spuštění</a:t>
            </a:r>
            <a:br>
              <a:rPr sz="3900"/>
            </a:b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Spuštěním</a:t>
            </a:r>
            <a:r>
              <a:rPr b="0" lang="cs-CZ" sz="4400" spc="-1" strike="noStrike">
                <a:solidFill>
                  <a:srgbClr val="4f271c"/>
                </a:solidFill>
                <a:latin typeface="Gill Sans MT"/>
              </a:rPr>
              <a:t> programu </a:t>
            </a:r>
            <a:r>
              <a:rPr b="1" lang="cs-CZ" sz="4400" spc="-1" strike="noStrike">
                <a:solidFill>
                  <a:srgbClr val="3891a7"/>
                </a:solidFill>
                <a:latin typeface="Gill Sans MT"/>
              </a:rPr>
              <a:t>PowerPoint</a:t>
            </a:r>
            <a:r>
              <a:rPr b="0" lang="cs-CZ" sz="4400" spc="-1" strike="noStrike">
                <a:solidFill>
                  <a:srgbClr val="4f271c"/>
                </a:solidFill>
                <a:latin typeface="Gill Sans MT"/>
              </a:rPr>
              <a:t> se objeví na ploše </a:t>
            </a:r>
            <a:r>
              <a:rPr b="1" lang="cs-CZ" sz="4400" spc="-1" strike="noStrike">
                <a:solidFill>
                  <a:srgbClr val="3891a7"/>
                </a:solidFill>
                <a:latin typeface="Gill Sans MT"/>
              </a:rPr>
              <a:t>první prázdný snímek</a:t>
            </a:r>
            <a:r>
              <a:rPr b="0" lang="cs-CZ" sz="4400" spc="-1" strike="noStrike">
                <a:solidFill>
                  <a:srgbClr val="4f271c"/>
                </a:solidFill>
                <a:latin typeface="Gill Sans MT"/>
              </a:rPr>
              <a:t> prezentace většinou jen pro </a:t>
            </a:r>
            <a:r>
              <a:rPr b="1" lang="cs-CZ" sz="4400" spc="-1" strike="noStrike">
                <a:solidFill>
                  <a:srgbClr val="3891a7"/>
                </a:solidFill>
                <a:latin typeface="Gill Sans MT"/>
              </a:rPr>
              <a:t>nadpis</a:t>
            </a:r>
            <a:r>
              <a:rPr b="0" lang="cs-CZ" sz="4400" spc="-1" strike="noStrike">
                <a:solidFill>
                  <a:srgbClr val="4f271c"/>
                </a:solidFill>
                <a:latin typeface="Gill Sans MT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Zástupný symbol pro zápatí 4"/>
          <p:cNvSpPr/>
          <p:nvPr/>
        </p:nvSpPr>
        <p:spPr>
          <a:xfrm>
            <a:off x="1571760" y="5445000"/>
            <a:ext cx="70387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2)</a:t>
            </a:r>
            <a:r>
              <a:rPr b="0" lang="cs-CZ" sz="60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Návrh grafiky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Na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panelu nástrojů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klikneme na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tlačítko</a:t>
            </a:r>
            <a:r>
              <a:rPr b="0" lang="cs-CZ" sz="37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Návrh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a po straně se nám otevře dialogové okno se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šablonou grafických návrhů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barevným spektrem</a:t>
            </a:r>
            <a:r>
              <a:rPr b="1" lang="cs-CZ" sz="3700" spc="-1" strike="noStrike">
                <a:solidFill>
                  <a:srgbClr val="ffff00"/>
                </a:solidFill>
                <a:latin typeface="Gill Sans MT"/>
              </a:rPr>
              <a:t>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a</a:t>
            </a:r>
            <a:r>
              <a:rPr b="1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animačním schématem</a:t>
            </a:r>
            <a:r>
              <a:rPr b="1" lang="cs-CZ" sz="37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Vybereme pro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všechny snímky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nebo jen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pro vybraný snímek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 a vše potvrdíme kliknutím</a:t>
            </a:r>
            <a:r>
              <a:rPr b="0" lang="cs-CZ" sz="2700" spc="-1" strike="noStrike">
                <a:solidFill>
                  <a:srgbClr val="4f271c"/>
                </a:solidFill>
                <a:latin typeface="Gill Sans MT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Zástupný symbol pro zápatí 4"/>
          <p:cNvSpPr/>
          <p:nvPr/>
        </p:nvSpPr>
        <p:spPr>
          <a:xfrm>
            <a:off x="1785960" y="6143760"/>
            <a:ext cx="6753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94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3)</a:t>
            </a:r>
            <a:r>
              <a:rPr b="1" lang="cs-CZ" sz="5400" spc="-1" strike="noStrike">
                <a:solidFill>
                  <a:srgbClr val="ffff00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Vložení dalšího snímku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Nový snímek</a:t>
            </a:r>
            <a:r>
              <a:rPr b="0" lang="cs-CZ" sz="3700" spc="-1" strike="noStrike">
                <a:solidFill>
                  <a:srgbClr val="3891a7"/>
                </a:solidFill>
                <a:latin typeface="Gill Sans MT"/>
              </a:rPr>
              <a:t> 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vytvoříme kliknutím na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tlačítko</a:t>
            </a:r>
            <a:r>
              <a:rPr b="1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se stejným nápisem v</a:t>
            </a:r>
            <a:r>
              <a:rPr b="1" lang="cs-CZ" sz="37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panelu nástrojů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Po straně se nám otevře okno se způsoby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rozložení</a:t>
            </a:r>
            <a:r>
              <a:rPr b="1" lang="cs-CZ" sz="3700" spc="-1" strike="noStrike">
                <a:solidFill>
                  <a:srgbClr val="ffff00"/>
                </a:solidFill>
                <a:latin typeface="Gill Sans MT"/>
              </a:rPr>
              <a:t>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snímků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Vybereme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podle obsahu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(Napis a obsah, Dva obsahy, Obrázek s titulkem …)</a:t>
            </a:r>
            <a:r>
              <a:rPr b="0" lang="cs-CZ" sz="37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a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potvrdíme kliknutím.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Zástupný symbol pro zápatí 4"/>
          <p:cNvSpPr/>
          <p:nvPr/>
        </p:nvSpPr>
        <p:spPr>
          <a:xfrm>
            <a:off x="1785960" y="6000840"/>
            <a:ext cx="682452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4)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Psaní textu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Kliknutím do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vyznačeného rámečku napíšete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 nebo zkopírujete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V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panelu nástrojů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text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naformátujete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 stejně jako u Wordu (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typ písma</a:t>
            </a:r>
            <a:r>
              <a:rPr b="1" lang="cs-CZ" sz="3200" spc="-1" strike="noStrike">
                <a:solidFill>
                  <a:srgbClr val="4f271c"/>
                </a:solidFill>
                <a:latin typeface="Gill Sans MT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velikost písma</a:t>
            </a: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barva písma</a:t>
            </a: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tučné písmo</a:t>
            </a: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formátování odstavců</a:t>
            </a: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zarovnání textu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Zástupný symbol pro zápatí 4"/>
          <p:cNvSpPr/>
          <p:nvPr/>
        </p:nvSpPr>
        <p:spPr>
          <a:xfrm>
            <a:off x="1500120" y="6000840"/>
            <a:ext cx="71103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280" y="285480"/>
            <a:ext cx="86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900" spc="-1" strike="noStrike">
                <a:solidFill>
                  <a:srgbClr val="3891a7"/>
                </a:solidFill>
                <a:latin typeface="Gill Sans MT"/>
              </a:rPr>
              <a:t>5)</a:t>
            </a:r>
            <a:r>
              <a:rPr b="1" lang="cs-CZ" sz="49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4900" spc="-1" strike="noStrike" u="sng">
                <a:solidFill>
                  <a:srgbClr val="4f271c"/>
                </a:solidFill>
                <a:uFillTx/>
                <a:latin typeface="Gill Sans MT"/>
              </a:rPr>
              <a:t>Vložení Klipártů, obrázků </a:t>
            </a:r>
            <a:endParaRPr b="0" lang="en-US" sz="4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1268280"/>
            <a:ext cx="789156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Přes tlačítko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Vložení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 můžeme do prezentace vkládat:                      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Kliparty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–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přes rozvinutou nabídku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Klipart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 po straně             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obrázky ze souboru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– přes dialogové okno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Vložit obrázek                         grafy                                                          zvuky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- přes výběr z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Galerie médií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Výběr potvrdíme </a:t>
            </a:r>
            <a:r>
              <a:rPr b="0" lang="cs-CZ" sz="3200" spc="-1" strike="noStrike">
                <a:solidFill>
                  <a:srgbClr val="3891a7"/>
                </a:solidFill>
                <a:latin typeface="Gill Sans MT"/>
              </a:rPr>
              <a:t>Entrem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 nebo </a:t>
            </a:r>
            <a:r>
              <a:rPr b="0" lang="cs-CZ" sz="3200" spc="-1" strike="noStrike">
                <a:solidFill>
                  <a:srgbClr val="3891a7"/>
                </a:solidFill>
                <a:latin typeface="Gill Sans MT"/>
              </a:rPr>
              <a:t>kliknutí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Zástupný symbol pro zápatí 4"/>
          <p:cNvSpPr/>
          <p:nvPr/>
        </p:nvSpPr>
        <p:spPr>
          <a:xfrm>
            <a:off x="1428840" y="6000840"/>
            <a:ext cx="718164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6)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Animace prezentace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1447560"/>
            <a:ext cx="789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Animovat můžeme celou prezentaci, jednotlivé snímky nebo jen části snímků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Vybereme ji z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Animačních schémat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, které rozvineme v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Návrhu snímk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3891a7"/>
                </a:solidFill>
                <a:uFillTx/>
                <a:latin typeface="Gill Sans MT"/>
              </a:rPr>
              <a:t>Animační schémata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: Rolovat, Lupa, Rozvinout, Prolínání, Vystupovat at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Tlačítkem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Náhled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si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můžeme jednotlivé animace prohlédnou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Zástupný symbol pro zápatí 4"/>
          <p:cNvSpPr/>
          <p:nvPr/>
        </p:nvSpPr>
        <p:spPr>
          <a:xfrm>
            <a:off x="1428840" y="6000840"/>
            <a:ext cx="721512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7)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Nastavení prezentace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Zaškrtnutím nastavíme upřesněné možnosti pro celou prezentaci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Typ prezenta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Možnosti zobrazení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Zobrazení snímků a jejich přechod na další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Zástupný symbol pro zápatí 4"/>
          <p:cNvSpPr/>
          <p:nvPr/>
        </p:nvSpPr>
        <p:spPr>
          <a:xfrm>
            <a:off x="1500120" y="6072120"/>
            <a:ext cx="7110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20:18:49Z</dcterms:created>
  <dc:creator>ZS Kadan</dc:creator>
  <dc:description/>
  <dc:language>en-US</dc:language>
  <cp:lastModifiedBy>martina</cp:lastModifiedBy>
  <dcterms:modified xsi:type="dcterms:W3CDTF">2013-08-22T15:03:47Z</dcterms:modified>
  <cp:revision>29</cp:revision>
  <dc:subject/>
  <dc:title>     MS PowerPoint 2003</dc:title>
</cp:coreProperties>
</file>