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1780-B97D-40BA-888F-FB186F855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C9B-4748-4CE2-82C2-06B8136D9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25C-80D3-422B-815B-266A1C2A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71B-FF9B-4214-849A-B359D788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C09-E24A-400A-9920-DC54D377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399-51D4-4DDD-BE94-C3E8EBEC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182-6FFF-49EE-9FF2-DA5E0577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A7F2-F3F4-42D1-9E09-891934AE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1BC8-371A-48DD-B3B0-944C5EA3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2FFA-4DB1-4E71-AC2A-C02D4ED8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52E3-E3C2-4A62-BA91-7CB0670E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A803-8245-4C7D-A454-9FE4401C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3F59-8CA6-4DB6-AF16-B832BBB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533-F762-44EF-8F59-9AF66FC3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3FF6-3718-41B1-BF4F-3E3B06F1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F122-A2E5-403C-B14D-7DB01325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8CD2-DCF9-40DA-955B-34F56244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0A83-7036-41C2-B429-7EB241DD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1C81-D588-46F1-A83C-457C78A7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82D-4D53-4BB5-9637-2DB008B1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B1A-D768-4EB5-9F2D-F2ACE9C2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CDD-F86D-4F6A-A28F-3ACA85EA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0BB-E086-4060-9002-FF8F2F64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717-E0B0-46CD-8201-82D3205B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621-51C3-4B1B-BF82-5B02F50F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9B3-72AF-4087-98CC-87EE8A66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15A0-D185-42D5-8C0E-6CB056EE28C5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2510-6E3A-4290-A69E-A3AC5E74B5F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505A-8E59-4CAA-AE6A-692AED717846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E652-5594-402D-838B-B7B30A4201A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800" spc="-1" strike="noStrike">
                <a:solidFill>
                  <a:srgbClr val="006666"/>
                </a:solidFill>
                <a:latin typeface="Arial"/>
              </a:rPr>
              <a:t>Internet</a:t>
            </a:r>
            <a:endParaRPr b="0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04560" y="2776320"/>
            <a:ext cx="569124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Svobodné méd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Zástupný symbol pro zápatí 3"/>
          <p:cNvSpPr/>
          <p:nvPr/>
        </p:nvSpPr>
        <p:spPr>
          <a:xfrm>
            <a:off x="0" y="5780160"/>
            <a:ext cx="914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3"/>
          <p:cNvSpPr/>
          <p:nvPr/>
        </p:nvSpPr>
        <p:spPr>
          <a:xfrm>
            <a:off x="250920" y="5732640"/>
            <a:ext cx="864216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052640"/>
          <a:ext cx="8715600" cy="412416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internetem z hlediska svobodného média a jeho významem pro dnešní dobu. Žáci se seznámí s jeho historií, službami, které poskytuje a způsoby připojení k němu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179280" y="5349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Co je to Intern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pojené počítačové sítě celého světa, které mají za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cíl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ci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a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enos dat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ezi jednotlivými počítač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aždý připojený počítač má svo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IP adres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192.168.0.1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92.243.202.14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Zástupný symbol pro zápatí 3"/>
          <p:cNvSpPr/>
          <p:nvPr/>
        </p:nvSpPr>
        <p:spPr>
          <a:xfrm>
            <a:off x="611280" y="59292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7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Histor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052640"/>
            <a:ext cx="801396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60. – 70. léta: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ARPA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xperiment, cca 50 počítačů v sí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80. léta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pojeno cca 1 000 počítač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1987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ojem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 síti připojeno asi 30 000 počítač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90. léta: Internet se stává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erční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hlížeče, v síti cca 50 milion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00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50 milionů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10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řes 2 miliardy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250920" y="6237360"/>
            <a:ext cx="8642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-171720"/>
            <a:ext cx="7686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lužb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99640" y="691920"/>
            <a:ext cx="7758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www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webové stránky (protokol http, http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e-mail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lektronická poš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FTP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enos souborů (Total Commande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č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elefon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Sky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nline komunikace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ICQ, Messenger, Face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ciální sítě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facebook, Twit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dílení soubor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Zástupný symbol pro zápatí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řipoj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1052640"/>
            <a:ext cx="783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prostředkovatel připojení je provi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ychlost v bitech za sekundu (b/s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b/s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OZOR!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1 byte = 8 bit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xistuje několik různých způsobů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ipojen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telefonní – ADSL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kabelovou televiz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Wi-Fi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      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obilním telefonem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Zástupný symbol pro zápatí 3"/>
          <p:cNvSpPr/>
          <p:nvPr/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ile:Routing.gif"/>
          <p:cNvPicPr/>
          <p:nvPr/>
        </p:nvPicPr>
        <p:blipFill>
          <a:blip r:embed="rId2"/>
          <a:stretch/>
        </p:blipFill>
        <p:spPr>
          <a:xfrm>
            <a:off x="6572160" y="3571920"/>
            <a:ext cx="2089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bový prohlížeč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7280" y="1773360"/>
            <a:ext cx="731376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rogram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umožňující prohlížení www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í číst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http://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Explor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Google Chro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Mozil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Safa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Zástupný symbol pro zápatí 3"/>
          <p:cNvSpPr/>
          <p:nvPr/>
        </p:nvSpPr>
        <p:spPr>
          <a:xfrm>
            <a:off x="0" y="6143760"/>
            <a:ext cx="88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ové zdroje obrázků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26920" y="1599840"/>
            <a:ext cx="810288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šechny uveřejněné odkazy [cit. 2012-02-24] dostupné pod licencí Creative Commons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wikimedia.or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rnet. připojení -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Routing.gi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íťová karta - </a:t>
            </a:r>
            <a:r>
              <a:rPr b="0" i="1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Ethernet_pci_card.jp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Zástupný symbol pro zápatí 3"/>
          <p:cNvSpPr/>
          <p:nvPr/>
        </p:nvSpPr>
        <p:spPr>
          <a:xfrm>
            <a:off x="179280" y="585792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4:24:17Z</dcterms:created>
  <dc:creator>ZS Kadan</dc:creator>
  <dc:description/>
  <dc:language>en-US</dc:language>
  <cp:lastModifiedBy>martina</cp:lastModifiedBy>
  <dcterms:modified xsi:type="dcterms:W3CDTF">2013-08-22T15:06:08Z</dcterms:modified>
  <cp:revision>21</cp:revision>
  <dc:subject/>
  <dc:title>Snímek 1</dc:title>
</cp:coreProperties>
</file>