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33C9-923E-4AEF-934D-D4C9813AAE4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5DCD-568E-4700-AB93-8D0156FB277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34F1-CF57-4DC0-A266-008C8DABC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F47D-825C-457C-ADB8-67C774C2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D991-2A68-448F-AD8A-570349D02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64D2-374E-4944-8F25-4D49524D0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24C0-10A1-4503-B44E-B64E22E4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FD5F-42B7-4CB2-995D-FB0A5B08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47C6-07C3-4515-AEF6-6B62439B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C7B7-5CC2-4614-ACBB-768B14EB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C5EC-0075-4B8A-BF12-D65B6433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1762-C32A-41F3-A613-1FBEE376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86C2-17C9-43F9-97F0-C8CC3FCE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0AF1-A6EC-407F-BD8A-7BACE718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17.12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 Vytvořeno dne:  Nový začátek (New start) CZ.1.07/1.4.00/21.1409 Tento projekt je spolufinancován Evropským sociálním fondem a státním rozpočtem České republik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EFE4-A418-41B8-8C07-577EC3C9E82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Zástupný symbol pro zápatí 3"/>
          <p:cNvSpPr/>
          <p:nvPr/>
        </p:nvSpPr>
        <p:spPr>
          <a:xfrm>
            <a:off x="857160" y="5072040"/>
            <a:ext cx="724392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4"/>
          <p:cNvSpPr/>
          <p:nvPr/>
        </p:nvSpPr>
        <p:spPr>
          <a:xfrm>
            <a:off x="1000080" y="2000160"/>
            <a:ext cx="814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icrosoft Office Word 2003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547640" y="3068640"/>
            <a:ext cx="575316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000" spc="-1" strike="noStrike">
                <a:solidFill>
                  <a:srgbClr val="ff0000"/>
                </a:solidFill>
                <a:latin typeface="Calibri"/>
              </a:rPr>
              <a:t>Vkládání klipartu a obrázku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00040" y="64260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Calibri"/>
              </a:rPr>
              <a:t>Klipart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je obrázek vytvořený v programu Word, který můžeme vložit do text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Vybereme nabídku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ložit </a:t>
            </a:r>
            <a:r>
              <a:rPr b="1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Obrázek </a:t>
            </a:r>
            <a:r>
              <a:rPr b="1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Klipart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a po straně se otevře nabídka,  kde vybereme vhodný klipar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Calibri"/>
              </a:rPr>
              <a:t>Obrázek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ze souboru uloženém v počítači vybereme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odobným způsobem.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Vybereme nabídku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ložit </a:t>
            </a:r>
            <a:r>
              <a:rPr b="1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Obrázek </a:t>
            </a:r>
            <a:r>
              <a:rPr b="1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Ze souboru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a otevře se nám okno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ložit obrázek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 s 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obrázky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oblastmi hledání daného souboru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, kde vybereme vhodný obrázek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Zástupný symbol pro zápatí 3"/>
          <p:cNvSpPr/>
          <p:nvPr/>
        </p:nvSpPr>
        <p:spPr>
          <a:xfrm>
            <a:off x="857160" y="6356520"/>
            <a:ext cx="778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400" spc="-1" strike="noStrike">
                <a:solidFill>
                  <a:srgbClr val="ff0000"/>
                </a:solidFill>
                <a:latin typeface="Calibri"/>
              </a:rPr>
              <a:t>Zásady psaní textu ve Wordu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28760" y="100008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ěžný text píšeme velikostí 10 nebo 1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a nadpisy nepíšeme tečk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a můžeme je zvětšit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a každou tečkou, čárkou, dvojtečkou píšeme mezer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zvýraznění důležité části textu použijeme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kurzív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nebo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učné písmo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řed každou úpravou textu musíme text označ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ástupný symbol pro zápatí 3"/>
          <p:cNvSpPr/>
          <p:nvPr/>
        </p:nvSpPr>
        <p:spPr>
          <a:xfrm>
            <a:off x="857160" y="5929200"/>
            <a:ext cx="7786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Zástupný symbol pro zápatí 3"/>
          <p:cNvSpPr/>
          <p:nvPr/>
        </p:nvSpPr>
        <p:spPr>
          <a:xfrm>
            <a:off x="857160" y="5929200"/>
            <a:ext cx="7572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71680" y="714240"/>
          <a:ext cx="8001000" cy="4970520"/>
        </p:xfrm>
        <a:graphic>
          <a:graphicData uri="http://schemas.openxmlformats.org/drawingml/2006/table">
            <a:tbl>
              <a:tblPr/>
              <a:tblGrid>
                <a:gridCol w="3095280"/>
                <a:gridCol w="4905720"/>
              </a:tblGrid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áz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icrosoft Office Word 2003 - Cesta k základním úpravá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ano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ezentace je zaměřena na úpravy textu v textovém editoru Microsoft Office Word 2003. Žáci se zde postupně seznámí např. s formátováním písma, změnou jeho typu, barvy a velikosti, vložením klipartu nebo obrázku do text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čekávaný výst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ZV – LM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formační a komunikační technologie – 2. stupe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F - ovládat základy psaní na klávesnici, na uživatelské úrovni práci s textovým editorem, využívat vhodné aplik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ruh učebního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ruh inter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Vý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Rectangle 1"/>
          <p:cNvSpPr/>
          <p:nvPr/>
        </p:nvSpPr>
        <p:spPr>
          <a:xfrm>
            <a:off x="642960" y="374760"/>
            <a:ext cx="71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č.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1" lang="cs-CZ" sz="3600" spc="-1" strike="noStrike">
                <a:solidFill>
                  <a:srgbClr val="ff0000"/>
                </a:solidFill>
                <a:latin typeface="Calibri"/>
              </a:rPr>
              <a:t>Cesta k základním úpravám</a:t>
            </a:r>
            <a:br>
              <a:rPr sz="3600"/>
            </a:br>
            <a:r>
              <a:rPr b="0" lang="cs-CZ" sz="3600" spc="-1" strike="noStrike">
                <a:solidFill>
                  <a:srgbClr val="bfbfbf"/>
                </a:solidFill>
                <a:latin typeface="Calibri"/>
              </a:rPr>
              <a:t>výklad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14320"/>
            <a:ext cx="700056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Calibri"/>
              </a:rPr>
              <a:t>Microsoft Office Word 2003</a:t>
            </a: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 je program, který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umí</a:t>
            </a: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 zpracovávat text; mj. v něm lze do dokumentů vkládat obrázky, tabulky a grafy  pomocí </a:t>
            </a:r>
            <a:r>
              <a:rPr b="1" lang="cs-CZ" sz="3100" spc="-1" strike="noStrike">
                <a:solidFill>
                  <a:srgbClr val="000000"/>
                </a:solidFill>
                <a:latin typeface="Calibri"/>
              </a:rPr>
              <a:t>panelu nástrojů</a:t>
            </a: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. V kreslení lze vytvářet jednoduché grafické útvary. Microsoft Word jednoznačně dominuje a formát souborů s příponou </a:t>
            </a:r>
            <a:r>
              <a:rPr b="1" i="1" lang="cs-CZ" sz="3100" spc="-1" strike="noStrike">
                <a:solidFill>
                  <a:srgbClr val="000000"/>
                </a:solidFill>
                <a:latin typeface="Calibri"/>
              </a:rPr>
              <a:t>.doc</a:t>
            </a: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 se stal standardem, který musí podporovat i konkurenční programy, pokud chtějí uspět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Zástupný symbol pro zápatí 3"/>
          <p:cNvSpPr/>
          <p:nvPr/>
        </p:nvSpPr>
        <p:spPr>
          <a:xfrm>
            <a:off x="714240" y="5929200"/>
            <a:ext cx="7643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0000"/>
                </a:solidFill>
                <a:latin typeface="Calibri"/>
              </a:rPr>
              <a:t>Označení textu pomocí myš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0040" y="142884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vojklikem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na slovo ho označí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liknutím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myši do textu a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ažením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posunuje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rojitým kliknutím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značíme celý odstavec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liknutím př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čátkem jej celý označít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elý text můžeme označit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ažením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myš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Zástupný symbol pro zápatí 4"/>
          <p:cNvSpPr/>
          <p:nvPr/>
        </p:nvSpPr>
        <p:spPr>
          <a:xfrm>
            <a:off x="1071720" y="5857920"/>
            <a:ext cx="700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0000"/>
                </a:solidFill>
                <a:latin typeface="Calibri"/>
              </a:rPr>
              <a:t>Psaní speciálních znak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 klávesnici nenajdeme všechny znaky, které máme k dispozic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 napsání speciálních znaků do textu nám slouží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funkc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ložit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→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ymbol → zobrazí se dialogové okno → vybere se symbol a potvrdí se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lovem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vlož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Zástupný symbol pro zápatí 3"/>
          <p:cNvSpPr/>
          <p:nvPr/>
        </p:nvSpPr>
        <p:spPr>
          <a:xfrm>
            <a:off x="1357200" y="5857920"/>
            <a:ext cx="7072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0000"/>
                </a:solidFill>
                <a:latin typeface="Calibri"/>
              </a:rPr>
              <a:t>Typ písma a velikost písm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Označíme část text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kterou budeme upravov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 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nelu nástrojů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vybereme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yp písm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mají své názvy – </a:t>
            </a:r>
            <a:r>
              <a:rPr b="0" i="1" lang="cs-CZ" sz="3200" spc="-1" strike="noStrike">
                <a:solidFill>
                  <a:srgbClr val="ff0000"/>
                </a:solidFill>
                <a:latin typeface="Calibri"/>
              </a:rPr>
              <a:t>Ariel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3200" spc="-1" strike="noStrike">
                <a:solidFill>
                  <a:srgbClr val="ff0000"/>
                </a:solidFill>
                <a:latin typeface="Calibri"/>
              </a:rPr>
              <a:t>Times New Roman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liknem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na ikonu –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elikost písm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a vybereme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ísl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stli se nám nehodí žádná z nabízených velikostí, napíšeme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o políčk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vlastní číslo.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Zástupný symbol pro zápatí 3"/>
          <p:cNvSpPr/>
          <p:nvPr/>
        </p:nvSpPr>
        <p:spPr>
          <a:xfrm>
            <a:off x="1214280" y="5929200"/>
            <a:ext cx="7215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Calibri"/>
              </a:rPr>
              <a:t>Barva písma a zvýraznění tex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arvu označeného napsaného textu nastavíme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liknutím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na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ikon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Barva písma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jeví se se nám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leta barev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ze které si vybereme požadovanou barv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značený text můžeme zvýraznit kliknutím na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ikon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výraznění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ab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jeví se se nám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leta barev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ze které si vybereme požadovanou barv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Zástupný symbol pro zápatí 3"/>
          <p:cNvSpPr/>
          <p:nvPr/>
        </p:nvSpPr>
        <p:spPr>
          <a:xfrm>
            <a:off x="1071720" y="5857920"/>
            <a:ext cx="73580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400" spc="-1" strike="noStrike">
                <a:solidFill>
                  <a:srgbClr val="ff0000"/>
                </a:solidFill>
                <a:latin typeface="Calibri"/>
              </a:rPr>
              <a:t>Formátování odstavců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značený text můžeme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formátovat tlačítky pro formátování odstavců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které najdeme na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nelu nástrojů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udeme provádět tyto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úprav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arovnání textu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vlevo, na střed, vpravo, do blok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řádkování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odsazení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ty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Zástupný symbol pro zápatí 3"/>
          <p:cNvSpPr/>
          <p:nvPr/>
        </p:nvSpPr>
        <p:spPr>
          <a:xfrm>
            <a:off x="714240" y="5786280"/>
            <a:ext cx="76438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Calibri"/>
              </a:rPr>
              <a:t>Tvorba tabulky</a:t>
            </a:r>
            <a:br>
              <a:rPr sz="40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abulka slouží pro přehledné uspořádání dat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00040" y="9284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Vybereme nabídku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Tabulka </a:t>
            </a:r>
            <a:r>
              <a:rPr b="1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Vložit </a:t>
            </a:r>
            <a:r>
              <a:rPr b="1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Tabulka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a otevře se nám okno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ložit tabulku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arametry tabulky: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elkost tabulky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cs-CZ" sz="3000" spc="-1" strike="noStrike">
                <a:solidFill>
                  <a:srgbClr val="ff0000"/>
                </a:solidFill>
                <a:latin typeface="Calibri"/>
              </a:rPr>
              <a:t>počet sloupců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cs-CZ" sz="3000" spc="-1" strike="noStrike">
                <a:solidFill>
                  <a:srgbClr val="ff0000"/>
                </a:solidFill>
                <a:latin typeface="Calibri"/>
              </a:rPr>
              <a:t>počet řádků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lastnosti automatického přizpůsobení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cs-CZ" sz="3000" spc="-1" strike="noStrike">
                <a:solidFill>
                  <a:srgbClr val="ff0000"/>
                </a:solidFill>
                <a:latin typeface="Calibri"/>
              </a:rPr>
              <a:t>pevná šířka sloupce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3000" spc="-1" strike="noStrike">
                <a:solidFill>
                  <a:srgbClr val="ff0000"/>
                </a:solidFill>
                <a:latin typeface="Calibri"/>
              </a:rPr>
              <a:t>přizpůsobit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>
                <a:solidFill>
                  <a:srgbClr val="ff0000"/>
                </a:solidFill>
                <a:latin typeface="Calibri"/>
              </a:rPr>
              <a:t>obsahu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0" lang="cs-CZ" sz="3000" spc="-1" strike="noStrike">
                <a:solidFill>
                  <a:srgbClr val="ff0000"/>
                </a:solidFill>
                <a:latin typeface="Calibri"/>
              </a:rPr>
              <a:t>přizpůsobit oknu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Vybereme nabídku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Tabulka </a:t>
            </a:r>
            <a:r>
              <a:rPr b="1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Navrhnout tabulku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a otevře se nám okno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Tabulky a ohraničení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nastavením parametrů tabulk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zápatí 3"/>
          <p:cNvSpPr/>
          <p:nvPr/>
        </p:nvSpPr>
        <p:spPr>
          <a:xfrm>
            <a:off x="1000080" y="6357960"/>
            <a:ext cx="75009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4T00:16:25Z</dcterms:created>
  <dc:creator>ZS Kadan</dc:creator>
  <dc:description/>
  <dc:language>en-US</dc:language>
  <cp:lastModifiedBy>martina</cp:lastModifiedBy>
  <dcterms:modified xsi:type="dcterms:W3CDTF">2013-08-22T15:00:36Z</dcterms:modified>
  <cp:revision>30</cp:revision>
  <dc:subject/>
  <dc:title>Microsoft Office Word 2003  Cesta k základním úpravám</dc:title>
</cp:coreProperties>
</file>