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1EAA-2129-4957-917B-5E2A315A8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184D-12D0-44AF-81BE-06B8EACA5EB3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A4D8-2C57-4A51-A321-6BDEA76C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21F-57DA-4286-BD2E-B2000CA3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CF1-4649-4033-B7B0-076ED481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0B4-257C-4402-8A98-0FE53696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CAE6-E7AA-4F78-A018-65CDF0F8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0B09-C1C4-48EC-BB92-8AB42EEF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9A3E-8E47-44D8-BABC-EC3AD30C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6D7A-8618-4CF8-A655-926E9A86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C97A-38D9-41F5-8B9F-8120FADA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39DF-8553-4EDD-ADAE-6350B236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7226-24FA-4CF1-BEBA-A63037C4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E77-A7AE-49A0-942E-C09CFCB4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AEC7-0A19-41D2-9174-E750188A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09F6-989E-4689-86A5-6E3CE022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D4A5-6DA8-4967-95E2-0B2CA653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95BC-180A-45D3-97A9-89BA9D58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9E53-A1B3-4421-A1CB-AA012E6D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5FA12-D3AB-425C-9A7F-FC363F08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814F3-274B-4C22-AA47-435D58DD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40AC4-13FC-4891-BE72-B3630EED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81E27-2AC1-44ED-86F2-8951565C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D6D11-856C-45EE-8BFF-6B5A816F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A95F-BC2A-4105-9895-DCA9BFC3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D23B1-3B05-4343-BB13-FE22CB51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E709A-8AF9-449A-B8B1-B0C34AF8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8CF5A-4DE5-4B96-8AF6-0718F03F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D332B-4FFB-40B3-BC87-D9BA9809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B3040-7720-44A2-9C43-882FE45D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AC9F4-199D-41A0-93B4-E03F9948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F0DFA-925F-44B1-90AC-2742BC01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891F2-03F3-465C-BAB6-0B754E98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DC59B-777A-444C-B45B-C0311E4B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52EC9-7C07-4450-95E4-826EDF63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BC16-9B14-4715-9AB3-C3E7957E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DA9D4-3BAC-4211-BB75-7D4F43A7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1B7FC-FC40-47AB-8C66-8E9EEE00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B5069-7691-41D0-A656-B228D57A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BE22A-313F-4359-991E-7058553C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AAF4F-7388-4FE9-A538-FF720693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FAB93-FADA-4EB1-8ACF-62858C7C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5B0E9-2212-4F49-A659-A0B0B0C2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F2074-802B-42E5-A4D0-3E0D42E4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0D8C9-462F-48AF-A396-A2F1A60E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F87DB-DAE5-4217-9AD0-21086E60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E54-D68A-450F-99AA-F1F88C13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AF62B-CBBD-480F-A0E9-FDF398A0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AAEF6-8A1A-401B-9F11-BC7236E7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22B88-6A96-4B73-BF2C-01C2C8D8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A425A-F4A9-4CDC-AE84-9A0CA0CB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886A2-D004-4A34-AE89-C5BE3953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3A7F8-8509-4418-BB64-458C4258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8BB0E-A3E6-47FA-9658-3AF85863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71AE2-7627-48F5-82CD-3D5CA7B5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8E5DF-ECF5-49FA-A934-C76F7B75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3AC72-FC95-404A-A758-B4910038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57B-C98F-4BCF-95A4-EEAB5A94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B44AE-4804-458C-830A-F87A62D0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6427B-2442-4906-AD92-F88261C7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D8B9F-BC17-41DB-A440-5A8C85D4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58C66-E87F-4FE0-8E0B-428C0A65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9FE43-F6A4-4213-BAB5-BBB03E85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89EE3-92C9-4CAE-BA1A-F9413F92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A59FF-9642-4C40-94A1-E29381C1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294FE-97A3-40DE-BBC2-5E254E56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98F4F-CDB5-4184-B633-1E454905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EDC99-78FD-46AB-B5AF-1F8488B5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1988-C7C6-4DC9-A14C-A4804A66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36EB2-FF62-47EF-8622-D9EB2A63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D13AF-2F6A-4F87-B303-17F0DDCB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92407-781A-4E0E-850C-1F8118C5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5C67-BC13-4E15-A586-C2563CA4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DD9-D1EB-447F-A4E3-328A4BEC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B8BF-CEEF-4300-868E-8AEEB59332B4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9474-0254-4040-8C0A-BBDE37C788A7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34CD-B8AC-425E-8313-21EA20C12328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1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FC53-131D-4BA3-B4FB-F08BB61ECEE9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4943-57FB-4BA2-9C47-33BE9964B949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1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C4B3-0613-4BDA-B3A5-E436BA3E74C3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0BBD-A9A0-4571-8B32-40BC86704223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E6C5-20E0-4AE1-8769-47568CDE838D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6B0C-3E2B-4262-BD45-8A06A0EADF02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C838-0078-4C90-A482-6528FAA608C3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4890-CED7-48C5-BA0E-F0F44C773879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D16A-A0D1-47C5-A606-4E8B4771F794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Nadpis 1" descr=""/>
          <p:cNvPicPr/>
          <p:nvPr/>
        </p:nvPicPr>
        <p:blipFill>
          <a:blip r:embed="rId1"/>
          <a:stretch/>
        </p:blipFill>
        <p:spPr>
          <a:xfrm>
            <a:off x="281160" y="3176640"/>
            <a:ext cx="8637480" cy="24858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13840" y="928800"/>
            <a:ext cx="849636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Franklin Gothic Book"/>
              </a:rPr>
              <a:t>Vyhledávání dopravního spojen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Zástupný symbol pro zápatí 3"/>
          <p:cNvSpPr/>
          <p:nvPr/>
        </p:nvSpPr>
        <p:spPr>
          <a:xfrm>
            <a:off x="0" y="558972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Nový začátek (New start) CZ.1.07/1.4.00/21.1409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575316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Zástupný symbol pro zápatí 3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Vytvořeno dne 17. 3. 2012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9280" y="1052640"/>
          <a:ext cx="8715600" cy="368748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yhledávání informací na Internetu</a:t>
                      </a: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-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yhledávání dopravního spoje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ezentace je zaměřena na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yhledávání informací na internetu, především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yhledávání dopravního spojení a jeho využití pro cestování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INF – vyhledat potřebné informace na internetu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Rectangle 1"/>
          <p:cNvSpPr/>
          <p:nvPr/>
        </p:nvSpPr>
        <p:spPr>
          <a:xfrm>
            <a:off x="179280" y="5742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č. 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358120" cy="227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Jízdní řád na Internetu najdeme snadno v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hledávači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nebo přímo zadáním adresy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www.jizdnirady.cz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(resp.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www.idos.cz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) 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Načte se nám následující stránka: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V roletc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Jízdní řády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vyberem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způsob přepravy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–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lak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 autobus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 letadlo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MHD (město)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nebo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kombinace vlak + autobus atd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9" name="obrázek 150" descr="44EB893E"/>
          <p:cNvPicPr/>
          <p:nvPr/>
        </p:nvPicPr>
        <p:blipFill>
          <a:blip r:embed="rId1"/>
          <a:stretch/>
        </p:blipFill>
        <p:spPr>
          <a:xfrm>
            <a:off x="428760" y="2643120"/>
            <a:ext cx="8229600" cy="3714840"/>
          </a:xfrm>
          <a:prstGeom prst="rect">
            <a:avLst/>
          </a:prstGeom>
          <a:ln w="0">
            <a:noFill/>
          </a:ln>
        </p:spPr>
      </p:pic>
      <p:sp>
        <p:nvSpPr>
          <p:cNvPr id="270" name="Zástupný symbol pro zápatí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467480" cy="285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Kliknutím do políček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Odkud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a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Kam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napíšeme místa naší cesty.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Rozhodneme se, zda zaškrtneme políčko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Pouze přímá spojení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(bez přestupů).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V případě hledání s přestupy je maximální počet možných přestupů omezen na 4 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obrázek 144" descr="9AC0AA8C"/>
          <p:cNvPicPr/>
          <p:nvPr/>
        </p:nvPicPr>
        <p:blipFill>
          <a:blip r:embed="rId1"/>
          <a:stretch/>
        </p:blipFill>
        <p:spPr>
          <a:xfrm>
            <a:off x="500040" y="3286080"/>
            <a:ext cx="7467480" cy="2417760"/>
          </a:xfrm>
          <a:prstGeom prst="rect">
            <a:avLst/>
          </a:prstGeom>
          <a:ln w="0">
            <a:noFill/>
          </a:ln>
        </p:spPr>
      </p:pic>
      <p:sp>
        <p:nvSpPr>
          <p:cNvPr id="273" name="Zástupný symbol pro zápatí 4"/>
          <p:cNvSpPr/>
          <p:nvPr/>
        </p:nvSpPr>
        <p:spPr>
          <a:xfrm>
            <a:off x="0" y="6286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2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Vyplníme políčka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Datum a čas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a to kliknutím do políček a následným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psáním čísel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nebo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bráním z kalendáře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 Můžeme využít i nakliknutím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pomocí šipek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Zaškrtnem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Odjezd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a klikneme na políčko </a:t>
            </a:r>
            <a:r>
              <a:rPr b="1" lang="cs-CZ" sz="2800" spc="-1" strike="noStrike">
                <a:solidFill>
                  <a:srgbClr val="ff0000"/>
                </a:solidFill>
                <a:latin typeface="Franklin Gothic Book"/>
              </a:rPr>
              <a:t>HLEDAT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5" name="obrázek 1" descr="60214B8A"/>
          <p:cNvPicPr/>
          <p:nvPr/>
        </p:nvPicPr>
        <p:blipFill>
          <a:blip r:embed="rId1"/>
          <a:stretch/>
        </p:blipFill>
        <p:spPr>
          <a:xfrm>
            <a:off x="500040" y="2143080"/>
            <a:ext cx="7467480" cy="3929040"/>
          </a:xfrm>
          <a:prstGeom prst="rect">
            <a:avLst/>
          </a:prstGeom>
          <a:ln w="0">
            <a:noFill/>
          </a:ln>
        </p:spPr>
      </p:pic>
      <p:sp>
        <p:nvSpPr>
          <p:cNvPr id="276" name="Zástupný symbol pro zápatí 4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Zobrazí se nám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tabulka spojů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57132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Kadaň » Pra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0" y="3929040"/>
          <a:ext cx="9144000" cy="24541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917640"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Dat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dkud/Přestup/K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říj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dj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oz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Spoj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.7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Kadaň,,aut.nádr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8: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421292 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raha,,ÚAN Florenc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1: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5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47520" rIns="47520" tIns="9540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Celkový čas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 hod 25 min</a:t>
                      </a: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, vzdálenost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18 km</a:t>
                      </a: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, cena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32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ffff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Autobusy Karlovy Vary, a.s.; Karlovy Vary; 353 226 2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ffff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jede v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0" y="1071720"/>
          <a:ext cx="9144000" cy="27874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631800"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Dat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dkud/Přestup/K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říj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dj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oz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Spoj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.7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Kadaň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7: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7: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s 1765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Kadaň-Prunéřov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7: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7: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R 611 Karlex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raha hl.n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0: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53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47520" rIns="47520" tIns="9540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Celkový čas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 hod 46 min</a:t>
                      </a: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, vzdálenost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95 km</a:t>
                      </a: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, cena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54 Kč / IN50 127 Kč / IN25 191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ffff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České dráhy, a.s.; nábřeží L.Svobody 1222/12, 110 15 Praha 1; +420 840 112 1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Zástupný symbol pro zápatí 4"/>
          <p:cNvSpPr/>
          <p:nvPr/>
        </p:nvSpPr>
        <p:spPr>
          <a:xfrm>
            <a:off x="0" y="642132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715160" cy="3500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Jízdní řád nám nabízí i další informace a možnosti využití.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Můžem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hledat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-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předchozí i následující spoje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         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zpáteční spojení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         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hledat nová spojení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nebo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měnit zadání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Jízdní řád můžem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tisknout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3" name="obrázek 1" descr="71AC7866"/>
          <p:cNvPicPr/>
          <p:nvPr/>
        </p:nvPicPr>
        <p:blipFill>
          <a:blip r:embed="rId1"/>
          <a:stretch/>
        </p:blipFill>
        <p:spPr>
          <a:xfrm>
            <a:off x="428760" y="3857760"/>
            <a:ext cx="7467480" cy="1857240"/>
          </a:xfrm>
          <a:prstGeom prst="rect">
            <a:avLst/>
          </a:prstGeom>
          <a:ln w="0">
            <a:noFill/>
          </a:ln>
        </p:spPr>
      </p:pic>
      <p:sp>
        <p:nvSpPr>
          <p:cNvPr id="284" name="Zástupný symbol pro zápatí 4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2T15:51:32Z</dcterms:created>
  <dc:creator>ZS Kadan</dc:creator>
  <dc:description/>
  <dc:language>en-US</dc:language>
  <cp:lastModifiedBy>martina</cp:lastModifiedBy>
  <dcterms:modified xsi:type="dcterms:W3CDTF">2013-08-22T15:07:06Z</dcterms:modified>
  <cp:revision>20</cp:revision>
  <dc:subject/>
  <dc:title>Práce s Internetem – vyhledávání informací</dc:title>
</cp:coreProperties>
</file>