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06D7-A6ED-40B0-9ECD-D8DC19C1CE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631-2EC9-469A-B53C-1B4A944ACC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D66-10A7-409A-8713-17836928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725-8B6D-407D-B226-491AF3FA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EE2-9D17-48E5-8B72-60D0C239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0C2-FFE9-4F8B-9840-B6418BB4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B77-E5EB-4CCD-9E25-C292489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0C6-077D-469A-9C67-80BF6E8E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14C-CA97-48FE-983A-AA663F08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E73-DCA5-42A5-9F7A-043D9D2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D45-46C5-4BB6-9A45-2C5064B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402-6BDB-416E-89CB-78A9520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F84-AB82-45EB-A244-73C8A0F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749-5D66-43B9-A292-8597A89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1B51-0C5F-419C-A858-CFB20647136D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BD2-E6C5-496C-B9A8-0C2B590ADB52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Oprava chybné prezentace</a:t>
            </a: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Úkol: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pravte chyby ve vytvořené prezentac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5877000"/>
            <a:ext cx="7715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Vytvořeno dne  8. 2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6500880" y="2786040"/>
            <a:ext cx="1152360" cy="20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Spravce\Dokumenty\Kliparty\Kliparty_3\WMF\Prilezitosti\eve00011.wmf"/>
          <p:cNvPicPr/>
          <p:nvPr/>
        </p:nvPicPr>
        <p:blipFill>
          <a:blip r:embed="rId4"/>
          <a:stretch/>
        </p:blipFill>
        <p:spPr>
          <a:xfrm>
            <a:off x="1285920" y="314316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Documents and Settings\Spravce\Dokumenty\Kliparty\Kliparty_3\WMF\Prilezitosti\eve80005.wmf"/>
          <p:cNvPicPr/>
          <p:nvPr/>
        </p:nvPicPr>
        <p:blipFill>
          <a:blip r:embed="rId5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Documents and Settings\Spravce\Dokumenty\Kliparty\Kliparty_3\WMF\Prilezitosti\eve80006.wmf"/>
          <p:cNvPicPr/>
          <p:nvPr/>
        </p:nvPicPr>
        <p:blipFill>
          <a:blip r:embed="rId6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9"/>
          <p:cNvSpPr/>
          <p:nvPr/>
        </p:nvSpPr>
        <p:spPr>
          <a:xfrm>
            <a:off x="2357280" y="2071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Něco o Vánocích 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svátky klidu a míru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ípravu na Vánoce představuje advent, období čtyř týdnů před Vánoc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08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 .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věnec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Je mladým a velm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8072280" y="585792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4071960" y="442908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24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 Anglii se Vánoce slaví 25. prosince ráno. Dárky nosí Santa Claus, který chodí komínem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29" name="Zástupný symbol pro zápatí 6"/>
          <p:cNvSpPr/>
          <p:nvPr/>
        </p:nvSpPr>
        <p:spPr>
          <a:xfrm>
            <a:off x="857160" y="6308640"/>
            <a:ext cx="7643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3"/>
          <p:cNvSpPr/>
          <p:nvPr/>
        </p:nvSpPr>
        <p:spPr>
          <a:xfrm>
            <a:off x="1785960" y="592920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prava chybné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áci sami pracují na jednotlivých úpravách prezentace v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za pomoci panelu nástrojů. Součástí prezentace je i správné řešen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ovn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kti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68360" y="480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4786200" y="3429000"/>
            <a:ext cx="1152720" cy="20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9"/>
          <p:cNvSpPr/>
          <p:nvPr/>
        </p:nvSpPr>
        <p:spPr>
          <a:xfrm>
            <a:off x="2357280" y="207180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Documents and Settings\Spravce\Dokumenty\Kliparty\Kliparty_3\WMF\Prilezitosti\eve00011.wmf"/>
          <p:cNvPicPr/>
          <p:nvPr/>
        </p:nvPicPr>
        <p:blipFill>
          <a:blip r:embed="rId6"/>
          <a:stretch/>
        </p:blipFill>
        <p:spPr>
          <a:xfrm>
            <a:off x="3286080" y="2428920"/>
            <a:ext cx="1254240" cy="156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Něco o Vánocích </a:t>
            </a: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Agency FB"/>
              </a:rPr>
              <a:t>Vánoce jsou svátky klidu a mí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merican Text AT"/>
              </a:rPr>
              <a:t>Přípravu na Vánoce představuje advent, období čtyř týdnů před Váno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7375e"/>
                </a:solidFill>
                <a:uFillTx/>
                <a:latin typeface="Calibri"/>
              </a:rPr>
              <a:t>Adventní věnec</a:t>
            </a:r>
            <a:r>
              <a:rPr b="1" lang="cs-CZ" sz="18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Je mladým a velmi</a:t>
            </a:r>
            <a:r>
              <a:rPr b="0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3995640" y="270828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c000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</a:t>
            </a:r>
            <a:r>
              <a:rPr b="0" i="1" lang="cs-CZ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900000" y="1268280"/>
            <a:ext cx="3935520" cy="492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c000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c00000"/>
                </a:solidFill>
                <a:uFillTx/>
                <a:latin typeface="Agency FB"/>
              </a:rPr>
              <a:t>V Anglii se Vánoce slaví 25. prosince ráno. Dárky nosí Santa Claus, který chodí komín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zápatí 6"/>
          <p:cNvSpPr/>
          <p:nvPr/>
        </p:nvSpPr>
        <p:spPr>
          <a:xfrm>
            <a:off x="857160" y="621504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Zdroje obráz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Všechny uveřejněné odkazy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[cit. 2012-0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08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] dostupné pod licencí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droje obrázků:  jmelí - [eve_00011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voneček - [eve_80005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lucerna - [eve_80006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prskavka - [eve_0003]. Dostupný pod licencí office. microsoft.com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stromeček - [eve_0007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kometa - [eve_2010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zápatí 4"/>
          <p:cNvSpPr/>
          <p:nvPr/>
        </p:nvSpPr>
        <p:spPr>
          <a:xfrm>
            <a:off x="428760" y="6356520"/>
            <a:ext cx="835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35:29Z</dcterms:created>
  <dc:creator>Lucie Dlouhá</dc:creator>
  <dc:description/>
  <dc:language>en-US</dc:language>
  <cp:lastModifiedBy>martina</cp:lastModifiedBy>
  <dcterms:modified xsi:type="dcterms:W3CDTF">2013-08-22T15:05:32Z</dcterms:modified>
  <cp:revision>79</cp:revision>
  <dc:subject/>
  <dc:title>Vánoční zvyky</dc:title>
</cp:coreProperties>
</file>