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6726-CABC-473D-B550-510E5F553FC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B605-39DF-4E75-893B-8C319557DBC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F6B6-FD80-4D45-8C57-FEF454CD7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68B1-8CD5-4652-B09C-C127C7FD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6108-C5EA-4BAE-BD4B-8189A193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6588-1794-40AF-821C-AC2CCFC6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E8AD-54FE-45D1-8058-32CEF5CC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F858-3645-4D99-A22C-4D9D3B36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0D2E-9F0E-4D23-9E66-66DDC356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574E-A3E8-43D8-9177-73D5737D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D128-C9C8-495E-82A6-6361ADB2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565C-BB71-4CB9-86C8-2E1A78AF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182D-EC57-4862-B721-B5126432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F447-A417-4E5E-9ED6-97A4495C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3663-7460-4012-B57C-63BB6B36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ADB3-5D53-4DF1-BFDD-B69E9AA4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98EA-79CC-45B2-8D52-B7B91739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D4F8-D70A-43CF-9D6A-6FE3279C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4163-D221-4ACE-82EC-6A6DC9C6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ECDC8-8D71-4417-B775-3584655F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AD6CD-8734-4D54-80B7-B81FA605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1C062-DED7-4751-8D0D-ED753363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61297-61E4-4783-B3E2-94A6BDE3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61A65-41D2-4293-94DD-4A9B9670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12DE-C7E0-46FE-8D8B-12FF05B3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3B975-5B7D-448C-806F-E4B501D1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8AA81-AF22-4521-B84B-4753DF6B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B3C38-8A9D-4E4F-B310-15CFC5FF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03CA4-562B-41CE-8785-1D2B621E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B450B-155B-4F4D-AD27-0C06342C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CE731-2358-423D-8C4F-A2AB9763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F9DB6-56ED-4047-A51F-9DBEDBF4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6E26E-E7C3-4DC7-A388-F72FC407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F4DBA-7214-4004-A41C-E2491560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28227-BB5C-46C0-A2E0-41712E6B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725F-9E4B-412B-BBF0-7CA154A9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66247-4E89-4C36-A320-D3455316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F3E21-AF36-4323-9BDF-B8D89AEA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1B0B0-DF19-466F-82EF-ACD0927B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92F44-712D-49C7-B603-83472EB5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6B7E3-F0E9-48EC-904B-31CCB4BF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EB793-A054-4DFE-B141-0F7CE8C2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6083B-06F2-4AB1-8C66-8861949E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B4A75-3CCE-45CD-8F36-09219588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E5C28-B85F-4777-841C-10C39108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38876-C8BF-41D9-AC8F-D84FD875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B9ED-9555-4AE6-B0B9-9DEE1356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03477-4C18-4C25-8EB4-0FA1ADD4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8AC51-0327-4C38-89C1-B630D7C9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892AC-195C-4E64-B0CA-5AC91CAA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ED29F-E354-43C6-AA50-4FED953D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AE460-CB53-4720-8BA1-0A00D527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D66C4-AAA1-4D71-9B8E-9934766A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4A880-330B-4E98-9620-60642579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E8A11-0222-4613-968C-91AA9F54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A52F7-BBB7-4EAA-B280-6E87CE7C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59AD9-3D55-416C-A98A-BC612942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FC98-1298-49D3-930D-C6A6AA62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E7E97-4F03-43BB-9FB0-6A88B8E6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82616-46BC-4C15-9784-6A531A92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882F3-88F6-4A4A-9556-200712F1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7EAB4-BA2D-487D-B0EC-6BC15B95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B3881-57D0-4057-B599-3068A69C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A4CC1-A3F1-4971-9029-574A08AF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34900-4258-4FF0-890A-F4E36988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288BD-8192-4A6A-9A73-FCFCA054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770C6-4F5F-4293-9851-1D31C221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6BDF7-279B-45EF-9602-49FBD768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3973-9895-4496-B836-97871164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436EC-580A-441C-A6B9-22347B8B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00B87-36E3-40CC-86BA-1769A8BD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7F516-C52F-434F-BAE9-52ACF22F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5FD05-4449-45FA-BF7A-CBE8B294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EBE30-2C89-48A5-A803-7334F07C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732AF-829F-4509-9F4E-80873213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5B72A-6C88-4E5A-81C2-B4D83037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86A72-711D-4403-A9E9-D41C5742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66406-1860-4AAF-86CD-CC9666FF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F7C35-77E3-4205-8032-371BC129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0A49-3077-422F-B1E9-66017F23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1336E-822B-437B-A85A-8E630A5A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6C9D3-C54D-4E98-923E-F57251F5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8960C-7E4F-431D-B504-B58E6C70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92A86-06DA-4F01-B52F-A1D877D7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23838-DB6C-4A2C-897C-9D80098B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9EA99-7A4C-4CC2-BDDA-C4F6146A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85EA2-1CE3-489D-85E3-D2C66085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7F7E7-A70F-4544-B78E-0217B17F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115BC-D38A-4E65-B183-D6DEF22C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CA073-E094-4283-8993-1330530E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6B03-85A5-48FA-8061-814F44E4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35FD8-4068-4176-BAC6-9C9EF5EC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8154A-4D86-40EC-8F74-E58BA7E2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FCACC-0500-48EF-A6BB-CC8463CF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C01F8-5413-4730-8A6B-B8B4570B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FDEB3-599B-47CF-8B86-36BDC281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59DE3-C5D8-4746-A878-65C87361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94E1F-E9CC-42C5-8988-A77F8188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9A10-4E57-4416-AEB9-17F0A6B56845}" type="datetime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29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D9CC-C29C-40B9-94AC-17E652C2D3CF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úhlý trojúhelní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Skupin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olný tvar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olný tvar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olný tvar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olný tvar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Přímá spojovací čára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CE93-0164-44CC-B909-1BA9C722EF1D}" type="datetime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29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9C5A-EAA7-47EE-9A4C-18BF1FA78294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olný tvar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olný tvar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Dvojitá šipk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vojitá šipk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0A5F-6572-41D3-B417-EB5B0CEFBC29}" type="datetime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29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631E-5352-44FA-B317-B0891DC2BB28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olný tvar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olný tvar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3FA8-A028-4D87-926B-EE076F1EA332}" type="datetime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29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7E20-7371-4C0A-B65A-EA701C0F883A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7063-FF4D-4D2C-8A6E-63C554267BA8}" type="datetime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29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DFF9-5531-4EA4-BC4B-FFEF5139C12D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olný tvar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olný tvar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0B5A-F613-45C6-9B6F-DDBC62491100}" type="datetime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29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70F9-33FF-4660-B38B-131F3DADF841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6660-B54D-4A25-A1F7-EDD307122458}" type="datetime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29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9C0C-E269-4725-9416-1356439493EE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olný tvar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olný tvar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Pravoúhlý trojúhelní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Pravoúhlý trojúhelní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Přímá spojovací čára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Dvojitá šipk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Dvojitá šipk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5F20-8964-4BCC-AFD0-68AE80CEC24D}" type="datetime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29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9737-DF2D-4213-8C63-21D7EA652E79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Nadpis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336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Pro vlastní bezpečno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Zástupný symbol pro zápatí 4"/>
          <p:cNvSpPr/>
          <p:nvPr/>
        </p:nvSpPr>
        <p:spPr>
          <a:xfrm>
            <a:off x="611280" y="5732640"/>
            <a:ext cx="78897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Lucida Sans Unicode"/>
              </a:rPr>
              <a:t>Vytvořeno dne 4. 4.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Lucida Sans Unicode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"/>
          <p:cNvPicPr/>
          <p:nvPr/>
        </p:nvPicPr>
        <p:blipFill>
          <a:blip r:embed="rId2"/>
          <a:stretch/>
        </p:blipFill>
        <p:spPr>
          <a:xfrm>
            <a:off x="1692360" y="189000"/>
            <a:ext cx="57531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Zástupný symbol pro zápatí 3"/>
          <p:cNvSpPr/>
          <p:nvPr/>
        </p:nvSpPr>
        <p:spPr>
          <a:xfrm>
            <a:off x="1000080" y="5357880"/>
            <a:ext cx="678672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Vytvořeno dne 4. 4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79280" y="1052640"/>
          <a:ext cx="8715600" cy="3605040"/>
        </p:xfrm>
        <a:graphic>
          <a:graphicData uri="http://schemas.openxmlformats.org/drawingml/2006/table">
            <a:tbl>
              <a:tblPr/>
              <a:tblGrid>
                <a:gridCol w="3372120"/>
                <a:gridCol w="5343480"/>
              </a:tblGrid>
              <a:tr h="51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avidla bezpečného Internet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 je zaměřena na seznámení žáků se zásady bezpečného využívání internetu z hlediska svobodného média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 – vyhledat potřebné informace na internet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kl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Rectangle 1"/>
          <p:cNvSpPr/>
          <p:nvPr/>
        </p:nvSpPr>
        <p:spPr>
          <a:xfrm>
            <a:off x="179280" y="607680"/>
            <a:ext cx="9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č.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48104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adresu svého bydliště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telefonní čísl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adresu školy, kam chodíš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jména a adresy rodičů a rodinných příslušníků a jejich telefonní čísl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Nadpis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53452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Zástupný symbol pro zápatí 4"/>
          <p:cNvSpPr/>
          <p:nvPr/>
        </p:nvSpPr>
        <p:spPr>
          <a:xfrm>
            <a:off x="1214280" y="5857920"/>
            <a:ext cx="72154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Vytvořeno dne 4. 4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přihlašovací jméno počítač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heslo počítač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přihlašovací jméno e-mail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heslo e-mail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údaje o kreditní kartě nebo peněžním účt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Nadpis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9" name="Zástupný symbol pro zápatí 4"/>
          <p:cNvSpPr/>
          <p:nvPr/>
        </p:nvSpPr>
        <p:spPr>
          <a:xfrm>
            <a:off x="1071720" y="5857920"/>
            <a:ext cx="73580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Vytvořeno dne 4. 4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edomlouvej osobní schůzku s někým, s kým jsi se seznámil prostřednictvím Internet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eodpovídej na osobní výzvy od těch, které neznáš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eodpovídej na zlé, urážlivé, nevkusné nebo hrubé e-mai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Nadpis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2" name="Zástupný symbol pro zápatí 4"/>
          <p:cNvSpPr/>
          <p:nvPr/>
        </p:nvSpPr>
        <p:spPr>
          <a:xfrm>
            <a:off x="785880" y="5857920"/>
            <a:ext cx="78580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Vytvořeno dne 4. 4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soubory přiložené k e-mailům, pokud přijdou z míst, které nezná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webové stránky, které jsou určené jen pro dospěl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Nadpis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5" name="Zástupný symbol pro zápatí 4"/>
          <p:cNvSpPr/>
          <p:nvPr/>
        </p:nvSpPr>
        <p:spPr>
          <a:xfrm>
            <a:off x="1357200" y="5857920"/>
            <a:ext cx="72154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Vytvořeno dne 4. 4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714320"/>
            <a:ext cx="8229600" cy="42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0000"/>
                </a:solidFill>
                <a:latin typeface="Lucida Sans Unicode"/>
              </a:rPr>
              <a:t>Sociální sítě: Lidé.cz, Líbímseti at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a sdělování vašich osobních údajů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a sdělování vašeho osobního denního program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a vystavování osobních fotografií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2060"/>
                </a:solidFill>
                <a:latin typeface="Lucida Sans Unicode"/>
              </a:rPr>
              <a:t>na navazování kontaktů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Nadpis 2" descr=""/>
          <p:cNvPicPr/>
          <p:nvPr/>
        </p:nvPicPr>
        <p:blipFill>
          <a:blip r:embed="rId1"/>
          <a:stretch/>
        </p:blipFill>
        <p:spPr>
          <a:xfrm>
            <a:off x="195120" y="158760"/>
            <a:ext cx="8723520" cy="1494000"/>
          </a:xfrm>
          <a:prstGeom prst="rect">
            <a:avLst/>
          </a:prstGeom>
          <a:ln w="0">
            <a:noFill/>
          </a:ln>
        </p:spPr>
      </p:pic>
      <p:sp>
        <p:nvSpPr>
          <p:cNvPr id="398" name="Zástupný symbol pro zápatí 4"/>
          <p:cNvSpPr/>
          <p:nvPr/>
        </p:nvSpPr>
        <p:spPr>
          <a:xfrm>
            <a:off x="1285920" y="5857920"/>
            <a:ext cx="71438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Vytvořeno dne 4. 4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Lucida Sans Unicode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23:00:14Z</dcterms:created>
  <dc:creator>ZS Kadan</dc:creator>
  <dc:description/>
  <dc:language>en-US</dc:language>
  <cp:lastModifiedBy>martina</cp:lastModifiedBy>
  <dcterms:modified xsi:type="dcterms:W3CDTF">2013-08-22T15:08:27Z</dcterms:modified>
  <cp:revision>14</cp:revision>
  <dc:subject/>
  <dc:title>Pravidla bezpečného internetu</dc:title>
</cp:coreProperties>
</file>