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656D-F07E-4922-8576-A104F9CB59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556A-DF5C-411C-B665-4DC5C898BF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BE4-1184-42B5-B78D-9D950B76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C5A-337C-4864-869F-295C75B2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317-C68F-40D9-834F-FB34E36E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E87-350F-4DF8-91EB-B945292B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D35F-220F-4F45-8EEC-7691AF71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2194-123D-4FEC-8A6B-85B0EAA2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C001-F76F-4695-A334-26ABAEE4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3D01-8063-4A9F-AC2B-E69472B1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CDB0-D13A-4020-B7BA-97E6AEF1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7CDE-4F53-4C32-A87B-E59235C6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ECBE-1D08-4B78-BFFE-531DF580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0C8-C641-4006-AC5A-CDC0C1DE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1249-EC16-47CA-9111-9C329E3F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9D3F-5A23-4F19-A5EE-9D3E4BBF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5D4D-6E6A-412C-8471-A5D3D9B3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BEFA-2B8D-4ABA-8A7A-79F712BD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239F-4D9A-483E-A1F2-61B668BE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9C7-C27D-4B88-93B3-B63356DF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38F-1450-4F6B-929B-FF1257FC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46A-2886-469C-8627-F7D3C2DD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5FA-9FF2-4ED4-ACF8-D8AE56E8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E2F-549F-4BBE-8328-E9945F64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EA5-76D6-4E68-8B64-5CC51CD3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5DE-9036-499F-9A70-A5D01788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37E3-7572-487D-8AD3-F32D6EB006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72B1-D2A0-4F21-972D-5E248FCCF163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vskadan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5714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Základní prvky internetového prohlížeč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57200" y="3571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Explo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Google Chr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Mozil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Op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Zástupný symbol pro zápatí 6"/>
          <p:cNvSpPr/>
          <p:nvPr/>
        </p:nvSpPr>
        <p:spPr>
          <a:xfrm>
            <a:off x="1000080" y="6165720"/>
            <a:ext cx="72867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1c1c1c"/>
                </a:solidFill>
                <a:latin typeface="Tahoma"/>
              </a:rPr>
              <a:t>Nový začátek (New start) CZ.1.07/1.4.00/21.1409 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3"/>
          <p:cNvSpPr/>
          <p:nvPr/>
        </p:nvSpPr>
        <p:spPr>
          <a:xfrm>
            <a:off x="571680" y="5877000"/>
            <a:ext cx="81435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Vytvořeno dne 25. 2. 2012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Tahoma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9280" y="2133720"/>
          <a:ext cx="8712360" cy="3321000"/>
        </p:xfrm>
        <a:graphic>
          <a:graphicData uri="http://schemas.openxmlformats.org/drawingml/2006/table">
            <a:tbl>
              <a:tblPr/>
              <a:tblGrid>
                <a:gridCol w="3370320"/>
                <a:gridCol w="5342040"/>
              </a:tblGrid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ákladní prvky internetového prohlížeč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 prací s internetovým prohlížečem. Žáci se seznámí s jeho základními prvky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"/>
          <p:cNvSpPr/>
          <p:nvPr/>
        </p:nvSpPr>
        <p:spPr>
          <a:xfrm>
            <a:off x="1332000" y="127548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lačítka Zpět a Vpř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4240" y="1785600"/>
            <a:ext cx="84297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s vrátí na předchozí stránku, kterou jsme navštívi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s posune na následující stránku, kterou jsme navštívi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aždým kliknutí na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nebo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se posuneme o strán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edle tlačítek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pě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př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je symbol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malé šipky 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cs-CZ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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po kliknutí na ni se nám zobrazí nabídka všech navštívených strán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Alt+kurzorové klávesy vlevo a vpravo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listování stránek přes klávesnici)</a:t>
            </a:r>
            <a:r>
              <a:rPr b="1" lang="cs-CZ" sz="20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Zástupný symbol pro zápatí 6"/>
          <p:cNvSpPr/>
          <p:nvPr/>
        </p:nvSpPr>
        <p:spPr>
          <a:xfrm>
            <a:off x="1071720" y="6400800"/>
            <a:ext cx="735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anel adre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3880" y="185724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o tohoto okénka zapisujeme webové adres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dresa se skládá z několika slov oddělených tečkami a je psána bez mezer, čárek a háčk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např. 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zvskadan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ednotlivé webové stránky obsahují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hypertextové odkaz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 které odkazují na další webové stránky a poznáme je změnou kurzoru myš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Esc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pozastavení načítání stránky přes klávesnic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Zástupný symbol pro zápatí 6"/>
          <p:cNvSpPr/>
          <p:nvPr/>
        </p:nvSpPr>
        <p:spPr>
          <a:xfrm>
            <a:off x="1000080" y="6243480"/>
            <a:ext cx="75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lačítko Aktualizovat a Oblíbené položky, Histo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14240" y="1785960"/>
            <a:ext cx="84297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Aktualizac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↓↑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 načte na dlouhodobě otevřené stránce aktuální data a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zobrazí stránku znov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F5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aktualizace otevřené stránky přes klávesnici)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líbené položky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kazují na často navštěvované stránky, které si zařadíme kliknutím na položk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Přidat oblíbenou polož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Histori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ajdeme v záložc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líbené polož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umožňuje najít navštívené stránky v minul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071720" y="6243480"/>
            <a:ext cx="792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8440" y="214200"/>
            <a:ext cx="87152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Domů</a:t>
            </a:r>
            <a:br>
              <a:rPr sz="4400"/>
            </a:b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Nastavení domovské strán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14240" y="185724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ů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nám znovu načte „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ovskou stránku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“ = (stránku výchoz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Alt+M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vyvolání nabídky domů přes klávesnic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astavení domovské strán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vedeme v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hlavní nabídc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kliknutím n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ástroj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Možnosti internetu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v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dialogovém okně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 záložko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Obecné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vepíšeme požadovanou internetovou adresu do políčk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Domovská stránka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potvrdíme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O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214280" y="6243480"/>
            <a:ext cx="764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Ti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85880" y="2017800"/>
            <a:ext cx="816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lačítk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Tis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slouží pro vytištění aktuální webové strán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liknutím na </a:t>
            </a:r>
            <a:r>
              <a:rPr b="1" i="1" lang="cs-CZ" sz="2800" spc="-1" strike="noStrike">
                <a:solidFill>
                  <a:srgbClr val="333399"/>
                </a:solidFill>
                <a:latin typeface="Tahoma"/>
              </a:rPr>
              <a:t>symbol malé šipk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vedle vyvoláme nabídku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Náhle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stránku před tiskem zkontroluj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Zástupný symbol pro zápatí 3"/>
          <p:cNvSpPr/>
          <p:nvPr/>
        </p:nvSpPr>
        <p:spPr>
          <a:xfrm>
            <a:off x="928800" y="6243480"/>
            <a:ext cx="785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Internetové vyhledáva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4240" y="19288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ělíme je n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fultextové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atalogov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e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 fultextovém vyhledávači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ledáme informaci zadáním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klíčového slova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do okénka vyhledávače a zvolíme podobu výsledku hledání (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tex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 obrázek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td.) –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Google.cz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atalogovém vyhledávači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sou odkazy řazeny přehledně pod jednotlivými </a:t>
            </a:r>
            <a:r>
              <a:rPr b="0" lang="cs-CZ" sz="2800" spc="-1" strike="noStrike">
                <a:solidFill>
                  <a:srgbClr val="ff0000"/>
                </a:solidFill>
                <a:latin typeface="Tahoma"/>
              </a:rPr>
              <a:t>hesl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 postupně se přes ně proklikáme k požadované informaci –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Seznam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143000" y="6243480"/>
            <a:ext cx="77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Ukládání dat z interne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2960" y="1856880"/>
            <a:ext cx="85010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ení celé stránky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upujeme takto: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Soubor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dialogové okn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webovou stránku                                                Uložit d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kam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Úplná webová stránk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pro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ení stránky bez obrázků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upujeme takto: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Soubor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→ dialogové okno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webovou stránku                                                Uložit d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kam a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Uložit jako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zvolíme </a:t>
            </a: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Webová stránk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Ulož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143000" y="6400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Autorem materiálu a všech jeho částí, není-li uvedeno jinak, je Martin Dlouhý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Vytvořeno dne 25. 2. 2012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Tahoma"/>
              </a:rPr>
              <a:t>Nový začátek (New start) CZ.1.07/1.4.00/21.1409 Tento projekt je spolufinancován Evropským sociálním fondem a státním rozpočtem České republiky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08:31:33Z</dcterms:created>
  <dc:creator>Server</dc:creator>
  <dc:description/>
  <dc:language>en-US</dc:language>
  <cp:lastModifiedBy>martina</cp:lastModifiedBy>
  <dcterms:modified xsi:type="dcterms:W3CDTF">2013-08-22T15:06:35Z</dcterms:modified>
  <cp:revision>29</cp:revision>
  <dc:subject/>
  <dc:title>Základní prvky prohlížeče</dc:title>
</cp:coreProperties>
</file>