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9E44-AFC6-40F5-ADD4-08AAC7F539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98AC-ABAD-46E3-B102-FB1FFF5DF92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AD5-1FFB-4E5C-88FE-92676424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08E-1B33-4985-BE46-4F83D43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15B-F09C-44C8-B936-7B745827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8E7-779F-4FCB-ACBA-52A2F6EB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82CE-E755-4AD8-B69A-28619936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B79-3F72-4398-BE38-3DE9B679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FEE1-37C4-4E6F-8F65-BB31A819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EF14-2B31-4583-8B7A-5B24A4F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5526-FFE5-47D7-A2EA-740428B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602B-5FA3-4F93-B933-B4AD3E0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0849-39C8-48D9-849A-F560B5E8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455-E63F-43B8-85CA-06114D7F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B4E8-9932-4D9A-8587-327B82E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9C36-38FA-4647-A2AF-58FB54E3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44EA-E722-4379-B017-0F405CFB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3359-4420-4775-A4B6-83656B9E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B595-20EE-4D06-A90B-AA2BD2BA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10A-58DF-4922-A848-BD32766D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E40-1997-4FFB-BBE6-E9E724F6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2C6-88BE-442E-9314-2861D9E4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282-30D1-40F7-9BA8-41F9F6E5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752-B17E-42BE-A50B-7F379713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B2F-BFDC-4C6B-A117-23D2729C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1AE-ED6F-4BB0-970B-A42FF292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29B6-8497-4A2C-9937-870D51B4CB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15C-F45B-4D76-A8ED-D8A35F75C9C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1071720"/>
            <a:ext cx="77724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00"/>
                </a:solidFill>
                <a:latin typeface="Arial Black"/>
              </a:rPr>
              <a:t>Cvičná prezenta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6781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b7"/>
                </a:solidFill>
                <a:latin typeface="Arial"/>
              </a:rPr>
              <a:t>Společný postup tvorby prezentace v MS PowerPoin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1357200" y="5715000"/>
            <a:ext cx="707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752800" cy="14004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KÝ PÁ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5880" y="1928880"/>
            <a:ext cx="75499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ký pát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21520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zápatí 4"/>
          <p:cNvSpPr/>
          <p:nvPr/>
        </p:nvSpPr>
        <p:spPr>
          <a:xfrm>
            <a:off x="1357200" y="6245280"/>
            <a:ext cx="66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ÍLÁ SOBOT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6219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íl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sobo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zápatí 4"/>
          <p:cNvSpPr/>
          <p:nvPr/>
        </p:nvSpPr>
        <p:spPr>
          <a:xfrm>
            <a:off x="1357200" y="6245280"/>
            <a:ext cx="65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BOŽÍ HOD VELIKONOČN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72630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Boží hod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600084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0" name="Zástupný symbol pro zápatí 4"/>
          <p:cNvSpPr/>
          <p:nvPr/>
        </p:nvSpPr>
        <p:spPr>
          <a:xfrm>
            <a:off x="1143000" y="6245280"/>
            <a:ext cx="678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VELIKONOČNÍ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PONDĚLÍ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2708280"/>
            <a:ext cx="806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elikonoční ponděl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našich krajích je zvykem chodit s  pomlázkou, což je pletený prut, kterým chlapci bijí děvčata z okolí. Za to dostanou malovaná vajíčka čili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cs-CZ" sz="28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1" lang="cs-CZ" sz="2800" spc="-1" strike="noStrike">
                <a:solidFill>
                  <a:srgbClr val="16161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66ff66"/>
                </a:solidFill>
                <a:latin typeface="Arial"/>
              </a:rPr>
              <a:t>l</a:t>
            </a:r>
            <a:r>
              <a:rPr b="1" lang="cs-CZ" sz="28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1" lang="cs-CZ" sz="2800" spc="-1" strike="noStrike">
                <a:solidFill>
                  <a:srgbClr val="d82852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4" name="Zástupný symbol pro zápatí 4"/>
          <p:cNvSpPr/>
          <p:nvPr/>
        </p:nvSpPr>
        <p:spPr>
          <a:xfrm>
            <a:off x="1357200" y="6245280"/>
            <a:ext cx="6500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Spravce\Dokumenty\Kliparty\Kliparty_3\WMF\Vira\rel10016.wmf"/>
          <p:cNvPicPr/>
          <p:nvPr/>
        </p:nvPicPr>
        <p:blipFill>
          <a:blip r:embed="rId1"/>
          <a:stretch/>
        </p:blipFill>
        <p:spPr>
          <a:xfrm flipH="1">
            <a:off x="1071720" y="1071720"/>
            <a:ext cx="2146320" cy="4456080"/>
          </a:xfrm>
          <a:prstGeom prst="rect">
            <a:avLst/>
          </a:prstGeom>
          <a:ln w="0">
            <a:noFill/>
          </a:ln>
        </p:spPr>
      </p:pic>
      <p:pic>
        <p:nvPicPr>
          <p:cNvPr id="156" name="Obdélník 6" descr=""/>
          <p:cNvPicPr/>
          <p:nvPr/>
        </p:nvPicPr>
        <p:blipFill>
          <a:blip r:embed="rId2"/>
          <a:stretch/>
        </p:blipFill>
        <p:spPr>
          <a:xfrm>
            <a:off x="2955960" y="1566720"/>
            <a:ext cx="6065640" cy="2224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58" name="Zástupný symbol pro zápatí 5"/>
          <p:cNvSpPr/>
          <p:nvPr/>
        </p:nvSpPr>
        <p:spPr>
          <a:xfrm>
            <a:off x="2124000" y="6143760"/>
            <a:ext cx="587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zápatí 3"/>
          <p:cNvSpPr/>
          <p:nvPr/>
        </p:nvSpPr>
        <p:spPr>
          <a:xfrm>
            <a:off x="1116000" y="5708520"/>
            <a:ext cx="72723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4200" y="981000"/>
          <a:ext cx="8715600" cy="4281480"/>
        </p:xfrm>
        <a:graphic>
          <a:graphicData uri="http://schemas.openxmlformats.org/drawingml/2006/table">
            <a:tbl>
              <a:tblPr/>
              <a:tblGrid>
                <a:gridCol w="3372120"/>
                <a:gridCol w="53434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ičná prezentace - společný postup tvorby prezentace v MS PowerPoint 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 na dané téma. Žáci si společně přímou prací na PC procvičí tvorbu  prezent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 – ovládat základy psaní na klávesnici, na uživatelské úrovni práci s textovým editorem, využívat vhodné aplik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zentace, pracovní 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ýklad, aktivit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"/>
          <p:cNvSpPr/>
          <p:nvPr/>
        </p:nvSpPr>
        <p:spPr>
          <a:xfrm>
            <a:off x="179280" y="4244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č.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Úkol: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Společná tvorba prezentace na téma Velikonoce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85716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Postu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uštěním program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owerPoin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 objeví na ploš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vní prázdný sníme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ezentace většinou jen pr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ikne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vrh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po straně se nám otevře okno s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šablonou grafických návrh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arevným spektrem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imačním schémate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bereme pro všechny snímky a vše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ový snímek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íme kliknutím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lačítko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se stejným nápisem v 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u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Po straně se nám otevře okno se způsob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ozložení sním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Vybere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Nadpis a obsah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otvrdíme kliknut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doplním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opírováním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 předlohy po kliknutím do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textového pole</a:t>
            </a:r>
            <a:r>
              <a:rPr b="0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upravuje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ho přes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anel nástro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dpis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72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učně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žlu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Text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pravíme 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 32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ázev dn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ztučním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prezentace vlož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lipar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upravíme  jejich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velik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otovou prezentaci spustím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bídkou Prezentace – Spustit prez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928800" y="6072120"/>
            <a:ext cx="7572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8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1.    VELIKONO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.   ŠKAREDÁ STŘ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škaredou střed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nesmíte mračit, jinak se budete mračit každou středu v roce. 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3.    ZELENÝ ČTVR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elený čtvr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4.     VELKÝ PÁT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ký pátek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lidé chodili mýt do potoka, aby se jim vyhýbaly choroby. Někde se chlapci potápěli a snažili se ústy uchopit ze dna vody kamínek, který pak hodili levačkou za hlavu - pak je nebolely zuby. Textilníci předli pašijové nitě, těmi udělali několik stehů, které pak rodinu chránily před uhranutím a zlými duchy. Košile ušitá pašijovými nitěmi chránila před bleskem. Nesmělo se prát prádlo, nesmělo se pracovat v sadu, nesmělo se nic půjčov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5.     BÍLÁ SOBO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ílou sobotu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se z ohořelých dřívek udělal křížek a ten se donesl na pole, aby bylo úrodné. Někde se dávaly za trámy domu uhlíky, aby odradily požár. Doma se uklízelo, bílilo, pekly se mazance a beránci, pletly pomlázky, zdobila vajíčk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6.     BOŽÍ HOD VELIKONOČ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oží hod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ostala každá návštěva kousek posvěceného jídla, trochu se ho dalo na pole, do studny a na zahradu - aby byla úroda, voda a dostatek ovo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7.     VELIKONOČNÍ PONDĚL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likonoční pondělí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je dnem, který následuje po neděli Zmrtvýchvstání Páně. U nás je spojeno s nejrůznějšími tradicemi a zvyklostmi, které lze zařadit k rituálům nastávajícího jara. V našich krajích je zvykem chodit s pomlázkou, což je pletený prut, kterým chlapci bijí děvčata z okolí. Za to dostanou malovaná vajíčka čili krasli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8.     VESELÉ VELIKONOCE přeje 8. tří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Obrázk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Zástupný symbol pro zápatí 2"/>
          <p:cNvSpPr/>
          <p:nvPr/>
        </p:nvSpPr>
        <p:spPr>
          <a:xfrm>
            <a:off x="1214280" y="6143760"/>
            <a:ext cx="7358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5214960" y="1785960"/>
            <a:ext cx="3494160" cy="3597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3929040" y="157176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Spravce\Dokumenty\Kliparty\Kliparty_3\WMF\Vira\rel10016.wmf"/>
          <p:cNvPicPr/>
          <p:nvPr/>
        </p:nvPicPr>
        <p:blipFill>
          <a:blip r:embed="rId3"/>
          <a:stretch/>
        </p:blipFill>
        <p:spPr>
          <a:xfrm flipH="1">
            <a:off x="1143000" y="1428840"/>
            <a:ext cx="2146320" cy="44560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385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</a:rPr>
              <a:t>Internetové zdroje obrázků</a:t>
            </a:r>
            <a:r>
              <a:rPr b="1" lang="cs-CZ" sz="3200" spc="-1" strike="noStrike">
                <a:solidFill>
                  <a:srgbClr val="ffff4a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3880" y="1143000"/>
            <a:ext cx="8007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Všechny uveřejněné odkazy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[cit. 2012-01-18] dostupné pod licencí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Zdroje obrázků:  vajíčko - [eve_9104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pomlázka - [eve_10007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ffffb7"/>
                </a:solidFill>
                <a:latin typeface="Arial"/>
              </a:rPr>
              <a:t>oltář - [rel_10016]. Dostupný pod licencí office. microsof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428840" y="6072120"/>
            <a:ext cx="7072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ff00"/>
                </a:solidFill>
                <a:latin typeface="Arial Black"/>
              </a:rPr>
              <a:t>VELIKONOCE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7" descr="C:\Documents and Settings\Spravce\Dokumenty\Kliparty\Kliparty_3\WMF\Prilezitosti\eve10007.wmf"/>
          <p:cNvPicPr/>
          <p:nvPr/>
        </p:nvPicPr>
        <p:blipFill>
          <a:blip r:embed="rId1"/>
          <a:stretch/>
        </p:blipFill>
        <p:spPr>
          <a:xfrm>
            <a:off x="4572000" y="2357280"/>
            <a:ext cx="3494160" cy="359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Documents and Settings\Spravce\Dokumenty\Kliparty\Kliparty_1\WMF\Udalosti\eve_9104.wmf"/>
          <p:cNvPicPr/>
          <p:nvPr/>
        </p:nvPicPr>
        <p:blipFill>
          <a:blip r:embed="rId2"/>
          <a:stretch/>
        </p:blipFill>
        <p:spPr>
          <a:xfrm>
            <a:off x="1714680" y="2786040"/>
            <a:ext cx="1698480" cy="146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Spravce\Dokumenty\Kliparty\Kliparty_1\WMF\Udalosti\eve_9104.wmf"/>
          <p:cNvPicPr/>
          <p:nvPr/>
        </p:nvPicPr>
        <p:blipFill>
          <a:blip r:embed="rId3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6"/>
          <p:cNvSpPr/>
          <p:nvPr/>
        </p:nvSpPr>
        <p:spPr>
          <a:xfrm>
            <a:off x="3643200" y="1928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Správné řeš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Zástupný symbol pro zápatí 7"/>
          <p:cNvSpPr/>
          <p:nvPr/>
        </p:nvSpPr>
        <p:spPr>
          <a:xfrm>
            <a:off x="1500120" y="6286680"/>
            <a:ext cx="64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0755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ŠKAREDÁ </a:t>
            </a:r>
            <a:br>
              <a:rPr sz="7200"/>
            </a:b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STŘEDA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5520" y="2356920"/>
            <a:ext cx="70470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škaredou středu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e nesmíte mračit, jinak se budete mračit každou středu v ro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škaredou středu začínaly tři přísné postní dny. Ženy se oblékaly do tmavých obleků. Končila všechna společenská posedávání, muži omezili kouření a pití. Hlavním pokrmem byla čočka a hrách. Začínala se již také malovat vejce, aby byla připravena na pomlázku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zápatí 4"/>
          <p:cNvSpPr/>
          <p:nvPr/>
        </p:nvSpPr>
        <p:spPr>
          <a:xfrm>
            <a:off x="1214280" y="6308640"/>
            <a:ext cx="6929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00"/>
                </a:solidFill>
                <a:latin typeface="Arial Black"/>
              </a:rPr>
              <a:t>ZELENÝ ČTVRTEK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2781360"/>
            <a:ext cx="72630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Zelený čtvrtek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usíte časně vstát a omýt se rosou - nebudete nemocní. Hospodyně musí zamést dům ještě před východem slunce a smetí odnést na křižovatku - nebudete mít v domě blechy. V Orlických horách se házel do studny chléb s medem - aby v ní byla voda celý rok. Také jidáše s medem zaručovaly zdrav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C:\Documents and Settings\Spravce\Dokumenty\Kliparty\Kliparty_1\WMF\Udalosti\eve_9104.wmf"/>
          <p:cNvPicPr/>
          <p:nvPr/>
        </p:nvPicPr>
        <p:blipFill>
          <a:blip r:embed="rId1"/>
          <a:stretch/>
        </p:blipFill>
        <p:spPr>
          <a:xfrm>
            <a:off x="8072280" y="5985000"/>
            <a:ext cx="642960" cy="555480"/>
          </a:xfrm>
          <a:prstGeom prst="rect">
            <a:avLst/>
          </a:prstGeom>
          <a:ln w="0">
            <a:noFill/>
          </a:ln>
        </p:spPr>
      </p:pic>
      <p:sp>
        <p:nvSpPr>
          <p:cNvPr id="138" name="Zástupný symbol pro zápatí 4"/>
          <p:cNvSpPr/>
          <p:nvPr/>
        </p:nvSpPr>
        <p:spPr>
          <a:xfrm>
            <a:off x="1500120" y="6245280"/>
            <a:ext cx="635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Vytvořeno dne 18. 1. 2012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0:10:19Z</dcterms:created>
  <dc:creator>zak</dc:creator>
  <dc:description/>
  <dc:language>en-US</dc:language>
  <cp:lastModifiedBy>martina</cp:lastModifiedBy>
  <dcterms:modified xsi:type="dcterms:W3CDTF">2013-08-22T15:04:34Z</dcterms:modified>
  <cp:revision>49</cp:revision>
  <dc:subject/>
  <dc:title>VELIKONCE</dc:title>
</cp:coreProperties>
</file>