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1FFE-D50F-4160-9888-CCF90C237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95C7-9F31-4A45-9CC6-FA0F651BB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6E3-210D-4812-A285-7255E072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A5D-0A78-4BD8-80DA-146FF18B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FB5A-3730-469D-8807-82307A19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A72-A6E9-42FE-B70E-D8C122C1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8BF0-B8E2-45BA-B9A8-511D3BFE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C8AF-F50D-4818-832E-0300FB35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7764-12B4-4100-825B-658AA5A6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1A6E-D61B-496A-93EC-DB7F1816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8219-0766-4480-94C8-E9FC08F0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5DBA-A69E-4FA6-BAE3-7EA3F289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5067-3301-46E6-A033-8D27804D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2AF-301B-4F0E-AB40-D89DF4CC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25A7-AD50-431B-81E6-B101C728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28EA-CF50-47C5-8D5A-486FE09E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BEC4-1129-4AB0-ADA0-4437D54A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2C19-0FE2-4B55-8F9E-4416CE88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78E0-EA91-460D-B177-E357BBFF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3665A-51BC-4C4C-848F-D78E362D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FFF17-61D1-4847-A51F-90109EEB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3CBB1-936A-4973-85ED-CB3A02A8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33A68-7566-4265-A843-793DD89C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ECFB-A5A1-45C1-B477-CFE254EA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8E10-9BF9-4638-8BB9-40B669CA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E8D77-03C7-4EAC-875D-4E638CF7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18456-22F4-466C-BB55-CE2E1D2B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4A759-2E07-4E17-B0D9-9A1EC65E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0B58B-052E-4DB0-9C7C-3E500EC3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2D5DF-FEAE-4A59-97F4-6AC5AE53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10FF4-7F04-471E-B822-3E577A63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99F92-F408-4089-AA1D-98306561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AD39E-72E3-4146-AE27-3215AAA5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80043-85EA-4AF6-994E-455F7CD1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7D75C-C50E-4910-BCCF-80D7A635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FF6F-3B13-457A-8110-0D72CFEE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05E21-A1DC-45A6-A062-AF78C79A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029D1-E9D6-4F1D-9330-D3CC207E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C5604-99A6-425A-AB53-EED99CA6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01328-74BB-44BE-8975-24277681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800AF-814F-497B-9781-7429AD63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E9FBC-766C-4F26-9F7D-4277CB71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0E43F-24A5-43D6-9D2F-17F2BDCE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C2D96-A846-4BFA-B7A1-E03129C8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3E165-BBDC-4706-8583-9DCDE2E8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C47F3-1702-490D-B8D7-83DDFB36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605-38E7-4F0C-8C3F-486D7D7B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C62E4-7D16-4C2F-BEF3-BC9E309E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D0820-4248-4D2A-B059-51FFAE75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A0306-1DA5-402A-B0E6-DA3EB5DE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B6E91-02AE-4AD2-9BBC-B17F3DF7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6D305-31E8-4DCB-B275-E2F3024F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64607-AB13-41B6-AD7E-27135F17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36834-366A-4F8D-BF98-8CBCB36B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6F253-62CA-485B-B6F4-DE336B15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30B9E-9953-4ED8-8915-4A1E3A24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C7481-6D7B-4775-B362-5A9EA980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3D33-8DF0-4639-8695-100757B0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FA561-78F4-43AE-813A-58240A1D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FAD34-757A-4D26-B3FA-CAAF41F7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43A58-9158-4DA9-A037-3393371F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EA70D-881D-469E-9261-900AD405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97D21-01C8-4412-B55B-65B7093A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52D34-0034-44A2-8525-247AAF7E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F9042-B322-44AD-8975-565B0A65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A62A8-C09E-4982-B6EB-331658BF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829C8-3074-4B93-8C41-3B4D2948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62BE0-2DC4-43FE-AC7C-E72BAE5F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2A2-177D-405A-AC70-597DAB38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CA16B-57F7-470F-9F88-FDBA1EBF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AE86B-E54C-4079-8B9E-D26B54F6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1F058-9D80-42E2-A172-0C81CBF0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E1415-8B5B-4DB3-8A2D-519BFC0F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5C307-74D5-44B4-A366-28FF858B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A26F4-B6D8-4D8A-984F-23545C57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5E8FD-9E97-4577-80B4-2DD9BDB1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2F89D-EB84-47D4-AAE6-DD4C7342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C32E0-056D-4D6D-B2CA-B34A1FC2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E05DA-3B99-4C8F-80CC-F1BE35BF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2B4-A66E-4B0E-BC3C-6C292794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EF561-86BE-4702-ACDD-5C853567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374D5-6224-4B04-ADB4-7E943D95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541B9-6138-4C7A-9A93-F36DA4C1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450A5-820C-4062-83BD-B0F8A64E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FD891-8540-42C0-B0A9-23A9976B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A90B-1A5D-4A0F-A8C3-287708C8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ýseč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stenec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Prstenec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Obdélní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4F19-1BF9-42E2-8B6B-8D608AA2BB26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66C2-523D-4995-9F5F-EB96789FFDE1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Obdélní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Výseč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rstenec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Prstenec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Obdélní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délní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54C5-8DC6-477E-82C5-5FA99194A74C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1A87-0912-49AB-9C9D-D9367F07548B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B02C-50E0-4D4F-A034-1A4E6EAFCBD2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8C12-F1BE-4C96-BF35-3730B1F2F8A5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3F0B-E202-4463-9517-096D8E765551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FCFA-A7C7-4188-AF7E-3CAA60A43B1D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Obdélní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délní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175A-D2DF-4FD5-AA25-92AD5ACE4A29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4D0A-4526-4976-A8AD-4B951DE7D333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9D3E-C475-46CE-A24A-6B196EE47CE8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BB8E-30C3-4271-959C-0D7B2E79230F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bdélník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Obdélník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Vývojový diagram: postup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Vývojový diagram: postup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3518-314C-4010-9BA2-3C7C2828A91A}" type="datetime">
              <a:rPr b="0" lang="cs-CZ" sz="1200" spc="-1" strike="noStrike">
                <a:solidFill>
                  <a:srgbClr val="b5a788"/>
                </a:solidFill>
                <a:latin typeface="Gill Sans MT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C647-2D24-4756-AB9F-60ECCB7A36AE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1" lang="cs-CZ" sz="6000" spc="-1" strike="noStrike">
                <a:solidFill>
                  <a:srgbClr val="4f271c"/>
                </a:solidFill>
                <a:latin typeface="Gill Sans MT"/>
              </a:rPr>
              <a:t>MS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6000" spc="-1" strike="noStrike">
                <a:solidFill>
                  <a:srgbClr val="4f271c"/>
                </a:solidFill>
                <a:latin typeface="Gill Sans MT"/>
              </a:rPr>
              <a:t>PowerPoint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2003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891a7"/>
                </a:solidFill>
                <a:latin typeface="Gill Sans MT"/>
              </a:rPr>
              <a:t>postup tvorby prezenta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Zástupný symbol pro zápatí 4"/>
          <p:cNvSpPr/>
          <p:nvPr/>
        </p:nvSpPr>
        <p:spPr>
          <a:xfrm>
            <a:off x="1332000" y="5734080"/>
            <a:ext cx="72784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10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1"/>
          <a:stretch/>
        </p:blipFill>
        <p:spPr>
          <a:xfrm>
            <a:off x="2340000" y="3284640"/>
            <a:ext cx="5753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8)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Spuštění prezentace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332000" y="1447560"/>
            <a:ext cx="7602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Hotovou prezentaci spustíme nabídkou</a:t>
            </a:r>
            <a:r>
              <a:rPr b="0" lang="cs-CZ" sz="41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1" lang="cs-CZ" sz="4100" spc="-1" strike="noStrike">
                <a:solidFill>
                  <a:srgbClr val="3891a7"/>
                </a:solidFill>
                <a:latin typeface="Gill Sans MT"/>
              </a:rPr>
              <a:t>Prezentace – Spustit prezentaci </a:t>
            </a: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s možností (</a:t>
            </a:r>
            <a:r>
              <a:rPr b="0" lang="cs-CZ" sz="4100" spc="-1" strike="noStrike">
                <a:solidFill>
                  <a:srgbClr val="3891a7"/>
                </a:solidFill>
                <a:latin typeface="Gill Sans MT"/>
              </a:rPr>
              <a:t>Od začátku</a:t>
            </a: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, </a:t>
            </a:r>
            <a:r>
              <a:rPr b="0" lang="cs-CZ" sz="4100" spc="-1" strike="noStrike">
                <a:solidFill>
                  <a:srgbClr val="3891a7"/>
                </a:solidFill>
                <a:latin typeface="Gill Sans MT"/>
              </a:rPr>
              <a:t>Z aktuálního snímku</a:t>
            </a: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 …)</a:t>
            </a:r>
            <a:r>
              <a:rPr b="1" lang="cs-CZ" sz="4100" spc="-1" strike="noStrike">
                <a:solidFill>
                  <a:srgbClr val="3891a7"/>
                </a:solidFill>
                <a:latin typeface="Gill Sans MT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100" spc="-1" strike="noStrike">
                <a:solidFill>
                  <a:srgbClr val="3891a7"/>
                </a:solidFill>
                <a:latin typeface="Gill Sans MT"/>
              </a:rPr>
              <a:t>Spustit</a:t>
            </a:r>
            <a:r>
              <a:rPr b="1" lang="cs-CZ" sz="41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4100" spc="-1" strike="noStrike">
                <a:solidFill>
                  <a:srgbClr val="3891a7"/>
                </a:solidFill>
                <a:latin typeface="Gill Sans MT"/>
              </a:rPr>
              <a:t>prezentaci</a:t>
            </a: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 můžeme také přes klávesnici – </a:t>
            </a:r>
            <a:r>
              <a:rPr b="1" lang="cs-CZ" sz="4100" spc="-1" strike="noStrike">
                <a:solidFill>
                  <a:srgbClr val="c00000"/>
                </a:solidFill>
                <a:latin typeface="Gill Sans MT"/>
              </a:rPr>
              <a:t>F5</a:t>
            </a: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Zástupný symbol pro zápatí 4"/>
          <p:cNvSpPr/>
          <p:nvPr/>
        </p:nvSpPr>
        <p:spPr>
          <a:xfrm>
            <a:off x="1928880" y="6000840"/>
            <a:ext cx="66816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Zástupný symbol pro zápatí 3"/>
          <p:cNvSpPr/>
          <p:nvPr/>
        </p:nvSpPr>
        <p:spPr>
          <a:xfrm>
            <a:off x="1332000" y="5516640"/>
            <a:ext cx="6669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11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50920" y="981000"/>
          <a:ext cx="8643960" cy="3888000"/>
        </p:xfrm>
        <a:graphic>
          <a:graphicData uri="http://schemas.openxmlformats.org/drawingml/2006/table">
            <a:tbl>
              <a:tblPr/>
              <a:tblGrid>
                <a:gridCol w="3343320"/>
                <a:gridCol w="530064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S PowerPoint 2003 - postup tvorby 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 seznamuje žáky s jednotlivými kroky tvorby prezentace v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S PowerPoint 2003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Žáci se seznámí s obsahem panelu nástrojů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čekávaný výst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V – LM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ční a komunikační technologie – 2. stup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 –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ovládat základy psaní na klávesnici, na uživatelské úrovni práci s textovým editorem, využívat vhodné aplik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učebního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h inter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Rectangle 1"/>
          <p:cNvSpPr/>
          <p:nvPr/>
        </p:nvSpPr>
        <p:spPr>
          <a:xfrm>
            <a:off x="468360" y="410040"/>
            <a:ext cx="71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cs-CZ" sz="65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1)</a:t>
            </a:r>
            <a:r>
              <a:rPr b="0" lang="cs-CZ" sz="65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Spuštění</a:t>
            </a:r>
            <a:br>
              <a:rPr sz="3900"/>
            </a:b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4f271c"/>
                </a:solidFill>
                <a:latin typeface="Gill Sans MT"/>
              </a:rPr>
              <a:t>Spuštěním</a:t>
            </a:r>
            <a:r>
              <a:rPr b="0" lang="cs-CZ" sz="4400" spc="-1" strike="noStrike">
                <a:solidFill>
                  <a:srgbClr val="4f271c"/>
                </a:solidFill>
                <a:latin typeface="Gill Sans MT"/>
              </a:rPr>
              <a:t> programu </a:t>
            </a:r>
            <a:r>
              <a:rPr b="1" lang="cs-CZ" sz="4400" spc="-1" strike="noStrike">
                <a:solidFill>
                  <a:srgbClr val="3891a7"/>
                </a:solidFill>
                <a:latin typeface="Gill Sans MT"/>
              </a:rPr>
              <a:t>PowerPoint</a:t>
            </a:r>
            <a:r>
              <a:rPr b="0" lang="cs-CZ" sz="4400" spc="-1" strike="noStrike">
                <a:solidFill>
                  <a:srgbClr val="4f271c"/>
                </a:solidFill>
                <a:latin typeface="Gill Sans MT"/>
              </a:rPr>
              <a:t> se objeví na ploše </a:t>
            </a:r>
            <a:r>
              <a:rPr b="1" lang="cs-CZ" sz="4400" spc="-1" strike="noStrike">
                <a:solidFill>
                  <a:srgbClr val="3891a7"/>
                </a:solidFill>
                <a:latin typeface="Gill Sans MT"/>
              </a:rPr>
              <a:t>první prázdný snímek</a:t>
            </a:r>
            <a:r>
              <a:rPr b="0" lang="cs-CZ" sz="4400" spc="-1" strike="noStrike">
                <a:solidFill>
                  <a:srgbClr val="4f271c"/>
                </a:solidFill>
                <a:latin typeface="Gill Sans MT"/>
              </a:rPr>
              <a:t> prezentace většinou jen pro </a:t>
            </a:r>
            <a:r>
              <a:rPr b="1" lang="cs-CZ" sz="4400" spc="-1" strike="noStrike">
                <a:solidFill>
                  <a:srgbClr val="3891a7"/>
                </a:solidFill>
                <a:latin typeface="Gill Sans MT"/>
              </a:rPr>
              <a:t>nadpis</a:t>
            </a:r>
            <a:r>
              <a:rPr b="0" lang="cs-CZ" sz="4400" spc="-1" strike="noStrike">
                <a:solidFill>
                  <a:srgbClr val="4f271c"/>
                </a:solidFill>
                <a:latin typeface="Gill Sans MT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Zástupný symbol pro zápatí 4"/>
          <p:cNvSpPr/>
          <p:nvPr/>
        </p:nvSpPr>
        <p:spPr>
          <a:xfrm>
            <a:off x="1571760" y="5445000"/>
            <a:ext cx="70387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2)</a:t>
            </a:r>
            <a:r>
              <a:rPr b="0" lang="cs-CZ" sz="60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Návrh grafiky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Na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panelu nástrojů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klikneme na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tlačítko</a:t>
            </a:r>
            <a:r>
              <a:rPr b="0" lang="cs-CZ" sz="37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Návrh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a po straně se nám otevře dialogové okno se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šablonou grafických návrhů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barevným spektrem</a:t>
            </a:r>
            <a:r>
              <a:rPr b="1" lang="cs-CZ" sz="3700" spc="-1" strike="noStrike">
                <a:solidFill>
                  <a:srgbClr val="ffff00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a</a:t>
            </a:r>
            <a:r>
              <a:rPr b="1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animačním schématem</a:t>
            </a:r>
            <a:r>
              <a:rPr b="1" lang="cs-CZ" sz="37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Vybereme pro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všechny snímky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nebo jen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pro vybraný snímek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 a vše potvrdíme kliknutím</a:t>
            </a:r>
            <a:r>
              <a:rPr b="0" lang="cs-CZ" sz="2700" spc="-1" strike="noStrike">
                <a:solidFill>
                  <a:srgbClr val="4f271c"/>
                </a:solidFill>
                <a:latin typeface="Gill Sans MT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Zástupný symbol pro zápatí 4"/>
          <p:cNvSpPr/>
          <p:nvPr/>
        </p:nvSpPr>
        <p:spPr>
          <a:xfrm>
            <a:off x="1785960" y="6143760"/>
            <a:ext cx="6753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94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3)</a:t>
            </a:r>
            <a:r>
              <a:rPr b="1" lang="cs-CZ" sz="5400" spc="-1" strike="noStrike">
                <a:solidFill>
                  <a:srgbClr val="ffff00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Vložení dalšího snímku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Nový snímek</a:t>
            </a:r>
            <a:r>
              <a:rPr b="0" lang="cs-CZ" sz="3700" spc="-1" strike="noStrike">
                <a:solidFill>
                  <a:srgbClr val="3891a7"/>
                </a:solidFill>
                <a:latin typeface="Gill Sans MT"/>
              </a:rPr>
              <a:t> 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vytvoříme kliknutím na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tlačítko</a:t>
            </a:r>
            <a:r>
              <a:rPr b="1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se stejným nápisem v</a:t>
            </a:r>
            <a:r>
              <a:rPr b="1" lang="cs-CZ" sz="37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panelu nástrojů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Po straně se nám otevře okno se způsoby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rozložení</a:t>
            </a:r>
            <a:r>
              <a:rPr b="1" lang="cs-CZ" sz="3700" spc="-1" strike="noStrike">
                <a:solidFill>
                  <a:srgbClr val="ffff00"/>
                </a:solidFill>
                <a:latin typeface="Gill Sans MT"/>
              </a:rPr>
              <a:t> 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snímků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Vybereme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podle obsahu</a:t>
            </a:r>
            <a:r>
              <a:rPr b="1" lang="cs-CZ" sz="3700" spc="-1" strike="noStrike">
                <a:solidFill>
                  <a:srgbClr val="3891a7"/>
                </a:solidFill>
                <a:latin typeface="Gill Sans MT"/>
              </a:rPr>
              <a:t>(Napis a obsah, Dva obsahy, Obrázek s titulkem …)</a:t>
            </a:r>
            <a:r>
              <a:rPr b="0" lang="cs-CZ" sz="37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a</a:t>
            </a:r>
            <a:r>
              <a:rPr b="0" lang="cs-CZ" sz="3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3700" spc="-1" strike="noStrike">
                <a:solidFill>
                  <a:srgbClr val="4f271c"/>
                </a:solidFill>
                <a:latin typeface="Gill Sans MT"/>
              </a:rPr>
              <a:t>potvrdíme kliknutím.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Zástupný symbol pro zápatí 4"/>
          <p:cNvSpPr/>
          <p:nvPr/>
        </p:nvSpPr>
        <p:spPr>
          <a:xfrm>
            <a:off x="1785960" y="6000840"/>
            <a:ext cx="682452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4)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Psaní textu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Kliknutím do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vyznačeného rámečku napíšete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nebo zkopírujete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V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panelu nástrojů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text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naformátujete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stejně jako u Wordu (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typ písma</a:t>
            </a:r>
            <a:r>
              <a:rPr b="1" lang="cs-CZ" sz="3200" spc="-1" strike="noStrike">
                <a:solidFill>
                  <a:srgbClr val="4f271c"/>
                </a:solidFill>
                <a:latin typeface="Gill Sans MT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velikost písma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barva písma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tučné písmo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formátování odstavců</a:t>
            </a: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zarovnání textu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Zástupný symbol pro zápatí 4"/>
          <p:cNvSpPr/>
          <p:nvPr/>
        </p:nvSpPr>
        <p:spPr>
          <a:xfrm>
            <a:off x="1500120" y="6000840"/>
            <a:ext cx="71103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12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280" y="285480"/>
            <a:ext cx="867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900" spc="-1" strike="noStrike">
                <a:solidFill>
                  <a:srgbClr val="3891a7"/>
                </a:solidFill>
                <a:latin typeface="Gill Sans MT"/>
              </a:rPr>
              <a:t>5)</a:t>
            </a:r>
            <a:r>
              <a:rPr b="1" lang="cs-CZ" sz="49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4900" spc="-1" strike="noStrike" u="sng">
                <a:solidFill>
                  <a:srgbClr val="4f271c"/>
                </a:solidFill>
                <a:uFillTx/>
                <a:latin typeface="Gill Sans MT"/>
              </a:rPr>
              <a:t>Vložení Klipártů, obrázků </a:t>
            </a:r>
            <a:endParaRPr b="0" lang="en-US" sz="4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1268280"/>
            <a:ext cx="789156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Přes tlačítko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Vložení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můžeme do prezentace vkládat:                      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Kliparty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–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přes rozvinutou nabídku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Klipart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po straně          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obrázky ze souboru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– přes dialogové okno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Vložit obrázek                         grafy                                                          zvuky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- přes výběr z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Galerie médi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Výběr potvrdíme </a:t>
            </a:r>
            <a:r>
              <a:rPr b="0" lang="cs-CZ" sz="3200" spc="-1" strike="noStrike">
                <a:solidFill>
                  <a:srgbClr val="3891a7"/>
                </a:solidFill>
                <a:latin typeface="Gill Sans MT"/>
              </a:rPr>
              <a:t>Entrem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 nebo </a:t>
            </a:r>
            <a:r>
              <a:rPr b="0" lang="cs-CZ" sz="3200" spc="-1" strike="noStrike">
                <a:solidFill>
                  <a:srgbClr val="3891a7"/>
                </a:solidFill>
                <a:latin typeface="Gill Sans MT"/>
              </a:rPr>
              <a:t>kliknutí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Zástupný symbol pro zápatí 4"/>
          <p:cNvSpPr/>
          <p:nvPr/>
        </p:nvSpPr>
        <p:spPr>
          <a:xfrm>
            <a:off x="1428840" y="6000840"/>
            <a:ext cx="718164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6)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Animace prezentace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Animovat můžeme celou prezentaci, jednotlivé snímky nebo jen části snímků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Vybereme ji z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Animačních schémat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, které rozvineme v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Návrhu snímk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3891a7"/>
                </a:solidFill>
                <a:uFillTx/>
                <a:latin typeface="Gill Sans MT"/>
              </a:rPr>
              <a:t>Animační schémata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: Rolovat, Lupa, Rozvinout, Prolínání, Vystupovat at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Tlačítkem 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Náhled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si</a:t>
            </a: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můžeme jednotlivé animace prohlédnou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Zástupný symbol pro zápatí 4"/>
          <p:cNvSpPr/>
          <p:nvPr/>
        </p:nvSpPr>
        <p:spPr>
          <a:xfrm>
            <a:off x="1428840" y="6000840"/>
            <a:ext cx="721512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891a7"/>
                </a:solidFill>
                <a:latin typeface="Gill Sans MT"/>
              </a:rPr>
              <a:t>7)</a:t>
            </a:r>
            <a:r>
              <a:rPr b="1" lang="cs-CZ" sz="5400" spc="-1" strike="noStrike">
                <a:solidFill>
                  <a:srgbClr val="4f271c"/>
                </a:solidFill>
                <a:latin typeface="Gill Sans MT"/>
              </a:rPr>
              <a:t> </a:t>
            </a:r>
            <a:r>
              <a:rPr b="1" lang="cs-CZ" sz="5400" spc="-1" strike="noStrike" u="sng">
                <a:solidFill>
                  <a:srgbClr val="4f271c"/>
                </a:solidFill>
                <a:uFillTx/>
                <a:latin typeface="Gill Sans MT"/>
              </a:rPr>
              <a:t>Nastavení prezentace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f271c"/>
                </a:solidFill>
                <a:latin typeface="Gill Sans MT"/>
              </a:rPr>
              <a:t>Zaškrtnutím nastavíme upřesněné možnosti pro celou prezentaci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Typ prezent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Možnosti zobrazen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891a7"/>
                </a:solidFill>
                <a:latin typeface="Gill Sans MT"/>
              </a:rPr>
              <a:t>Zobrazení snímků a jejich přechod na dalš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Zástupný symbol pro zápatí 4"/>
          <p:cNvSpPr/>
          <p:nvPr/>
        </p:nvSpPr>
        <p:spPr>
          <a:xfrm>
            <a:off x="1500120" y="6072120"/>
            <a:ext cx="711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Autorem materiálu a všech jeho částí, není-li uvedeno jinak, je Martin Dlouh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Vytvořeno dne 27. 1.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Nový začátek (New start) CZ.1.07/1.4.00/21.14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 </a:t>
            </a:r>
            <a:r>
              <a:rPr b="0" lang="cs-CZ" sz="800" spc="-1" strike="noStrike">
                <a:solidFill>
                  <a:srgbClr val="898989"/>
                </a:solidFill>
                <a:latin typeface="Gill Sans MT"/>
              </a:rPr>
              <a:t>Tento projekt je spolufinancován Evropským sociálním fondem a státním rozpočtem České republik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20:18:49Z</dcterms:created>
  <dc:creator>ZS Kadan</dc:creator>
  <dc:description/>
  <dc:language>en-US</dc:language>
  <cp:lastModifiedBy>martina</cp:lastModifiedBy>
  <dcterms:modified xsi:type="dcterms:W3CDTF">2013-08-22T15:03:47Z</dcterms:modified>
  <cp:revision>29</cp:revision>
  <dc:subject/>
  <dc:title>     MS PowerPoint 2003</dc:title>
</cp:coreProperties>
</file>