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27A-D906-420B-8126-5DFF7320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0A19-E6E8-4C8E-AB5E-ED48ECC2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5F1D-85E2-4FA8-BF41-7CB2E01E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9B64-F28E-4F73-9783-25620BE7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5E0-B176-4519-9430-3CDC5D38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3EBE-19CC-45BA-8818-D0939D5E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F165-0725-418A-9737-56E1B096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7FE-DC51-4AC4-A857-46336121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6C7D-452D-4F96-9B56-C28E0A86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015A-D255-4429-A308-637093A6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6EAC-65CF-476D-BA26-7468647C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3F98-715D-4E6D-95C7-6B807DF8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99D4-51B7-4268-826C-56A1D50986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hyperlink" Target="http://commons.wikimedia.org/wiki/File:USB_Flash_Drive_animated.gif?uselang=cs" TargetMode="External"/><Relationship Id="rId3" Type="http://schemas.openxmlformats.org/officeDocument/2006/relationships/hyperlink" Target="http://commons.wikimedia.org/wiki/File:Wacom_Pen-tablet_without_mouse.jpg?uselang=cs" TargetMode="External"/><Relationship Id="rId4" Type="http://schemas.openxmlformats.org/officeDocument/2006/relationships/hyperlink" Target="http://commons.wikimedia.org/wiki/File:K7_SEM_Motherboard.jpg" TargetMode="External"/><Relationship Id="rId5" Type="http://schemas.openxmlformats.org/officeDocument/2006/relationships/hyperlink" Target="http://commons.wikimedia.org/wiki/File:Hard_disk_Western_Digital_WD1200_%28dark1%29.jpg" TargetMode="External"/><Relationship Id="rId6" Type="http://schemas.openxmlformats.org/officeDocument/2006/relationships/hyperlink" Target="http://commons.wikimedia.org/wiki/File:Memory_module_DDRAM_20-03-2006.jpg" TargetMode="External"/><Relationship Id="rId7" Type="http://schemas.openxmlformats.org/officeDocument/2006/relationships/hyperlink" Target="http://commons.wikimedia.org/wiki/File:Creative_SoundBlaster_Audigy_2_%28SB0400%29-3.jpg" TargetMode="External"/><Relationship Id="rId8" Type="http://schemas.openxmlformats.org/officeDocument/2006/relationships/hyperlink" Target="http://commons.wikimedia.org/wiki/File:Ethernet_pci_card.jpg" TargetMode="External"/><Relationship Id="rId9" Type="http://schemas.openxmlformats.org/officeDocument/2006/relationships/hyperlink" Target="http://commons.wikimedia.org/wiki/File:ATI_Radeon_HD_4890_Graphics_Card-vertical_black_background_oblique_view.jpg" TargetMode="External"/><Relationship Id="rId10" Type="http://schemas.openxmlformats.org/officeDocument/2006/relationships/hyperlink" Target="http://commons.wikimedia.org/wiki/File:DVD_drive.jpg?uselang=cs" TargetMode="External"/><Relationship Id="rId11" Type="http://schemas.openxmlformats.org/officeDocument/2006/relationships/hyperlink" Target="http://commons.wikimedia.org/wiki/File:PC_Netzteil_FSP350-60MDN_Rev._A_Ansicht_1.jpg" TargetMode="External"/><Relationship Id="rId12" Type="http://schemas.openxmlformats.org/officeDocument/2006/relationships/hyperlink" Target="http://commons.wikimedia.org/wiki/File:PC_Netzteil_FSP350-60MDN_Rev._A_Ansicht_1.jpg" TargetMode="External"/><Relationship Id="rId13" Type="http://schemas.openxmlformats.org/officeDocument/2006/relationships/hyperlink" Target="http://upload.wikimedia.org/wikipedia/commons/a/a3/AM486_DX2-80_and_i486_DX2-66.jpg" TargetMode="External"/><Relationship Id="rId14" Type="http://schemas.openxmlformats.org/officeDocument/2006/relationships/hyperlink" Target="http://commons.wikimedia.org/wiki/File:Zone_Evil_Joypad_ZE-JPD-010_Green.jpg?uselang=cs" TargetMode="External"/><Relationship Id="rId15" Type="http://schemas.openxmlformats.org/officeDocument/2006/relationships/hyperlink" Target="http://commons.wikimedia.org/wiki/File:MiniDIN-6_Connector_Pinout.svg?uselang=cs" TargetMode="External"/><Relationship Id="rId16" Type="http://schemas.openxmlformats.org/officeDocument/2006/relationships/hyperlink" Target="http://commons.wikimedia.org/wiki/File:DVI-Buchse%2BStecker.JPG" TargetMode="External"/><Relationship Id="rId17" Type="http://schemas.openxmlformats.org/officeDocument/2006/relationships/hyperlink" Target="http://commons.wikimedia.org/wiki/File:USB_Connector.jpg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Hardware a periferie počítače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00080" y="2428560"/>
            <a:ext cx="750096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Počítač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je zařízení, které zpracovává </a:t>
            </a: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dat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pomocí předem vytvořeného </a:t>
            </a: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program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klad a procvičování uč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Obdélník 3"/>
          <p:cNvSpPr/>
          <p:nvPr/>
        </p:nvSpPr>
        <p:spPr>
          <a:xfrm>
            <a:off x="1643040" y="5429160"/>
            <a:ext cx="61437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Vytvořeno dne 4. 9. 201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Calibri"/>
              </a:rPr>
              <a:t>Nový začátek (New start) CZ.1.07/1.4.00/21.14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Calibri"/>
              </a:rPr>
              <a:t>Tento projekt je spolufinancován Evropským sociálním fondem a státním rozpočtem České republik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7531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ástupný symbol pro zápatí 3"/>
          <p:cNvSpPr/>
          <p:nvPr/>
        </p:nvSpPr>
        <p:spPr>
          <a:xfrm>
            <a:off x="1285920" y="5357880"/>
            <a:ext cx="71438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Martin Dlouh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14200" y="981000"/>
          <a:ext cx="8715600" cy="424512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rdware a periferie počítač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 je zaměřena na popis jednotlivých částí PC, kdy žáci samostatně pojmenují součásti a zařízení PC a roztřídí vstupní a výstupní zařízení P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 – dodržovat pravidla zacházení s výpočetní technik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Rectangle 1"/>
          <p:cNvSpPr/>
          <p:nvPr/>
        </p:nvSpPr>
        <p:spPr>
          <a:xfrm>
            <a:off x="285840" y="42912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č.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1.cv.: 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Přiřaďte správné slov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128556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škeré fyzické vybavení počítače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(např. hard disk, procesor, grafická karta) se nazý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škeré programové vybavení počítače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(např. MS Windows, MS Office, Mac OS X) se nazý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ástupný symbol pro zápatí 4"/>
          <p:cNvSpPr/>
          <p:nvPr/>
        </p:nvSpPr>
        <p:spPr>
          <a:xfrm>
            <a:off x="785880" y="6072120"/>
            <a:ext cx="7786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: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Hardware uvnitř P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120" y="50004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Základní desk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propojuje jednotlivé součástky počítače do fungujícího celku a poskytuje jim elektrické napájení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Procesor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nebo </a:t>
            </a: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mikroprocesor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cs-CZ" sz="20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ákladní součást počítače, která vykonává strojový kód spuštěného počítačového program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Operační paměť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je vnitřní elektronická paměť počítače určená pro dočasné uložení zpracovávaných dat a spouštěného program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Pevný disk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HDD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) je zařízení, které používá počítač k dočasnému nebo trvalému uchovávání většího množství d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Grafická karta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součástí počítače jejímž úkolem je vytvářet grafický výstup na monitoru, grafické výpočty atd.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Zvuková karta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rozšiřující karta počítače pro vstup a výstup zvukového signálu, ovládaná softwarov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Síťová karta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IC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) slouží ke vzájemné komunikaci počítačů počítačové sít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Napájecí zdroj počítače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řízení sloužící ke zpracování střídavého napětí dodávaného ze sítě na nízké napětí potřebné k napájení komponentů počítač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Chladič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ventilátor, který ochlazuje vnitřní prostor počítače a zabraňuje přehřátí počítač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Počítačová skříň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louží k mechanickému upevnění všech ostatních vnitřních dílů a částí počítač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4"/>
          <p:cNvSpPr/>
          <p:nvPr/>
        </p:nvSpPr>
        <p:spPr>
          <a:xfrm>
            <a:off x="500040" y="6215040"/>
            <a:ext cx="828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2.cv.: 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Přiřaďte správný název k obrázku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1180800" cy="165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1428840" y="857160"/>
            <a:ext cx="155232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3"/>
          <a:stretch/>
        </p:blipFill>
        <p:spPr>
          <a:xfrm>
            <a:off x="2786040" y="1143000"/>
            <a:ext cx="1285920" cy="1324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4"/>
          <a:stretch/>
        </p:blipFill>
        <p:spPr>
          <a:xfrm>
            <a:off x="3929040" y="928800"/>
            <a:ext cx="1819440" cy="167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5"/>
          <a:stretch/>
        </p:blipFill>
        <p:spPr>
          <a:xfrm>
            <a:off x="5572080" y="857160"/>
            <a:ext cx="1743120" cy="1671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6"/>
          <a:stretch/>
        </p:blipFill>
        <p:spPr>
          <a:xfrm>
            <a:off x="357120" y="2714760"/>
            <a:ext cx="2067120" cy="196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7"/>
          <a:stretch/>
        </p:blipFill>
        <p:spPr>
          <a:xfrm>
            <a:off x="2286000" y="3071880"/>
            <a:ext cx="1743120" cy="1619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8"/>
          <a:stretch/>
        </p:blipFill>
        <p:spPr>
          <a:xfrm>
            <a:off x="3929040" y="3357720"/>
            <a:ext cx="1486080" cy="1361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"/>
          <p:cNvPicPr/>
          <p:nvPr/>
        </p:nvPicPr>
        <p:blipFill>
          <a:blip r:embed="rId9"/>
          <a:stretch/>
        </p:blipFill>
        <p:spPr>
          <a:xfrm>
            <a:off x="5214960" y="3429000"/>
            <a:ext cx="1685880" cy="145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10"/>
          <a:stretch/>
        </p:blipFill>
        <p:spPr>
          <a:xfrm>
            <a:off x="7215120" y="1571760"/>
            <a:ext cx="1219320" cy="104760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20"/>
          <p:cNvSpPr/>
          <p:nvPr/>
        </p:nvSpPr>
        <p:spPr>
          <a:xfrm>
            <a:off x="569880" y="500076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zvuková k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8" descr=""/>
          <p:cNvPicPr/>
          <p:nvPr/>
        </p:nvPicPr>
        <p:blipFill>
          <a:blip r:embed="rId11"/>
          <a:stretch/>
        </p:blipFill>
        <p:spPr>
          <a:xfrm>
            <a:off x="6715080" y="3214800"/>
            <a:ext cx="1866960" cy="1619280"/>
          </a:xfrm>
          <a:prstGeom prst="rect">
            <a:avLst/>
          </a:prstGeom>
          <a:ln w="0">
            <a:noFill/>
          </a:ln>
        </p:spPr>
      </p:pic>
      <p:sp>
        <p:nvSpPr>
          <p:cNvPr id="67" name="Obdélník 22"/>
          <p:cNvSpPr/>
          <p:nvPr/>
        </p:nvSpPr>
        <p:spPr>
          <a:xfrm>
            <a:off x="580320" y="5357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USB flash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bdélník 23"/>
          <p:cNvSpPr/>
          <p:nvPr/>
        </p:nvSpPr>
        <p:spPr>
          <a:xfrm>
            <a:off x="576000" y="57150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DVD mecha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bdélník 24"/>
          <p:cNvSpPr/>
          <p:nvPr/>
        </p:nvSpPr>
        <p:spPr>
          <a:xfrm>
            <a:off x="2214720" y="5000760"/>
            <a:ext cx="17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mikroproce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bdélník 25"/>
          <p:cNvSpPr/>
          <p:nvPr/>
        </p:nvSpPr>
        <p:spPr>
          <a:xfrm>
            <a:off x="2217960" y="53578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game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bdélník 26"/>
          <p:cNvSpPr/>
          <p:nvPr/>
        </p:nvSpPr>
        <p:spPr>
          <a:xfrm>
            <a:off x="2357280" y="5715000"/>
            <a:ext cx="7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tab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délník 27"/>
          <p:cNvSpPr/>
          <p:nvPr/>
        </p:nvSpPr>
        <p:spPr>
          <a:xfrm>
            <a:off x="3861360" y="500076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základní de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bdélník 28"/>
          <p:cNvSpPr/>
          <p:nvPr/>
        </p:nvSpPr>
        <p:spPr>
          <a:xfrm>
            <a:off x="3358800" y="535788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síťová k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bdélník 29"/>
          <p:cNvSpPr/>
          <p:nvPr/>
        </p:nvSpPr>
        <p:spPr>
          <a:xfrm>
            <a:off x="3287880" y="5715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grafická k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bdélník 30"/>
          <p:cNvSpPr/>
          <p:nvPr/>
        </p:nvSpPr>
        <p:spPr>
          <a:xfrm>
            <a:off x="4718160" y="535788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operační pamě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31"/>
          <p:cNvSpPr/>
          <p:nvPr/>
        </p:nvSpPr>
        <p:spPr>
          <a:xfrm>
            <a:off x="4790520" y="571500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zdroj napáj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32"/>
          <p:cNvSpPr/>
          <p:nvPr/>
        </p:nvSpPr>
        <p:spPr>
          <a:xfrm>
            <a:off x="5432040" y="500076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Calibri"/>
              </a:rPr>
              <a:t>pevný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0" descr="AM486_DX2-80_and_i486_DX2-66"/>
          <p:cNvPicPr/>
          <p:nvPr/>
        </p:nvPicPr>
        <p:blipFill>
          <a:blip r:embed="rId12"/>
          <a:stretch/>
        </p:blipFill>
        <p:spPr>
          <a:xfrm>
            <a:off x="7072200" y="5214960"/>
            <a:ext cx="1543320" cy="809640"/>
          </a:xfrm>
          <a:prstGeom prst="rect">
            <a:avLst/>
          </a:prstGeom>
          <a:ln w="0">
            <a:noFill/>
          </a:ln>
        </p:spPr>
      </p:pic>
      <p:sp>
        <p:nvSpPr>
          <p:cNvPr id="79" name="Zástupný symbol pro zápatí 27"/>
          <p:cNvSpPr/>
          <p:nvPr/>
        </p:nvSpPr>
        <p:spPr>
          <a:xfrm>
            <a:off x="714240" y="6143760"/>
            <a:ext cx="7786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Perife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57120" y="5716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7030a0"/>
                </a:solidFill>
                <a:latin typeface="Calibri"/>
              </a:rPr>
              <a:t>Vstupní zařízení</a:t>
            </a:r>
            <a:r>
              <a:rPr b="0" lang="cs-CZ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řízení, kterým počítač pořizuje da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Počítačová klávesnice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odvozená od klávesnice psacího stroje. Je určena ke vkládání znaků a ovládání počítač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Počítačová myš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možňuje pohybovat kurzorem myši a vyvolávat události stiskem tlačít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Gamepad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řízení k ovládání počítače při hraní počítačových 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Scanner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Skener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řízení umožňující převedení fyzické předlohy do digitální podoby pro další využití, většinou pomocí počítač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Mikrofon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řízení pro přeměnu zvukového signálu na signál elektrick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7030a0"/>
                </a:solidFill>
                <a:latin typeface="Calibri"/>
              </a:rPr>
              <a:t>Výstupní zařízení</a:t>
            </a:r>
            <a:r>
              <a:rPr b="0" lang="cs-CZ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dává data od počítače k uživatel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Monitor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je základní výstupní zařízení sloužící k zobrazování textových a grafických informac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Tiskárn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je zařízení, které slouží k přenosu dat uložených v elektronické podobě na papí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Reproduktor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jsou zvuková výstupní zaří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ástupný symbol pro zápatí 4"/>
          <p:cNvSpPr/>
          <p:nvPr/>
        </p:nvSpPr>
        <p:spPr>
          <a:xfrm>
            <a:off x="714240" y="6215040"/>
            <a:ext cx="7358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3.cv.: 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Připojte perife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785880" y="2143080"/>
            <a:ext cx="8062920" cy="1546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642960" y="928800"/>
            <a:ext cx="7961400" cy="1857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5072040" y="535824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my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575280" y="528696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kláves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2005200" y="48582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5931360" y="535824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ske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3218760" y="48582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reproduk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6932160" y="492948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6001560" y="4858200"/>
            <a:ext cx="7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zdr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bdélník 19"/>
          <p:cNvSpPr/>
          <p:nvPr/>
        </p:nvSpPr>
        <p:spPr>
          <a:xfrm>
            <a:off x="2076120" y="528624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mod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7002000" y="535824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5002920" y="485820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tab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23"/>
          <p:cNvSpPr/>
          <p:nvPr/>
        </p:nvSpPr>
        <p:spPr>
          <a:xfrm>
            <a:off x="577080" y="485784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flash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3216960" y="52869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  <a:ea typeface="Calibri"/>
              </a:rPr>
              <a:t>dataprojek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ástupný symbol pro zápatí 17"/>
          <p:cNvSpPr/>
          <p:nvPr/>
        </p:nvSpPr>
        <p:spPr>
          <a:xfrm>
            <a:off x="857160" y="6000840"/>
            <a:ext cx="7572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Internetové zdroje obrázků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57120" y="4284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Všechny uveřejněné odkazy [cit. 2011-09-04] dostupné pod licencí Creative Commons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ikimedia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USB flash disk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ommons.wikimedia.org/wiki/File:USB_Flash_Drive_animated.gif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ablet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ommons.wikimedia.org/wiki/File:Wacom_Pen-tablet_without_mouse.jpg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ákladní deska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commons.wikimedia.org/wiki/File:K7_SEM_Motherboard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evný disk -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commons.wikimedia.org/wiki/File:Hard_disk_Western_Digital_WD1200_%28dark1%29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operační paměť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commons.wikimedia.org/wiki/File:Memory_module_DDRAM_20-03-2006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vuková karta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commons.wikimedia.org/wiki/File:Creative_SoundBlaster_Audigy_2_%28SB0400%29-3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íťová karta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commons.wikimedia.org/wiki/File:Ethernet_pci_card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rafická karta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commons.wikimedia.org/wiki/File:ATI_Radeon_HD_4890_Graphics_Card-vertical_black_background_oblique_view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VD mechanika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commons.wikimedia.org/wiki/File:DVD_drive.jpg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droj napájení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commons.wikimedia.org/wiki/File:PC_Netzteil_FSP350-60MDN_Rev._A_Ansicht_1.jpg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ocesor -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upload.wikimedia.org/wikipedia/commons/a/a3/AM486_DX2-80_and_i486_DX2-66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amepad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commons.wikimedia.org/wiki/File:Zone_Evil_Joypad_ZE-JPD-010_Green.jpg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S/2 connector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commons.wikimedia.org/wiki/File:MiniDIN-6_Connector_Pinout.svg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VI connector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commons.wikimedia.org/wiki/File:DVI-Buchse%2BStecker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USB connector -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commons.wikimedia.org/wiki/File:USB_Connector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VGA connector -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http://commons.wikimedia.org/wiki/File:VGA_connector_PNr%C2%B00052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TX pover connector -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http://commons.wikimedia.org/wiki/File:ATX_PC_back_connectors.jpg?uselang=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CR cards connector - http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://commons.wikimedia.org/wiki/File:Ethernet_pci_card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RS connector – http://commons.wikimedia.org/wiki/File:Salida-entrada_de_audioplacamadre.jpg?uselang=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zápatí 4"/>
          <p:cNvSpPr/>
          <p:nvPr/>
        </p:nvSpPr>
        <p:spPr>
          <a:xfrm>
            <a:off x="571680" y="621504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Vytvořeno dne 4. 9.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4:42:50Z</dcterms:created>
  <dc:creator>ZS Kadan</dc:creator>
  <dc:description/>
  <dc:language>en-US</dc:language>
  <cp:lastModifiedBy>martina</cp:lastModifiedBy>
  <dcterms:modified xsi:type="dcterms:W3CDTF">2013-08-22T14:57:08Z</dcterms:modified>
  <cp:revision>44</cp:revision>
  <dc:subject/>
  <dc:title>Hardware a periferie počítače  </dc:title>
</cp:coreProperties>
</file>