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715-3126-4E25-8C22-0052D94D7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4D8-0413-412D-851C-5FBEDF902EF9}" type="slidenum">
              <a:rPr b="0" lang="cs-C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6A7-FACA-4FD6-A8F4-3ED7D82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27F-5FC8-4D15-BB45-50A1926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F7F-8FB8-4279-A4BF-D329F6B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A42-0B0B-40F5-A208-FF471F77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FAC6-27D4-4D05-866C-1FC51151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750-58EE-4C66-95DA-C9818D7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16AD-8695-4172-8C64-6DA2929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7F60-139A-44CF-91FB-3896F180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BBE-C5A0-4812-84AF-0E977160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4EE-2DCA-45FF-84D8-7DE7FD3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363-E482-4579-B905-3CE9B2D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28A-55C0-4C73-B4A7-E3938F3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A6A-C6B2-468A-AE4B-94E8A05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391F-A226-4A0F-9C28-7ED2628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F70-50B9-4428-A160-655D99D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6EED-C98B-4B82-911F-3D5E80BE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FD3E-BF6A-4E7E-9E6E-7FF328E4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5260-B180-4623-A845-D813105E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BF7E-0E6C-40D5-8D61-782F661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BEB7-766A-4F89-8828-F416BEC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1B25-0E9A-4167-B797-4C8A180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A4A5-989F-47BB-887E-A9C24CE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505-D024-4960-95E2-E7D6D5FF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1E0F-B2B0-46FA-BEFF-C8E479FC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CB3F-8A46-4B74-BA60-BD40CF49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C482-F99C-4F80-87C0-5A9C2E4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EAD8-E12C-40D4-A6FE-850A8BE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DD88-7D93-45F4-A992-51CBE7B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B23D-815F-4A52-BAEA-696A748C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C788-BCDA-4F03-837D-770BB1D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35F6-A6E9-4869-AA8E-741CBEA1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BB85E-01CE-4E7A-8A2B-A4C5BE9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0C7A-0D99-414E-83B8-12F04F9C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FE5-F349-43E2-BDDE-EB48C4F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1A41-64FD-4CB8-8870-6E833949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01FF-2D8D-4DDF-9A24-2CBBDD5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CD98-6317-406B-A5AE-4AC28E3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7712-C349-4457-8118-C5FEEA9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543F-2649-4E9C-9FEE-C6F8F79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99BF-8260-4760-B866-F5515D5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B80B-9D95-4A8B-A763-E1306F7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1AEA-7579-4BE4-9B11-8888B4A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0D9C-5A83-457E-B87A-B62124C2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9F2C-CFD2-4174-9FB6-1E7DB157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15B-543F-4448-B9F7-4A80EC91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551D-80CC-43BA-96E2-0B8393A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AD15-21EE-459E-85D1-5690E438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9D74-C80F-4A90-8C5A-57A1A9E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09A7-BA2F-4FD9-BF3F-D9B36F3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87E3-BBF3-43CD-BF54-16D5AC23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B082-0AC5-4C32-A025-D84BDF90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9FB1-5C21-4074-AF1D-E39436A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8EB2-D2C4-4FDA-8586-BC8EB82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AA9D-F3E1-4810-AF12-AC01CE0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099D-F700-4AAA-A981-F45EA3D6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C8D-C619-40EA-BF3E-73B06B3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56765-80B1-49DD-9859-1AC789DF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A5DE-9489-4580-A280-03F44570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98FD-E3F0-485F-9F32-2BD4818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6022-9923-4107-9524-FB2EAE3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9F71-DFC9-41C6-8FA7-466B0503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9D6A-0275-42E3-B3AD-1F7C919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57BA4-6B66-4745-89CD-03093B5C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BA98-3A6D-4497-933A-867AF7D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7EE7-D9D2-48B3-A7A1-CA7B55E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B194-C0D0-4406-8594-862BD75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9DA-7012-42D6-8EB7-67BE9D1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ABAD-2072-45BE-BE90-55E534F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B7C3-8698-4172-9EBB-D79795D3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4684-8A9E-429A-8D6C-31BE223C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96E-229C-4F0E-B86B-19A8911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84B-0129-4C99-B9F9-6116BB6B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DF2-0F95-44B2-80F9-85E31A08AB6E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600-3931-4011-BD20-7919D45AA488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E78-1824-44EC-A0E4-C7352374E489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C72D-FB64-4B54-8693-974DD789ED6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AB8-1C97-4517-B6A4-20A40A2F93E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AEC-04D8-4E7F-BA7D-64E470348FD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457-6A6B-4CDE-8DAC-B8A470528351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BDCA-E12C-4FCA-95CD-07B929A67A66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7774-B48F-41D4-97E8-5914D186F36B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876-9770-44AD-AE14-447BE4D12EC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6897-DC42-433D-912E-93D0E0B3B03A}" type="datetime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E51C-7757-45F0-8684-6561ECF55B8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Nadpis 1" descr=""/>
          <p:cNvPicPr/>
          <p:nvPr/>
        </p:nvPicPr>
        <p:blipFill>
          <a:blip r:embed="rId1"/>
          <a:stretch/>
        </p:blipFill>
        <p:spPr>
          <a:xfrm>
            <a:off x="281160" y="3176640"/>
            <a:ext cx="8637480" cy="2485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13840" y="92880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Franklin Gothic Book"/>
              </a:rPr>
              <a:t>Vyhledávání dopravního spoj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Zástupný symbol pro zápatí 3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Nový začátek (New start) CZ.1.07/1.4.00/21.14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b9a98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Vytvořeno dne 17. 3. 201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052640"/>
          <a:ext cx="8715600" cy="3687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</a:t>
                      </a: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 je zaměřena na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informací na internetu, především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yhledávání dopravního spojení a jeho využití pro cestování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179280" y="57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č.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58120" cy="227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a Internetu najdeme snadno v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ávači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ebo přímo zadáním adresy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jizdnirady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(resp.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www.idos.cz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ačte se nám následující stránka: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roletc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Jízdní řád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ber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ůsob přepravy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–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la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autobus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 letadlo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HD (město)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ombinace vlak + autobus atd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obrázek 150" descr="44EB893E"/>
          <p:cNvPicPr/>
          <p:nvPr/>
        </p:nvPicPr>
        <p:blipFill>
          <a:blip r:embed="rId1"/>
          <a:stretch/>
        </p:blipFill>
        <p:spPr>
          <a:xfrm>
            <a:off x="428760" y="2643120"/>
            <a:ext cx="8229600" cy="3714840"/>
          </a:xfrm>
          <a:prstGeom prst="rect">
            <a:avLst/>
          </a:prstGeom>
          <a:ln w="0">
            <a:noFill/>
          </a:ln>
        </p:spPr>
      </p:pic>
      <p:sp>
        <p:nvSpPr>
          <p:cNvPr id="270" name="Zástupný symbol pro zápatí 4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Kliknutím do políček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ku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Kam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napíšeme místa naší cesty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Rozhodneme se, zda zaškrtneme políčk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uze přím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(bez přestupů).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 případě hledání s přestupy je maximální počet možných přestupů omezen na 4 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obrázek 144" descr="9AC0AA8C"/>
          <p:cNvPicPr/>
          <p:nvPr/>
        </p:nvPicPr>
        <p:blipFill>
          <a:blip r:embed="rId1"/>
          <a:stretch/>
        </p:blipFill>
        <p:spPr>
          <a:xfrm>
            <a:off x="500040" y="3286080"/>
            <a:ext cx="7467480" cy="241776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zápatí 4"/>
          <p:cNvSpPr/>
          <p:nvPr/>
        </p:nvSpPr>
        <p:spPr>
          <a:xfrm>
            <a:off x="0" y="6286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Vyplníme políčka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Datum a čas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a to kliknutím do políček a následný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psáním čísel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bráním z kalendář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 Můžeme využít i nakliknutí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omocí šipek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aškrtn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Odjezd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a klikneme na políčko </a:t>
            </a: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obrázek 1" descr="60214B8A"/>
          <p:cNvPicPr/>
          <p:nvPr/>
        </p:nvPicPr>
        <p:blipFill>
          <a:blip r:embed="rId1"/>
          <a:stretch/>
        </p:blipFill>
        <p:spPr>
          <a:xfrm>
            <a:off x="500040" y="2143080"/>
            <a:ext cx="7467480" cy="3929040"/>
          </a:xfrm>
          <a:prstGeom prst="rect">
            <a:avLst/>
          </a:prstGeom>
          <a:ln w="0">
            <a:noFill/>
          </a:ln>
        </p:spPr>
      </p:pic>
      <p:sp>
        <p:nvSpPr>
          <p:cNvPr id="276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Zobrazí se nám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tabulka spojů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5713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adaň » Pra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3929040"/>
          <a:ext cx="9144000" cy="2454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1764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,,aut.nád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8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21292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,,ÚAN Floren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: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25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18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32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Autobusy Karlovy Vary, a.s.; Karlovy Vary; 353 226 2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jede 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071720"/>
          <a:ext cx="9144000" cy="2787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631800"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Da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kud/Přestup/K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ří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d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oz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3816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Spoj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.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Os 1765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Kadaň-Prunéřo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7: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R 611 Karlex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Praha hl.n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0: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5320">
                <a:tc>
                  <a:txBody>
                    <a:bodyPr lIns="47520" rIns="4752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7520" rIns="47520" tIns="9540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Celkový čas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 hod 46 min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vzdálenost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95 km</a:t>
                      </a: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, cena </a:t>
                      </a:r>
                      <a:r>
                        <a:rPr b="1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54 Kč / IN50 127 Kč / IN25 191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České dráhy, a.s.; nábřeží L.Svobody 1222/12, 110 15 Praha 1; +420 840 112 1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Zástupný symbol pro zápatí 4"/>
          <p:cNvSpPr/>
          <p:nvPr/>
        </p:nvSpPr>
        <p:spPr>
          <a:xfrm>
            <a:off x="0" y="642132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71516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nám nabízí i další informace a možnosti využití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hleda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předchozí i následující spoje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zpáteční spoje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          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hledat nová spojení 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nebo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měnit zadání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Jízdní řád můžeme </a:t>
            </a:r>
            <a:r>
              <a:rPr b="1" lang="cs-CZ" sz="2400" spc="-1" strike="noStrike">
                <a:solidFill>
                  <a:srgbClr val="ff0000"/>
                </a:solidFill>
                <a:latin typeface="Franklin Gothic Book"/>
              </a:rPr>
              <a:t>vytisknout</a:t>
            </a:r>
            <a:r>
              <a:rPr b="1" lang="cs-CZ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obrázek 1" descr="71AC7866"/>
          <p:cNvPicPr/>
          <p:nvPr/>
        </p:nvPicPr>
        <p:blipFill>
          <a:blip r:embed="rId1"/>
          <a:stretch/>
        </p:blipFill>
        <p:spPr>
          <a:xfrm>
            <a:off x="428760" y="3857760"/>
            <a:ext cx="7467480" cy="1857240"/>
          </a:xfrm>
          <a:prstGeom prst="rect">
            <a:avLst/>
          </a:prstGeom>
          <a:ln w="0">
            <a:noFill/>
          </a:ln>
        </p:spPr>
      </p:pic>
      <p:sp>
        <p:nvSpPr>
          <p:cNvPr id="284" name="Zástupný symbol pro zápatí 4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Vytvořeno dne 17. 3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9b9a98"/>
                </a:solidFill>
                <a:latin typeface="Arial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5:51:32Z</dcterms:created>
  <dc:creator>ZS Kadan</dc:creator>
  <dc:description/>
  <dc:language>en-US</dc:language>
  <cp:lastModifiedBy>martina</cp:lastModifiedBy>
  <dcterms:modified xsi:type="dcterms:W3CDTF">2013-08-22T15:07:06Z</dcterms:modified>
  <cp:revision>20</cp:revision>
  <dc:subject/>
  <dc:title>Práce s Internetem – vyhledávání informací</dc:title>
</cp:coreProperties>
</file>