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31F7-FCD4-4A9C-949F-09DA9DE3D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4B91-E758-482D-9C51-560999B0B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31B-D506-4566-BA30-F7B2BF8A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059-2C7D-48CC-84D7-2413E705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21E-8820-41BE-BC67-FEED7B00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F59-579F-4773-99D2-8627096B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2729-1D79-4690-86EB-AF761621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7F7-BEE2-4593-A3D6-C997C11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EB89-7601-4D24-89C9-7BCE900E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CF8A-3AF2-4865-8EE8-2DB0078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5A6A-ADAF-4517-A1FA-3674830C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6D65-D15E-45D0-96C8-F2862F20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9B69-377E-490C-AD5A-93A60DE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47A-977F-4B5C-A1DF-BFD85831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ABC1-184D-4C49-8076-99601C6D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2E65-C649-40E0-83EC-8C73655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6F05-45EF-43E8-96E1-E0C4A095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56EF-755A-4B54-9B08-A86EA90B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5ED3-D803-488C-B725-2928421D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72C-F798-4F09-A7FD-BE96A9EF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90C-0C19-4849-867D-A12F4D1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8B0-5BA0-48C9-973A-58EC9195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5A4-9754-4628-8DDB-64CA4D8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74E-A9B2-404D-BA1F-107B153D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4EA-1E33-4956-A75B-3F6A48A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6A9-9131-4558-91C6-E58644E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361D-5112-478C-AFC7-BCE23956EC9D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C73-671A-4F8D-A8A9-DE29638249F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074F-3E61-4152-9262-626BAFF9FD51}" type="datetime">
              <a:rPr b="0" lang="cs-CZ" sz="1200" spc="-1" strike="noStrike">
                <a:solidFill>
                  <a:srgbClr val="000000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A66-EDBD-4DD4-8F92-E5D2F200445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006666"/>
                </a:solidFill>
                <a:latin typeface="Arial"/>
              </a:rPr>
              <a:t>Internet</a:t>
            </a:r>
            <a:endParaRPr b="0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04560" y="2776320"/>
            <a:ext cx="56912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Svobodné méd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Zástupný symbol pro zápatí 3"/>
          <p:cNvSpPr/>
          <p:nvPr/>
        </p:nvSpPr>
        <p:spPr>
          <a:xfrm>
            <a:off x="0" y="5780160"/>
            <a:ext cx="914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3"/>
          <p:cNvSpPr/>
          <p:nvPr/>
        </p:nvSpPr>
        <p:spPr>
          <a:xfrm>
            <a:off x="250920" y="5732640"/>
            <a:ext cx="864216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052640"/>
          <a:ext cx="8715600" cy="412416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je zaměřena na seznámení žáků s internetem z hlediska svobodného média a jeho významem pro dnešní dobu. Žáci se seznámí s jeho historií, službami, které poskytuje a způsoby připojení k němu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vyhledat potřebné informace na internet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179280" y="5349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Co je to Intern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pojené počítačové sítě celého světa, které mají za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cíl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ci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a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enos dat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ezi jednotlivými počítač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ždý připojený počítač má svo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IP adres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192.168.0.1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92.243.202.14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Zástupný symbol pro zápatí 3"/>
          <p:cNvSpPr/>
          <p:nvPr/>
        </p:nvSpPr>
        <p:spPr>
          <a:xfrm>
            <a:off x="611280" y="59292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7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  <a:ea typeface="Calibri"/>
              </a:rPr>
              <a:t>Histor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052640"/>
            <a:ext cx="801396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60. – 70. léta: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ARPA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xperiment, cca 50 počítačů v sí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80. léta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pojeno cca 1 000 počítač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1987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ojem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 síti připojeno asi 30 000 počítač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90. léta: Internet se stává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erční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hlížeče, v síti cca 50 milion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00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50 milionů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2010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přes 2 miliardy připoje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250920" y="6237360"/>
            <a:ext cx="8642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-171720"/>
            <a:ext cx="7686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luž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99640" y="691920"/>
            <a:ext cx="7758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www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webové stránky (protokol http, http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e-mail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lektronická poš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FTP: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enos souborů (Total Command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Komunikač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elefon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Sky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nline komunikace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ICQ, Messenger, Face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ciální sítě </a:t>
            </a:r>
            <a:r>
              <a:rPr b="0" lang="cs-CZ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facebook, Twi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dílení soubor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Zástupný symbol pro zápatí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řipoj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1052640"/>
            <a:ext cx="783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prostředkovatel připojení je provi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ychlost v bitech za sekundu (b/s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b/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OZOR!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1 byte = 8 bit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istuje několik různých způsobů </a:t>
            </a: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řipojen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telefonní – ADS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kabelovou televizí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Wi-Fi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       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mobilním telefonem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Zástupný symbol pro zápatí 3"/>
          <p:cNvSpPr/>
          <p:nvPr/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1143000" cy="109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ile:Routing.gif"/>
          <p:cNvPicPr/>
          <p:nvPr/>
        </p:nvPicPr>
        <p:blipFill>
          <a:blip r:embed="rId2"/>
          <a:stretch/>
        </p:blipFill>
        <p:spPr>
          <a:xfrm>
            <a:off x="6572160" y="3571920"/>
            <a:ext cx="2089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bový prohlížeč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7280" y="1773360"/>
            <a:ext cx="731376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c00000"/>
                </a:solidFill>
                <a:latin typeface="Verdana"/>
              </a:rPr>
              <a:t>Program</a:t>
            </a:r>
            <a:r>
              <a:rPr b="0" lang="cs-CZ" sz="2900" spc="-1" strike="noStrike">
                <a:solidFill>
                  <a:srgbClr val="c00000"/>
                </a:solidFill>
                <a:latin typeface="Verdana"/>
              </a:rPr>
              <a:t> umožňující prohlížení www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í číst </a:t>
            </a: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http://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Explor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Google Chro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Mozil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Verdana"/>
              </a:rPr>
              <a:t>Safa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Zástupný symbol pro zápatí 3"/>
          <p:cNvSpPr/>
          <p:nvPr/>
        </p:nvSpPr>
        <p:spPr>
          <a:xfrm>
            <a:off x="0" y="6143760"/>
            <a:ext cx="88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ové zdroje obrázků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26920" y="1599840"/>
            <a:ext cx="81028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šechny uveřejněné odkazy [cit. 2012-02-24] dostupné pod licencí Creative Commons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wikimedia.or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rnet. připojení - </a:t>
            </a: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Routing.gi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íťová karta - </a:t>
            </a:r>
            <a:r>
              <a:rPr b="0" i="1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http://commons.wikimedia.org/wiki/File:Ethernet_pci_card.jp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Zástupný symbol pro zápatí 3"/>
          <p:cNvSpPr/>
          <p:nvPr/>
        </p:nvSpPr>
        <p:spPr>
          <a:xfrm>
            <a:off x="179280" y="585792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Autorem materiálu a všech jeho částí, není-li uvedeno jinak, je  Martin Dlouh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Verdana"/>
              </a:rPr>
              <a:t>Vytvořeno dne 24. 2. 20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Verdana"/>
              </a:rPr>
              <a:t>Tento projekt je spolufinancován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4:24:17Z</dcterms:created>
  <dc:creator>ZS Kadan</dc:creator>
  <dc:description/>
  <dc:language>en-US</dc:language>
  <cp:lastModifiedBy>martina</cp:lastModifiedBy>
  <dcterms:modified xsi:type="dcterms:W3CDTF">2013-08-22T15:06:08Z</dcterms:modified>
  <cp:revision>21</cp:revision>
  <dc:subject/>
  <dc:title>Snímek 1</dc:title>
</cp:coreProperties>
</file>