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95A-BC80-4B76-8A54-CE6C86718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DE68-E42C-4481-B65D-BAA7918E91E8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4A6-8443-4EB0-9B4C-CBB5FFD7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E5D-0436-476D-AADA-A2D3E879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BA5-209C-4129-9125-28A99B05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31D-769E-4D7C-8A68-90CCC928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B413-3D34-4BA2-A8B7-264D6797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0FE4-E671-4825-BB8D-DEC89745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B4DE-0473-4DC1-B0E9-7615D6A6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26C3-D3E2-4425-83D0-512ADF9E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4399-D40D-4BE5-A501-921978BC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9040-5AC4-4626-8223-840828AE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0E33-79B5-49BE-95F8-1AA8A3CE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AF2-31C2-407A-91C5-9B3E1E4E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C8DB-7C62-433C-B604-A075ED99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7FE7-075B-4705-A4E3-471DB01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BBC0-4149-40C8-B4EE-1500A89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B64E-58E3-41FB-B37A-2209265A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4B6B-830B-43DB-BA32-ED6C9D83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5A81-5F08-4920-BB0F-29F7E71F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A0B1-DB2D-4AA8-8830-0A21279E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101C-F5EA-4E6E-AA2A-6C0907A9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2C40-18AD-49E1-AEC1-D890AA51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00ED-A075-48E9-A0D2-DC4B2224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044-5E63-48F4-838F-37F009DA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EB46-96BB-4E10-9B4A-9AD8A57E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3E88-CA5D-46A7-ACE0-DEA04820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1770-51CE-4D5C-8C18-9A56DB08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11D6-25E4-4B0C-9CD2-0764F36E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A5661-3363-496D-BFFF-DFE4EED0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E538-C762-4239-8C01-3DF5B72A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5851-1E2D-4DED-B42A-BA9115C4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F9BE-6957-48D2-A6A8-5EA79626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9BADF-4F69-4442-B74B-9C1FD8C4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954E-B24E-48A6-8169-A7D7B87C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9DD-0D73-405B-AF17-D1F0B250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54B8-86FE-475E-82DA-FB44FC7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1924-D992-46CF-A11F-13C60A63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C748-B6E8-40A9-AE3D-7BCD3F70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16F8D-5C9C-42D8-9038-0566F99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2957-D5D7-48FA-A7F6-5A68D839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43B8-ACD9-4113-B2F4-70FCBFFA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B496-7638-4EFD-B8F1-3429CF06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E827-ED3D-4D8B-8520-C3B6A8C1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A79DC-B6DB-43CF-A997-5C138FA1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A06C-700C-4F4A-96E3-A045C7FF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891-9394-4635-9737-B2AADF4D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08D1-B2E7-4361-B944-1B4ED85B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39627-FC06-44AB-B577-E13A4198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4A0B8-89C4-4A1B-A250-E805DAC4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3C62F-22AA-4942-90AE-8F9C058A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020C-ADF0-4E91-8658-98DA9E36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EB0D1-FC6C-4AFD-9244-47DC46B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E686-D404-406A-BB17-01C43A8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8323D-5B75-4563-902E-E438AD47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849C-80B5-4B45-9469-B0FD6ADC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1517-CECC-4BAC-B1EC-46A698E7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AF8-2415-46A9-8518-C6F5C532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49374-0C63-425A-AE78-74CA1202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0C675-9644-4820-AD28-F7DA883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58C9-AECC-4A5D-9268-EE3253B8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8843A-2056-4910-B175-205D2BE2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4E74A-261C-472B-AD7D-D3FF812A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4693D-E371-498D-B411-2FDFC1D2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7394F-DB4D-4E8F-BE92-ECEAB48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9261-999E-4B13-81E1-EB899914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C536A-0C48-492D-8146-DB067D9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BC2DD-D4E8-4101-AF98-A5AA3FE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448-DC53-4F4A-A636-5404A47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2111D-3720-43F2-BFCC-39662BB8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C54C6-8C01-447B-B719-02E831B2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3C1A4-AEDB-4EBA-A08D-98F4F873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D80-ABA2-43D4-93A5-49BDD2F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90C-1717-402C-BBB9-DD2BEC0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51C8-72F0-46A3-93C4-AFCB7E46D053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1F00-3869-4CFD-9CC9-1A3784E01407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8B4D-17DE-4DE2-B15A-143BD647C22D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3D4B-7580-489C-BD76-7511718F1393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27F2-51E5-4B8F-ADBC-CE35F8738C9C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D618-FB2B-43C6-8B34-3CFC0EF637CD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70DF-70F8-4CEC-9CA8-ED45D7A8C168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3FDE-C035-4FFA-BD33-1A4322AF544A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8298-256A-41ED-9FB4-B0D3484D87C8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9294-DA34-4C10-A11A-FA3E3B8BC307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21D1-970E-4CC5-A383-FE1219A01532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1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EDC8-4846-45AB-AC9E-51980267C0DF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Nadpis 1" descr=""/>
          <p:cNvPicPr/>
          <p:nvPr/>
        </p:nvPicPr>
        <p:blipFill>
          <a:blip r:embed="rId1"/>
          <a:stretch/>
        </p:blipFill>
        <p:spPr>
          <a:xfrm>
            <a:off x="281160" y="3176640"/>
            <a:ext cx="8637480" cy="2485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13840" y="92880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Franklin Gothic Book"/>
              </a:rPr>
              <a:t>Vyhledávání dopravního spoj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Zástupný symbol pro zápatí 3"/>
          <p:cNvSpPr/>
          <p:nvPr/>
        </p:nvSpPr>
        <p:spPr>
          <a:xfrm>
            <a:off x="0" y="55897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Nový začátek (New start) CZ.1.07/1.4.00/21.1409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zápatí 3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Vytvořeno dne 17. 3. 201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1052640"/>
          <a:ext cx="8715600" cy="3687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</a:t>
                      </a: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 je zaměřena na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, především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 a jeho využití pro cestování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"/>
          <p:cNvSpPr/>
          <p:nvPr/>
        </p:nvSpPr>
        <p:spPr>
          <a:xfrm>
            <a:off x="179280" y="5742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č.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358120" cy="227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a Internetu najdeme snadno v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ávači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ebo přímo zadáním adresy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jizdnirady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(resp.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idos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ačte se nám následující stránka: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roletc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Jízdní řád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ber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ůsob přeprav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–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la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autobus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letadlo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HD (město)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ombinace vlak + autobus atd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obrázek 150" descr="44EB893E"/>
          <p:cNvPicPr/>
          <p:nvPr/>
        </p:nvPicPr>
        <p:blipFill>
          <a:blip r:embed="rId1"/>
          <a:stretch/>
        </p:blipFill>
        <p:spPr>
          <a:xfrm>
            <a:off x="428760" y="2643120"/>
            <a:ext cx="8229600" cy="3714840"/>
          </a:xfrm>
          <a:prstGeom prst="rect">
            <a:avLst/>
          </a:prstGeom>
          <a:ln w="0">
            <a:noFill/>
          </a:ln>
        </p:spPr>
      </p:pic>
      <p:sp>
        <p:nvSpPr>
          <p:cNvPr id="270" name="Zástupný symbol pro zápatí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Kliknutím do políček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ku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am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apíšeme místa naší cesty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Rozhodneme se, zda zaškrtneme políčk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uze přím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(bez přestupů).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případě hledání s přestupy je maximální počet možných přestupů omezen na 4 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obrázek 144" descr="9AC0AA8C"/>
          <p:cNvPicPr/>
          <p:nvPr/>
        </p:nvPicPr>
        <p:blipFill>
          <a:blip r:embed="rId1"/>
          <a:stretch/>
        </p:blipFill>
        <p:spPr>
          <a:xfrm>
            <a:off x="500040" y="3286080"/>
            <a:ext cx="7467480" cy="2417760"/>
          </a:xfrm>
          <a:prstGeom prst="rect">
            <a:avLst/>
          </a:prstGeom>
          <a:ln w="0">
            <a:noFill/>
          </a:ln>
        </p:spPr>
      </p:pic>
      <p:sp>
        <p:nvSpPr>
          <p:cNvPr id="273" name="Zástupný symbol pro zápatí 4"/>
          <p:cNvSpPr/>
          <p:nvPr/>
        </p:nvSpPr>
        <p:spPr>
          <a:xfrm>
            <a:off x="0" y="6286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plníme políčk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Datum a čas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a to kliknutím do políček a následný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psáním čísel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bráním z kalendář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 Můžeme využít i nakliknutí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mocí šipe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aškrtn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jez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klikneme na políčko </a:t>
            </a: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obrázek 1" descr="60214B8A"/>
          <p:cNvPicPr/>
          <p:nvPr/>
        </p:nvPicPr>
        <p:blipFill>
          <a:blip r:embed="rId1"/>
          <a:stretch/>
        </p:blipFill>
        <p:spPr>
          <a:xfrm>
            <a:off x="500040" y="2143080"/>
            <a:ext cx="7467480" cy="3929040"/>
          </a:xfrm>
          <a:prstGeom prst="rect">
            <a:avLst/>
          </a:prstGeom>
          <a:ln w="0">
            <a:noFill/>
          </a:ln>
        </p:spPr>
      </p:pic>
      <p:sp>
        <p:nvSpPr>
          <p:cNvPr id="276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obrazí se ná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tabulka spojů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57132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Kadaň » Pra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3929040"/>
          <a:ext cx="9144000" cy="2454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1764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,,aut.nád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8: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421292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,,ÚAN Floren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: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25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8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32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Autobusy Karlovy Vary, a.s.; Karlovy Vary; 353 226 2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jede 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0" y="1071720"/>
          <a:ext cx="9144000" cy="27874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63180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s 1765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-Prunéřo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R 611 Karlex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 hl.n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0: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53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46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95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54 Kč / IN50 127 Kč / IN25 191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České dráhy, a.s.; nábřeží L.Svobody 1222/12, 110 15 Praha 1; +420 840 112 1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Zástupný symbol pro zápatí 4"/>
          <p:cNvSpPr/>
          <p:nvPr/>
        </p:nvSpPr>
        <p:spPr>
          <a:xfrm>
            <a:off x="0" y="642132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715160" cy="350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ám nabízí i další informace a možnosti využití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-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ředchozí i následující spoj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áteční spoje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at nov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ěnit zadá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tisknou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obrázek 1" descr="71AC7866"/>
          <p:cNvPicPr/>
          <p:nvPr/>
        </p:nvPicPr>
        <p:blipFill>
          <a:blip r:embed="rId1"/>
          <a:stretch/>
        </p:blipFill>
        <p:spPr>
          <a:xfrm>
            <a:off x="428760" y="3857760"/>
            <a:ext cx="7467480" cy="1857240"/>
          </a:xfrm>
          <a:prstGeom prst="rect">
            <a:avLst/>
          </a:prstGeom>
          <a:ln w="0">
            <a:noFill/>
          </a:ln>
        </p:spPr>
      </p:pic>
      <p:sp>
        <p:nvSpPr>
          <p:cNvPr id="284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5:51:32Z</dcterms:created>
  <dc:creator>ZS Kadan</dc:creator>
  <dc:description/>
  <dc:language>en-US</dc:language>
  <cp:lastModifiedBy>martina</cp:lastModifiedBy>
  <dcterms:modified xsi:type="dcterms:W3CDTF">2013-08-22T15:07:06Z</dcterms:modified>
  <cp:revision>20</cp:revision>
  <dc:subject/>
  <dc:title>Práce s Internetem – vyhledávání informací</dc:title>
</cp:coreProperties>
</file>