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28D9-839E-496B-A789-49FF4002211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D2BB-AAC2-4F39-90A1-9CDED753F36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101-FE86-421E-BC90-15B2A708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D98B-7363-423A-91D3-C3FAE35A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E55-8388-48EC-A80F-C094F62F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6AC8-75E9-462B-A128-A8369C88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0CED-8CEC-4AA5-99BB-FCBB7DAB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DDE7-D7FA-49F7-B954-F4EDAEDD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7E1A-0F20-47BF-90B8-4F8BDDF1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FBB1-B1D7-41C5-BB4E-1866C952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9D52-A79A-4E52-A6F8-A4617430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4CD6-9630-4356-917B-28D5A08D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2E19-9F61-4123-9A7F-F5D922D7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D5E-42ED-4923-9545-6A233352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D185-22AE-4C14-BA5B-C1253A2A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4A97-7154-4561-A3C5-CE8DA046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CF88-B660-4665-90CF-75B062A1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4F75-8243-4ABE-810A-35248344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4AC5-4490-4AA4-A411-60A9EEA8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6064-1E3E-4B1B-BFB0-290E2847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8966-A755-4027-8AE2-DD218C05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FB7-A10D-47BB-B9F1-EBB2EF6A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800-E8D7-49A3-B592-9488E638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B8F7-CB81-4243-9BBA-B93141CD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9520-C24A-4DF5-AC40-3D0AD12A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2EB-5C4A-4D99-B6BE-629CA5C8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1FC7-FBD6-4E9F-8B31-3F919FF641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C638-083A-46FE-9BB3-D3EF7D56576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1071720"/>
            <a:ext cx="777240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Arial Black"/>
              </a:rPr>
              <a:t>Cvičná prezentac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67816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b7"/>
                </a:solidFill>
                <a:latin typeface="Arial"/>
              </a:rPr>
              <a:t>Společný postup tvorby prezentace v MS PowerPoin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Zástupný symbol pro zápatí 4"/>
          <p:cNvSpPr/>
          <p:nvPr/>
        </p:nvSpPr>
        <p:spPr>
          <a:xfrm>
            <a:off x="1357200" y="5715000"/>
            <a:ext cx="7072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835280" y="3500280"/>
            <a:ext cx="5752800" cy="140040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VELKÝ PÁTEK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85880" y="1928880"/>
            <a:ext cx="754992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Velký páte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e lidé chodili mýt do potoka, aby se jim vyhýbaly choroby. Někde se chlapci potápěli a snažili se ústy uchopit ze dna vody kamínek, který pak hodili levačkou za hlavu - pak je nebolely zuby. Textilníci předli pašijové nitě, těmi udělali několik stehů, které pak rodinu chránily před uhranutím a zlými duchy. Košile ušitá pašijovými nitěmi chránila před bleskem. Nesmělo se prát prádlo, nesmělo se pracovat v sadu, nesmělo se nic půjčovat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215200" y="600084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42" name="Zástupný symbol pro zápatí 4"/>
          <p:cNvSpPr/>
          <p:nvPr/>
        </p:nvSpPr>
        <p:spPr>
          <a:xfrm>
            <a:off x="1357200" y="6245280"/>
            <a:ext cx="66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BÍLÁ SOBOTA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2192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Bílo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sobot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e z ohořelých dřívek udělal křížek a ten se donesl na pole, aby bylo úrodné. Někde se dávaly za trámy domu uhlíky, aby odradily požár. Doma se uklízelo, bílilo, pekly se mazance a beránci, pletly pomlázky, zdobila vajíčk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46" name="Zástupný symbol pro zápatí 4"/>
          <p:cNvSpPr/>
          <p:nvPr/>
        </p:nvSpPr>
        <p:spPr>
          <a:xfrm>
            <a:off x="1357200" y="6245280"/>
            <a:ext cx="65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BOŽÍ HOD VELIKONOČNÍ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560" y="2924280"/>
            <a:ext cx="72630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Boží hod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velikonoční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stala každá návštěva kousek posvěceného jídla, trochu se ho dalo na pole, do studny a na zahradu - aby byla úroda, voda a dostatek ovoce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600084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50" name="Zástupný symbol pro zápatí 4"/>
          <p:cNvSpPr/>
          <p:nvPr/>
        </p:nvSpPr>
        <p:spPr>
          <a:xfrm>
            <a:off x="1143000" y="6245280"/>
            <a:ext cx="678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VELIKONOČNÍ</a:t>
            </a:r>
            <a:br>
              <a:rPr sz="7200"/>
            </a:b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PONDĚLÍ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26920" y="2708280"/>
            <a:ext cx="8066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Velikonoční ponděl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e dnem, který následuje po neděli Zmrtvýchvstání Páně. U nás je spojeno s nejrůznějšími tradicemi a zvyklostmi, které lze zařadit k rituálům nastávajícího jar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našich krajích je zvykem chodit s  pomlázkou, což je pletený prut, kterým chlapci bijí děvčata z okolí. Za to dostanou malovaná vajíčka čili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cs-CZ" sz="28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1" lang="cs-CZ" sz="2800" spc="-1" strike="noStrike">
                <a:solidFill>
                  <a:srgbClr val="161616"/>
                </a:solidFill>
                <a:latin typeface="Arial"/>
              </a:rPr>
              <a:t>s</a:t>
            </a:r>
            <a:r>
              <a:rPr b="1" lang="cs-CZ" sz="2800" spc="-1" strike="noStrike">
                <a:solidFill>
                  <a:srgbClr val="66ff66"/>
                </a:solidFill>
                <a:latin typeface="Arial"/>
              </a:rPr>
              <a:t>l</a:t>
            </a:r>
            <a:r>
              <a:rPr b="1" lang="cs-CZ" sz="2800" spc="-1" strike="noStrike">
                <a:solidFill>
                  <a:srgbClr val="ffc000"/>
                </a:solidFill>
                <a:latin typeface="Arial"/>
              </a:rPr>
              <a:t>i</a:t>
            </a:r>
            <a:r>
              <a:rPr b="1" lang="cs-CZ" sz="2800" spc="-1" strike="noStrike">
                <a:solidFill>
                  <a:srgbClr val="d82852"/>
                </a:solidFill>
                <a:latin typeface="Arial"/>
              </a:rPr>
              <a:t>c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54" name="Zástupný symbol pro zápatí 4"/>
          <p:cNvSpPr/>
          <p:nvPr/>
        </p:nvSpPr>
        <p:spPr>
          <a:xfrm>
            <a:off x="1357200" y="6245280"/>
            <a:ext cx="6500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9" descr="C:\Documents and Settings\Spravce\Dokumenty\Kliparty\Kliparty_3\WMF\Vira\rel10016.wmf"/>
          <p:cNvPicPr/>
          <p:nvPr/>
        </p:nvPicPr>
        <p:blipFill>
          <a:blip r:embed="rId1"/>
          <a:stretch/>
        </p:blipFill>
        <p:spPr>
          <a:xfrm flipH="1">
            <a:off x="1071720" y="1071720"/>
            <a:ext cx="2146320" cy="4456080"/>
          </a:xfrm>
          <a:prstGeom prst="rect">
            <a:avLst/>
          </a:prstGeom>
          <a:ln w="0">
            <a:noFill/>
          </a:ln>
        </p:spPr>
      </p:pic>
      <p:pic>
        <p:nvPicPr>
          <p:cNvPr id="156" name="Obdélník 6" descr=""/>
          <p:cNvPicPr/>
          <p:nvPr/>
        </p:nvPicPr>
        <p:blipFill>
          <a:blip r:embed="rId2"/>
          <a:stretch/>
        </p:blipFill>
        <p:spPr>
          <a:xfrm>
            <a:off x="2955960" y="1566720"/>
            <a:ext cx="6065640" cy="2224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C:\Documents and Settings\Spravce\Dokumenty\Kliparty\Kliparty_1\WMF\Udalosti\eve_9104.wmf"/>
          <p:cNvPicPr/>
          <p:nvPr/>
        </p:nvPicPr>
        <p:blipFill>
          <a:blip r:embed="rId3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58" name="Zástupný symbol pro zápatí 5"/>
          <p:cNvSpPr/>
          <p:nvPr/>
        </p:nvSpPr>
        <p:spPr>
          <a:xfrm>
            <a:off x="2124000" y="6143760"/>
            <a:ext cx="587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Zástupný symbol pro zápatí 3"/>
          <p:cNvSpPr/>
          <p:nvPr/>
        </p:nvSpPr>
        <p:spPr>
          <a:xfrm>
            <a:off x="1116000" y="5708520"/>
            <a:ext cx="727236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Vytvořeno dne  18. 1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4200" y="981000"/>
          <a:ext cx="8715600" cy="428148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ičná prezentace - společný postup tvorby prezentace v MS PowerPoint 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zentace seznamuje žáky s jednotlivými kroky tvorby prezentace  na dané téma. Žáci si společně přímou prací na PC procvičí tvorbu  prezentac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 – ovládat základy psaní na klávesnici, na uživatelské úrovni práci s textovým editorem, využívat vhodné aplik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zentace, pracovní li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ýklad, aktivit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1"/>
          <p:cNvSpPr/>
          <p:nvPr/>
        </p:nvSpPr>
        <p:spPr>
          <a:xfrm>
            <a:off x="179280" y="4244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č.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582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Black"/>
              </a:rPr>
              <a:t>Úkol: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      </a:t>
            </a:r>
            <a:r>
              <a:rPr b="1" lang="cs-CZ" sz="2400" spc="-1" strike="noStrike">
                <a:solidFill>
                  <a:srgbClr val="ffffb7"/>
                </a:solidFill>
                <a:latin typeface="Arial Black"/>
              </a:rPr>
              <a:t>Společná tvorba prezentace na téma Velikonoce 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85716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Black"/>
              </a:rPr>
              <a:t>Postu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puštěním program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owerPoin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e objeví na ploš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vní prázdný sníme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rezentace většinou jen pro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dpis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anelu nástrojů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ikneme 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tlačítko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ávrh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 po straně se nám otevře okno s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šablonou grafických návrh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barevným spektrem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imačním schématem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ybereme pro všechny snímky a vše potvrdíme kliknutí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ový snímek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tvoříme kliknutím 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tlačítko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se stejným nápisem v 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anelu nástroj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Po straně se nám otevře okno se způsob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ozložení snímk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Vyberem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(Nadpis a obsah)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otvrdíme kliknutí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Text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doplníme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opírováním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 předlohy po kliknutím do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textového pole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upravujem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ho přes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anel nástroj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dpis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upravíme 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velikost 72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tučně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žlutě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Text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upravíme 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velikost 32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ázev dn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ztučním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 prezentace vložím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Klipar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upravíme  jejich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velik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otovou prezentaci spustím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bídkou Prezentace – Spustit prezentac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Zástupný symbol pro zápatí 3"/>
          <p:cNvSpPr/>
          <p:nvPr/>
        </p:nvSpPr>
        <p:spPr>
          <a:xfrm>
            <a:off x="928800" y="6072120"/>
            <a:ext cx="7572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Vytvořeno dne 18.1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385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0"/>
            <a:ext cx="91440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1.    VELIKONO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2.   ŠKAREDÁ STŘE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škaredou středu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se nesmíte mračit, jinak se budete mračit každou středu v roce. Na škaredou středu začínaly tři přísné postní dny. Ženy se oblékaly do tmavých obleků. Končila všechna společenská posedávání, muži omezili kouření a pití. Hlavním pokrmem byla čočka a hrách. Začínala se již také malovat vejce, aby byla připravena na pomlázk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3.    ZELENÝ ČTVRT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elený čtvrtek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musíte časně vstát a omýt se rosou - nebudete nemocní. Hospodyně musí zamést dům ještě před východem slunce a smetí odnést na křižovatku - nebudete mít v domě blechy. V Orlických horách se házel do studny chléb s medem - aby v ní byla voda celý rok. Také jidáše s medem zaručovaly zdraví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4.     VELKÝ PÁT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elký pátek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se lidé chodili mýt do potoka, aby se jim vyhýbaly choroby. Někde se chlapci potápěli a snažili se ústy uchopit ze dna vody kamínek, který pak hodili levačkou za hlavu - pak je nebolely zuby. Textilníci předli pašijové nitě, těmi udělali několik stehů, které pak rodinu chránily před uhranutím a zlými duchy. Košile ušitá pašijovými nitěmi chránila před bleskem. Nesmělo se prát prádlo, nesmělo se pracovat v sadu, nesmělo se nic půjčov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5.     BÍLÁ SOBO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Bílou sobotu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se z ohořelých dřívek udělal křížek a ten se donesl na pole, aby bylo úrodné. Někde se dávaly za trámy domu uhlíky, aby odradily požár. Doma se uklízelo, bílilo, pekly se mazance a beránci, pletly pomlázky, zdobila vajíčk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6.     BOŽÍ HOD VELIKONOČN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Boží hod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elikonoční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dostala každá návštěva kousek posvěceného jídla, trochu se ho dalo na pole, do studny a na zahradu - aby byla úroda, voda a dostatek ovoc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7.     VELIKONOČNÍ PONDĚL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elikonoční pondělí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je dnem, který následuje po neděli Zmrtvýchvstání Páně. U nás je spojeno s nejrůznějšími tradicemi a zvyklostmi, které lze zařadit k rituálům nastávajícího jara. V našich krajích je zvykem chodit s pomlázkou, což je pletený prut, kterým chlapci bijí děvčata z okolí. Za to dostanou malovaná vajíčka čili kraslic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8.     VESELÉ VELIKONOCE přeje 8. tří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Black"/>
              </a:rPr>
              <a:t>Obrázky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Zástupný symbol pro zápatí 2"/>
          <p:cNvSpPr/>
          <p:nvPr/>
        </p:nvSpPr>
        <p:spPr>
          <a:xfrm>
            <a:off x="1214280" y="6143760"/>
            <a:ext cx="7358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C:\Documents and Settings\Spravce\Dokumenty\Kliparty\Kliparty_3\WMF\Prilezitosti\eve10007.wmf"/>
          <p:cNvPicPr/>
          <p:nvPr/>
        </p:nvPicPr>
        <p:blipFill>
          <a:blip r:embed="rId1"/>
          <a:stretch/>
        </p:blipFill>
        <p:spPr>
          <a:xfrm>
            <a:off x="5214960" y="1785960"/>
            <a:ext cx="3494160" cy="3597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C:\Documents and Settings\Spravce\Dokumenty\Kliparty\Kliparty_1\WMF\Udalosti\eve_9104.wmf"/>
          <p:cNvPicPr/>
          <p:nvPr/>
        </p:nvPicPr>
        <p:blipFill>
          <a:blip r:embed="rId2"/>
          <a:stretch/>
        </p:blipFill>
        <p:spPr>
          <a:xfrm>
            <a:off x="3929040" y="1571760"/>
            <a:ext cx="1698480" cy="1468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C:\Documents and Settings\Spravce\Dokumenty\Kliparty\Kliparty_3\WMF\Vira\rel10016.wmf"/>
          <p:cNvPicPr/>
          <p:nvPr/>
        </p:nvPicPr>
        <p:blipFill>
          <a:blip r:embed="rId3"/>
          <a:stretch/>
        </p:blipFill>
        <p:spPr>
          <a:xfrm flipH="1">
            <a:off x="1143000" y="1428840"/>
            <a:ext cx="2146320" cy="445608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3851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Black"/>
              </a:rPr>
              <a:t>Internetové zdroje obrázků</a:t>
            </a:r>
            <a:r>
              <a:rPr b="1" lang="cs-CZ" sz="3200" spc="-1" strike="noStrike">
                <a:solidFill>
                  <a:srgbClr val="ffff4a"/>
                </a:solidFill>
                <a:latin typeface="Arial Black"/>
              </a:rPr>
              <a:t>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13880" y="1143000"/>
            <a:ext cx="8007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Všechny uveřejněné odkazy 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[cit. 2012-01-18] dostupné pod licencí </a:t>
            </a: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office. microsof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Zdroje obrázků:  vajíčko - [eve_9104]. Dostupný pod licencí office. microsof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                            </a:t>
            </a: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pomlázka - [eve_10007]. Dostupný pod licencí office. microsof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                             </a:t>
            </a: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oltář - [rel_10016]. Dostupný pod licencí office. microsof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428840" y="6072120"/>
            <a:ext cx="7072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fff00"/>
                </a:solidFill>
                <a:latin typeface="Arial Black"/>
              </a:rPr>
              <a:t>VELIKONOCE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7" descr="C:\Documents and Settings\Spravce\Dokumenty\Kliparty\Kliparty_3\WMF\Prilezitosti\eve10007.wmf"/>
          <p:cNvPicPr/>
          <p:nvPr/>
        </p:nvPicPr>
        <p:blipFill>
          <a:blip r:embed="rId1"/>
          <a:stretch/>
        </p:blipFill>
        <p:spPr>
          <a:xfrm>
            <a:off x="4572000" y="2357280"/>
            <a:ext cx="3494160" cy="3597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C:\Documents and Settings\Spravce\Dokumenty\Kliparty\Kliparty_1\WMF\Udalosti\eve_9104.wmf"/>
          <p:cNvPicPr/>
          <p:nvPr/>
        </p:nvPicPr>
        <p:blipFill>
          <a:blip r:embed="rId2"/>
          <a:stretch/>
        </p:blipFill>
        <p:spPr>
          <a:xfrm>
            <a:off x="1714680" y="2786040"/>
            <a:ext cx="1698480" cy="1468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C:\Documents and Settings\Spravce\Dokumenty\Kliparty\Kliparty_1\WMF\Udalosti\eve_9104.wmf"/>
          <p:cNvPicPr/>
          <p:nvPr/>
        </p:nvPicPr>
        <p:blipFill>
          <a:blip r:embed="rId3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29" name="TextovéPole 6"/>
          <p:cNvSpPr/>
          <p:nvPr/>
        </p:nvSpPr>
        <p:spPr>
          <a:xfrm>
            <a:off x="3643200" y="19288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Správné řeš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Zástupný symbol pro zápatí 7"/>
          <p:cNvSpPr/>
          <p:nvPr/>
        </p:nvSpPr>
        <p:spPr>
          <a:xfrm>
            <a:off x="1500120" y="6286680"/>
            <a:ext cx="64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07552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ŠKAREDÁ </a:t>
            </a:r>
            <a:br>
              <a:rPr sz="7200"/>
            </a:b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STŘEDA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85520" y="2356920"/>
            <a:ext cx="7047000" cy="36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škaredou středu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e nesmíte mračit, jinak se budete mračit každou středu v ro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škaredou středu začínaly tři přísné postní dny. Ženy se oblékaly do tmavých obleků. Končila všechna společenská posedávání, muži omezili kouření a pití. Hlavním pokrmem byla čočka a hrách. Začínala se již také malovat vejce, aby byla připravena na pomlázku.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34" name="Zástupný symbol pro zápatí 4"/>
          <p:cNvSpPr/>
          <p:nvPr/>
        </p:nvSpPr>
        <p:spPr>
          <a:xfrm>
            <a:off x="1214280" y="6308640"/>
            <a:ext cx="69296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ZELENÝ ČTVRTEK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560" y="2781360"/>
            <a:ext cx="726300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Zelený čtvrtek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usíte časně vstát a omýt se rosou - nebudete nemocní. Hospodyně musí zamést dům ještě před východem slunce a smetí odnést na křižovatku - nebudete mít v domě blechy. V Orlických horách se házel do studny chléb s medem - aby v ní byla voda celý rok. Také jidáše s medem zaručovaly zdrav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38" name="Zástupný symbol pro zápatí 4"/>
          <p:cNvSpPr/>
          <p:nvPr/>
        </p:nvSpPr>
        <p:spPr>
          <a:xfrm>
            <a:off x="1500120" y="6245280"/>
            <a:ext cx="635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0:10:19Z</dcterms:created>
  <dc:creator>zak</dc:creator>
  <dc:description/>
  <dc:language>en-US</dc:language>
  <cp:lastModifiedBy>martina</cp:lastModifiedBy>
  <dcterms:modified xsi:type="dcterms:W3CDTF">2013-08-22T15:04:34Z</dcterms:modified>
  <cp:revision>49</cp:revision>
  <dc:subject/>
  <dc:title>VELIKONCE</dc:title>
</cp:coreProperties>
</file>