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6995-0968-47ED-B3A3-DC00326928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EE52-1C51-4592-8ABE-699AEE5EB8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D21-7E7E-435B-9851-B3060EAF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E0C-FDCC-46BD-8B51-B6FD09E0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C53-EF7B-4696-8833-5D1E7515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E63-DA8C-41C8-A91E-C88B22B2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69F4-CAA4-4063-A9E0-E5EFA4DD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C5DB-2347-46FF-B466-B623CF9B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BEE8-3BC9-4D94-9C97-1DB4C9C2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1994-D1C2-4353-82F7-77439E7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2453-CC15-4AB8-A3C5-A79CC017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09A1-12A2-4F4D-BA2C-5E49D602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46D5-717B-4291-A16F-1FE6116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31D-A689-4F3E-BD75-3E430E9A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EF0E-2BAA-4F97-B8E5-BCBF114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4E03-465E-4739-80FE-6192F6EF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5923-5A12-4EF5-89ED-877504A4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EEC-ED38-4829-B7F7-7EC43E18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C534-9E04-45C8-B9C1-DEFD824A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8B14-0C00-4536-BFE2-4706C580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830F-3BA1-466F-9B29-8271AAB9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147A-8B2A-4AC5-93DA-4EC146A2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269B-32B2-48A2-AB65-DF6327B4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1429-143D-4EBC-9C35-2D9A6417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B33-CC5D-4BCA-974E-B748F033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4A4B-7191-453F-82B6-E265B93E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BEFF-9036-4628-8885-9FF6C42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91AC-604B-44C3-9E6D-B16500C6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5A15-2831-4A90-9A7E-A6F6EFD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E6A2-084B-4180-8065-EE270316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C488-354D-4474-AF4B-06E873AB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CB09-EF69-4304-A13E-1CE5FDEF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03AD5-14B5-4ACB-AFE1-B0948229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1DA0-BCFC-4AAE-8142-9B3B60AA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43FC9-E84B-4E5A-A497-F44D9EAA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838-403D-4A24-9BB7-B2D59A9E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3520E-789F-4D9B-B658-EDEEC75D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480E-F8CB-4487-B495-B9FBCFC2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9EA4-A467-42B9-92DE-C3FE0AD7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91CB8-F775-49A7-9D78-ABB06EBD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80A79-ED90-45CC-9AF3-DFB352E0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BECB-3FD1-4F2F-BF5F-F232868B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BE7C-54E2-4429-A160-33F0C8CB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482C-E87F-49F9-AE01-E111304B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A095-F79E-499F-A91A-DB3DD8A9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4590-CFE4-46F3-AD93-086D7830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526-977F-4BDE-808A-C6B61A13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1C83-A9CC-495C-89B9-6355DF59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9FDD-C479-4D4A-9515-50D31F9E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453CA-53ED-479C-BBE3-8F25B389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584E-77B9-4026-9378-84E51713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BB66-9839-4B6C-BD12-F1D44BD7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7370-6550-40B3-82B3-9EA3BA2C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A5230-5251-44E4-B3EF-000D527A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4FCE1-DD77-4407-BFDA-68237FF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5572E-5E25-4C05-9D1E-64FEFAFA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7A9F1-CE00-4CA1-ABA0-B077C243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222-B479-4A8F-BF91-06D0796D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8A2AB-5A12-4186-9BEA-A1F581AA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7D72-40E8-4428-8FC9-3BAF787E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69F02-6D01-4D89-B807-713E6E6F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2AD3-7399-4C88-95F0-44BBB702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492D0-3D4F-4A92-B69B-2501964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D6B83-91C1-4E5A-B4BF-C47A0616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4F8CA-76AC-424D-92C2-B1C5E342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7065C-934A-46DD-8D35-B5D3357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3B9F7-5899-4914-9D82-A581916C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C1BEE-A933-4AB3-BE8F-046741A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C22-5B33-4445-8CE3-60E7906A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371D-18BA-463A-837B-2E4E0B77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1988-7070-48F0-B44D-7C06F1FF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E7BA0-9606-4603-812D-4719FF06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1912E-E1A8-4FD9-BE82-9B4E38A5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45E2-BFD3-4ADF-A031-A64D0D0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6E20A-7860-469D-9AD6-4437A784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5C23F-0835-4666-9F12-6C0AA946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F12C8-BCF0-4E04-B744-C23D5925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28326-5845-4659-9AD9-463C245E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F2E3D-AD08-4428-80EE-80F49762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611-A8F8-40DC-B727-B9C344E1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4286-3D8E-4C6E-9C1C-74C09034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23CC-29B9-480A-B118-C397949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64926-3208-4C8E-B14B-9908CB8C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D3F1D-0FDD-422B-AFDE-7AE42FA9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3B430-59D5-486F-8A31-D12D7FAA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13FFF-290C-46AE-84DA-87CACB99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D5296-BD1A-4E19-B0FC-F4256B66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81FDD-A1FF-4543-8DA4-EA9DACA8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3E487-C147-49C7-9DE7-0F2FB67D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6CDC9-0B99-4468-99F2-A003E15F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07A-9F05-498A-B766-ED473726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43033-9D22-49F8-BF92-1E0E154A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ED5F-CC63-45C6-9859-06935A3E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8C83D-FC41-471B-9413-661B06D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2435C-67AE-4495-8944-CFD550BF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9BDCF-06C1-4D9B-A9EC-0C7265CD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FD7A9-1280-439C-B988-D0209BB4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BB68E-1173-4501-9389-189AD785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B817-4B9F-40BD-9884-70E645808FD8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844B-2366-4CC0-A32D-15119878C310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0641-DB3C-4EF0-BC60-BBFDDAEC2D14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69ED-9987-41A2-9706-F88E26F25AFC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3AE2-DE1F-40F6-88FB-80021C739290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3A9C-13E8-426E-AF9B-16E050096432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FFB7-6AF9-487D-86DE-7F6F1CCFB063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7680-878A-4B0E-8482-4B0C437964F0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05FF-6940-4A7A-8A3E-BA60B074816A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BF70-9016-4335-A035-E2561193AA3B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F6F4-BDD7-4AAC-9BD3-2884BF12854E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D91C-34A2-4383-9B24-2AE908C5A981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B044-BEBB-4641-8CD6-4576A9ABB3C5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F2B6-C51C-4414-AAED-54CCC6F314FF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olný tvar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olný tvar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6F61-F673-4095-BAFC-E88F553C6173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E387-EFD0-4D21-A6FC-B3D7A0DB2E11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33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ro vlastní bezpeč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Zástupný symbol pro zápatí 4"/>
          <p:cNvSpPr/>
          <p:nvPr/>
        </p:nvSpPr>
        <p:spPr>
          <a:xfrm>
            <a:off x="611280" y="5732640"/>
            <a:ext cx="78897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Vytvořeno dne 4. 4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Zástupný symbol pro zápatí 3"/>
          <p:cNvSpPr/>
          <p:nvPr/>
        </p:nvSpPr>
        <p:spPr>
          <a:xfrm>
            <a:off x="1000080" y="5357880"/>
            <a:ext cx="67867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79280" y="1052640"/>
          <a:ext cx="8715600" cy="360504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vidla bezpečného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e zásady bezpečného využívání internetu z hlediska svobodného média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Rectangle 1"/>
          <p:cNvSpPr/>
          <p:nvPr/>
        </p:nvSpPr>
        <p:spPr>
          <a:xfrm>
            <a:off x="179280" y="6076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48104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svého bydliště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telefonní čís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školy, kam chodí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jména a adresy rodičů a rodinných příslušníků a jejich telefonní čísl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Zástupný symbol pro zápatí 4"/>
          <p:cNvSpPr/>
          <p:nvPr/>
        </p:nvSpPr>
        <p:spPr>
          <a:xfrm>
            <a:off x="121428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počítač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počítač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údaje o kreditní kartě nebo peněžním úč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Zástupný symbol pro zápatí 4"/>
          <p:cNvSpPr/>
          <p:nvPr/>
        </p:nvSpPr>
        <p:spPr>
          <a:xfrm>
            <a:off x="1071720" y="5857920"/>
            <a:ext cx="7358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domlouvej osobní schůzku s někým, s kým jsi se seznámil prostřednictvím Interne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osobní výzvy od těch, které nezná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zlé, urážlivé, nevkusné nebo hrubé e-m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Zástupný symbol pro zápatí 4"/>
          <p:cNvSpPr/>
          <p:nvPr/>
        </p:nvSpPr>
        <p:spPr>
          <a:xfrm>
            <a:off x="785880" y="5857920"/>
            <a:ext cx="7858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soubory přiložené k e-mailům, pokud přijdou z míst, které nezná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webové stránky, které jsou určené jen pro dospě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Zástupný symbol pro zápatí 4"/>
          <p:cNvSpPr/>
          <p:nvPr/>
        </p:nvSpPr>
        <p:spPr>
          <a:xfrm>
            <a:off x="135720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Sociální sítě: Lidé.cz, Líbímseti at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ich osobních údaj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eho osobního denního program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vystavování osobních fotografií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navazování kontakt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Nadpis 2" descr=""/>
          <p:cNvPicPr/>
          <p:nvPr/>
        </p:nvPicPr>
        <p:blipFill>
          <a:blip r:embed="rId1"/>
          <a:stretch/>
        </p:blipFill>
        <p:spPr>
          <a:xfrm>
            <a:off x="195120" y="158760"/>
            <a:ext cx="8723520" cy="1494000"/>
          </a:xfrm>
          <a:prstGeom prst="rect">
            <a:avLst/>
          </a:prstGeom>
          <a:ln w="0">
            <a:noFill/>
          </a:ln>
        </p:spPr>
      </p:pic>
      <p:sp>
        <p:nvSpPr>
          <p:cNvPr id="398" name="Zástupný symbol pro zápatí 4"/>
          <p:cNvSpPr/>
          <p:nvPr/>
        </p:nvSpPr>
        <p:spPr>
          <a:xfrm>
            <a:off x="1285920" y="5857920"/>
            <a:ext cx="7143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23:00:14Z</dcterms:created>
  <dc:creator>ZS Kadan</dc:creator>
  <dc:description/>
  <dc:language>en-US</dc:language>
  <cp:lastModifiedBy>martina</cp:lastModifiedBy>
  <dcterms:modified xsi:type="dcterms:W3CDTF">2013-08-22T15:08:27Z</dcterms:modified>
  <cp:revision>14</cp:revision>
  <dc:subject/>
  <dc:title>Pravidla bezpečného internetu</dc:title>
</cp:coreProperties>
</file>