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9D9-D941-4058-A956-90ECD9F588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6918-0AC5-4D85-A0C9-35C51C6BAA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386-7200-43A0-A11F-55F0421A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784-2C64-4A43-9D8D-885982B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7B9-1DDA-46AB-B539-00B33E0A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066-4A9B-426C-BD08-E860D005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C3E9-58E3-48CD-82E9-59B5AFA7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4736-366B-4438-9156-32F22788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FB18-727A-42B9-9328-AF59F0E4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B144-C7D9-4615-A4AB-56A7EA0B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C949-B059-4439-8360-EDAA1D1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2889-EC41-45A1-AB35-16A70F27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0A14-836D-4C74-AD29-456A9336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C32-53C0-468E-A793-6089E421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0F21-E7BF-4948-B74B-F3BDBE1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AE9-D4D0-41FF-91E2-7A892DC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FA63-F45B-4896-BC71-8AAD16D8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E13-86FB-4045-850A-2092C534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2002-2690-4BB0-936A-29D68A07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742-256D-4F16-86A2-50CD134B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D14-799D-41B0-B6EC-E09C3A44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86C-7923-45AA-BE5C-D6A2F454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E05-3D5C-4307-A5C8-7A9197A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771-E9FC-4397-BB12-7B1B189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A99-E100-426C-A0B6-8AFFB49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5AB-490E-4191-B331-FA47E4F6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4CB5-15B4-47EE-82A8-54AC30A7D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CECC-953D-4D6B-AB46-6EB4219345C0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vskadan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571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Základní prvky internetového prohlížeč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Google Ch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ozi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Zástupný symbol pro zápatí 6"/>
          <p:cNvSpPr/>
          <p:nvPr/>
        </p:nvSpPr>
        <p:spPr>
          <a:xfrm>
            <a:off x="1000080" y="6165720"/>
            <a:ext cx="7286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Nový začátek (New start) CZ.1.07/1.4.00/21.1409 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3"/>
          <p:cNvSpPr/>
          <p:nvPr/>
        </p:nvSpPr>
        <p:spPr>
          <a:xfrm>
            <a:off x="571680" y="5877000"/>
            <a:ext cx="8143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Vytvořeno dne 25. 2. 2012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2133720"/>
          <a:ext cx="8712360" cy="3321000"/>
        </p:xfrm>
        <a:graphic>
          <a:graphicData uri="http://schemas.openxmlformats.org/drawingml/2006/table">
            <a:tbl>
              <a:tblPr/>
              <a:tblGrid>
                <a:gridCol w="3370320"/>
                <a:gridCol w="534204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kladní prvky internetového prohlížeč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prací s internetovým prohlížečem. Žáci se seznámí s jeho základními prvk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1332000" y="12754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a Zpět a Vpř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785600"/>
            <a:ext cx="84297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vrátí na předchoz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posune na následujíc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ždým kliknutí na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ebo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se posuneme o strán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dle tlačíte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je symbol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malé šipky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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po kliknutí na ni se nám zobrazí nabídka všech navštívených strán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kurzorové klávesy vlevo a vpravo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listování stránek přes klávesnici)</a:t>
            </a:r>
            <a:r>
              <a:rPr b="1" lang="cs-CZ" sz="20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Zástupný symbol pro zápatí 6"/>
          <p:cNvSpPr/>
          <p:nvPr/>
        </p:nvSpPr>
        <p:spPr>
          <a:xfrm>
            <a:off x="1071720" y="6400800"/>
            <a:ext cx="735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anel ad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3880" y="185724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o tohoto okénka zapisujeme webové adre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dresa se skládá z několika slov oddělených tečkami a je psána bez mezer, čárek a háčk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např.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zvskadan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dnotlivé webové stránky obsahují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hypertextové odkaz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které odkazují na další webové stránky a poznáme je změnou kurzoru myš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Esc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pozastavení načítání stránky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Zástupný symbol pro zápatí 6"/>
          <p:cNvSpPr/>
          <p:nvPr/>
        </p:nvSpPr>
        <p:spPr>
          <a:xfrm>
            <a:off x="1000080" y="6243480"/>
            <a:ext cx="75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o Aktualizovat a Oblíbené položky, 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4240" y="1785960"/>
            <a:ext cx="8429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Aktualiza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↓↑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ačte na dlouhodobě otevřené stránce aktuální data a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zobrazí stránku znov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F5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aktualizace otevřené stránky přes klávesnici)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kazují na často navštěvované stránky, které si zařadíme kliknutím na polož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Přidat oblíbenou polož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Histori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ajdeme v záložc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umožňuje najít navštívené stránky v minu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071720" y="6243480"/>
            <a:ext cx="792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715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Domů</a:t>
            </a:r>
            <a:br>
              <a:rPr sz="4400"/>
            </a:b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4240" y="18572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ů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m znovu načte „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ou stránk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“ = (stránku výchoz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yvolání nabídky domů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vedeme v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lavní nabíd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kliknutím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stroj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Možnosti internet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v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dialogovém okně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 záložko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ecn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píšeme požadovanou internetovou adresu do políčk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á stránk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tvrdíme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214280" y="6243480"/>
            <a:ext cx="76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Tis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slouží pro vytištění aktuální webové strán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liknutím na </a:t>
            </a:r>
            <a:r>
              <a:rPr b="1" i="1" lang="cs-CZ" sz="2800" spc="-1" strike="noStrike">
                <a:solidFill>
                  <a:srgbClr val="333399"/>
                </a:solidFill>
                <a:latin typeface="Tahoma"/>
              </a:rPr>
              <a:t>symbol malé šip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dle vyvoláme nabíd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hl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stránku před tiskem zkontroluj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Zástupný symbol pro zápatí 3"/>
          <p:cNvSpPr/>
          <p:nvPr/>
        </p:nvSpPr>
        <p:spPr>
          <a:xfrm>
            <a:off x="928800" y="6243480"/>
            <a:ext cx="785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Internetové vyhledáva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4240" y="19288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ělíme je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fultextov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 fultext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edáme informaci zadáním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klíčového slov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do okénka vyhledávače a zvolíme podobu výsledku hledání (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tex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obráze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td.)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Google.cz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sou odkazy řazeny přehledně pod jednotlivými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esl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stupně se přes ně proklikáme k požadované informaci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Seznam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143000" y="6243480"/>
            <a:ext cx="77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Ukládání dat z interne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960" y="185688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celé strán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Úplná 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stránky bez obrázků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14300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8:31:33Z</dcterms:created>
  <dc:creator>Server</dc:creator>
  <dc:description/>
  <dc:language>en-US</dc:language>
  <cp:lastModifiedBy>martina</cp:lastModifiedBy>
  <dcterms:modified xsi:type="dcterms:W3CDTF">2013-08-22T15:06:35Z</dcterms:modified>
  <cp:revision>29</cp:revision>
  <dc:subject/>
  <dc:title>Základní prvky prohlížeče</dc:title>
</cp:coreProperties>
</file>