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8E3-F95B-42D6-B078-2CBB93C62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83E1-8B04-4014-AFAD-8DF95E050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BC0-DEF4-49B1-8D74-749EA6AE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17B-B956-4773-8367-DAB30CE7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C15-2D62-48BA-95D3-9C17C3A6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58F-9F5A-4699-8FAF-D9576BC6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5A64-B913-4E55-84B7-4A04F9DB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4161-101A-40E3-AC1C-3515FCEA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1B4-F8BA-44AD-8C6B-4A300F8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62AF-5983-497F-9A29-2C4E50AA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7F11-02A1-46B2-AE20-0247465D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F399-0F8B-4D1C-AF75-BBAF8AA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DB12-92C9-4807-9D29-84A21669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BF4-4424-49E8-952A-1B669D9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E28A-798E-47AB-840F-9612088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2ACF-DB61-483D-B5EB-3F94733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1026-7C56-4B94-8660-B147A250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80C8-9031-44EF-AD40-043A6648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0E25-1820-4369-AAD9-E66B8BC7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54F-AB5F-4817-BE27-9A3D1810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AD2-731F-4788-A167-ECCFADE9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9A6-748F-47D6-A198-CB2F5744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81E-E2E2-4F07-83F2-AE9A31DB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74B-C67F-4AEB-A7CF-90392D9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429-02C5-44C2-81F5-DE6E8ED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A69-7AA0-4380-9525-E54B8CB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9F22-36CA-4C78-87E7-4BA3AE2641C3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10FB-9356-48EF-B892-90BED745BEF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3EC-2F13-4318-B118-FAD5CBC33906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99AF-984C-4F57-AF50-6F29DEDF612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006666"/>
                </a:solidFill>
                <a:latin typeface="Arial"/>
              </a:rPr>
              <a:t>Internet</a:t>
            </a:r>
            <a:endParaRPr b="0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04560" y="2776320"/>
            <a:ext cx="569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Svobodné mé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Zástupný symbol pro zápatí 3"/>
          <p:cNvSpPr/>
          <p:nvPr/>
        </p:nvSpPr>
        <p:spPr>
          <a:xfrm>
            <a:off x="0" y="5780160"/>
            <a:ext cx="914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3"/>
          <p:cNvSpPr/>
          <p:nvPr/>
        </p:nvSpPr>
        <p:spPr>
          <a:xfrm>
            <a:off x="250920" y="5732640"/>
            <a:ext cx="86421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052640"/>
          <a:ext cx="8715600" cy="412416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internetem z hlediska svobodného média a jeho významem pro dnešní dobu. Žáci se seznámí s jeho historií, službami, které poskytuje a způsoby připojení k něm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79280" y="534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Co je to Intern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pojené počítačové sítě celého světa, které mají za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cíl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ci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a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enos dat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zi jednotlivými počítač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ý připojený počítač má sv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IP adre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92.168.0.1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92.243.202.14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Zástupný symbol pro zápatí 3"/>
          <p:cNvSpPr/>
          <p:nvPr/>
        </p:nvSpPr>
        <p:spPr>
          <a:xfrm>
            <a:off x="611280" y="59292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Hist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052640"/>
            <a:ext cx="801396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60. – 70. léta: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ARPA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periment, cca 50 počítačů v sí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80. léta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pojeno cca 1 000 počítač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1987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ojem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síti připojeno asi 30 000 počítač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90. léta: Internet se stává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erční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hlížeče, v síti cca 50 milion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00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50 milionů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10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řes 2 miliardy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250920" y="6237360"/>
            <a:ext cx="8642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686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luž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9640" y="691920"/>
            <a:ext cx="775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www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webové stránky (protokol http, http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e-mail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lektronická poš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FTP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nos souborů (Total Command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č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elefon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k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nline komunikace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ICQ, Messenger, Face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ciální sítě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facebook, Twi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dílení soubor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řipoj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052640"/>
            <a:ext cx="783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ostředkovatel připojení je provi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ychlost v bitech za sekundu (b/s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b/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OZOR!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1 byte = 8 bit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istuje několik různých způsobů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ipojen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telefonní – ADS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kabelovou televiz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Wi-Fi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      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obilním telefone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Zástupný symbol pro zápatí 3"/>
          <p:cNvSpPr/>
          <p:nvPr/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ile:Routing.gif"/>
          <p:cNvPicPr/>
          <p:nvPr/>
        </p:nvPicPr>
        <p:blipFill>
          <a:blip r:embed="rId2"/>
          <a:stretch/>
        </p:blipFill>
        <p:spPr>
          <a:xfrm>
            <a:off x="6572160" y="3571920"/>
            <a:ext cx="2089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bový prohlížeč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1773360"/>
            <a:ext cx="731376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rogram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umožňující prohlížení www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í číst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http://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Google Chro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Mozil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Saf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Zástupný symbol pro zápatí 3"/>
          <p:cNvSpPr/>
          <p:nvPr/>
        </p:nvSpPr>
        <p:spPr>
          <a:xfrm>
            <a:off x="0" y="6143760"/>
            <a:ext cx="88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ové zdroje obrázků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920" y="1599840"/>
            <a:ext cx="8102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uveřejněné odkazy [cit. 2012-02-24] dostupné pod licencí Creative Commons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wikimedia.or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rnet. připojení -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Routing.gi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íťová karta - </a:t>
            </a:r>
            <a:r>
              <a:rPr b="0" i="1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Ethernet_pci_card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Zástupný symbol pro zápatí 3"/>
          <p:cNvSpPr/>
          <p:nvPr/>
        </p:nvSpPr>
        <p:spPr>
          <a:xfrm>
            <a:off x="179280" y="585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4:24:17Z</dcterms:created>
  <dc:creator>ZS Kadan</dc:creator>
  <dc:description/>
  <dc:language>en-US</dc:language>
  <cp:lastModifiedBy>martina</cp:lastModifiedBy>
  <dcterms:modified xsi:type="dcterms:W3CDTF">2013-08-22T15:06:08Z</dcterms:modified>
  <cp:revision>21</cp:revision>
  <dc:subject/>
  <dc:title>Snímek 1</dc:title>
</cp:coreProperties>
</file>