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18D4-435F-4858-A561-7249FEA537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5E3F-FE37-4271-9F18-AA155F5E91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701-88AD-42F0-86B2-0682F642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495-8FBB-4770-AD89-56A58CED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891-16A8-4AFA-B18C-B65C26E4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1CD-FE0E-40D6-89A1-F9CE475D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875-66EA-4927-B07A-17BD90F5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9D0-F861-4A73-961E-5A3DE722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559-6446-4FC0-9134-4E013FFB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AD8-06C9-4038-BB38-E9ED30E2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1DD-8D89-4900-8403-1A70606E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F40-AF8A-46D6-B868-B154F3D4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48F-8749-476B-8E18-60A73D26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787-9A13-44AF-B76A-3943835E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17.12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Vytvořeno dne:  Nový začátek (New start) CZ.1.07/1.4.00/21.1409 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0E48-FB92-42F2-8EEA-310C6264EF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pro zápatí 3"/>
          <p:cNvSpPr/>
          <p:nvPr/>
        </p:nvSpPr>
        <p:spPr>
          <a:xfrm>
            <a:off x="857160" y="5072040"/>
            <a:ext cx="72439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1000080" y="200016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icrosoft Office Word 2003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Vkládání klipartu a obrázk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Klipart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 obrázek vytvořený v programu Word, který můžeme vložit do tex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Obrázek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lipart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po straně se otevře nabídka,  kde vybereme vhodný klipa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Obrázek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e souboru uloženém v počítači vybereme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dobným způsobem.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Obrázek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Ze soubor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obráz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 s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obrázky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oblastmi hledání daného soubor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kde vybereme vhodný obráze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zápatí 3"/>
          <p:cNvSpPr/>
          <p:nvPr/>
        </p:nvSpPr>
        <p:spPr>
          <a:xfrm>
            <a:off x="857160" y="635652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Zásady psaní textu ve Word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760" y="10000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ěžný text píšeme velikostí 10 nebo 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 nadpisy nepíšeme tečk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můžeme je zvětšit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 každou tečkou, čárkou, dvojtečkou píšeme meze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zvýraznění důležité části textu použijem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urzív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eb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učné pís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ed každou úpravou textu musíme text označ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zápatí 3"/>
          <p:cNvSpPr/>
          <p:nvPr/>
        </p:nvSpPr>
        <p:spPr>
          <a:xfrm>
            <a:off x="857160" y="5929200"/>
            <a:ext cx="77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ástupný symbol pro zápatí 3"/>
          <p:cNvSpPr/>
          <p:nvPr/>
        </p:nvSpPr>
        <p:spPr>
          <a:xfrm>
            <a:off x="857160" y="5929200"/>
            <a:ext cx="7572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71680" y="714240"/>
          <a:ext cx="8001000" cy="4970520"/>
        </p:xfrm>
        <a:graphic>
          <a:graphicData uri="http://schemas.openxmlformats.org/drawingml/2006/table">
            <a:tbl>
              <a:tblPr/>
              <a:tblGrid>
                <a:gridCol w="3095280"/>
                <a:gridCol w="490572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crosoft Office Word 2003 - Cesta k základním úprav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zentace je zaměřena na úpravy textu v textovém editoru Microsoft Office Word 2003. Žáci se zde postupně seznámí např. s formátováním písma, změnou jeho typu, barvy a velikosti, vložením klipartu nebo obrázku do text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F - ovládat základy psaní na klávesnici, na uživatelské úrovni práci s textovým editorem, využívat vhodné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1"/>
          <p:cNvSpPr/>
          <p:nvPr/>
        </p:nvSpPr>
        <p:spPr>
          <a:xfrm>
            <a:off x="642960" y="37476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č.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Cesta k základním úpravám</a:t>
            </a:r>
            <a:br>
              <a:rPr sz="3600"/>
            </a:br>
            <a:r>
              <a:rPr b="0" lang="cs-CZ" sz="3600" spc="-1" strike="noStrike">
                <a:solidFill>
                  <a:srgbClr val="bfbfbf"/>
                </a:solidFill>
                <a:latin typeface="Calibri"/>
              </a:rPr>
              <a:t>výkla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14320"/>
            <a:ext cx="70005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Microsoft Office Word 2003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je program, který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mí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zpracovávat text; mj. v něm lze do dokumentů vkládat obrázky, tabulky a grafy  pomocí </a:t>
            </a: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. V kreslení lze vytvářet jednoduché grafické útvary. Microsoft Word jednoznačně dominuje a formát souborů s příponou </a:t>
            </a:r>
            <a:r>
              <a:rPr b="1" i="1" lang="cs-CZ" sz="3100" spc="-1" strike="noStrike">
                <a:solidFill>
                  <a:srgbClr val="000000"/>
                </a:solidFill>
                <a:latin typeface="Calibri"/>
              </a:rPr>
              <a:t>.doc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se stal standardem, který musí podporovat i konkurenční programy, pokud chtějí uspě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714240" y="5929200"/>
            <a:ext cx="7643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Označení textu pomocí myš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42884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vojklike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slovo ho označí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yši do textu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žen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osunuje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ojitým kliknutím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íme celý odstavec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 př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čátkem jej celý označí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ý text můžeme označi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žen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yš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ástupný symbol pro zápatí 4"/>
          <p:cNvSpPr/>
          <p:nvPr/>
        </p:nvSpPr>
        <p:spPr>
          <a:xfrm>
            <a:off x="1071720" y="5857920"/>
            <a:ext cx="700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Psaní speciálních znak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 klávesnici nenajdeme všechny znaky, které máme k dispoz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napsání speciálních znaků do textu nám slouž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loži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ymbol → zobrazí se dialogové okno → vybere se symbol a potvrdí s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ovem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vlož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1357200" y="5857920"/>
            <a:ext cx="7072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Typ písma a velikost pís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značíme část text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budeme upravov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yber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yp písm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mají své názvy – </a:t>
            </a:r>
            <a:r>
              <a:rPr b="0" i="1" lang="cs-CZ" sz="3200" spc="-1" strike="noStrike">
                <a:solidFill>
                  <a:srgbClr val="ff0000"/>
                </a:solidFill>
                <a:latin typeface="Calibri"/>
              </a:rPr>
              <a:t>Ariel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3200" spc="-1" strike="noStrike">
                <a:solidFill>
                  <a:srgbClr val="ff0000"/>
                </a:solidFill>
                <a:latin typeface="Calibri"/>
              </a:rPr>
              <a:t>Times New Roma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em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ikonu –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elikost písm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vyber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stli se nám nehodí žádná z nabízených velikostí, napíš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 políč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lastní číslo.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ástupný symbol pro zápatí 3"/>
          <p:cNvSpPr/>
          <p:nvPr/>
        </p:nvSpPr>
        <p:spPr>
          <a:xfrm>
            <a:off x="1214280" y="5929200"/>
            <a:ext cx="7215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Barva písma a zvýraznění tex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arvu označeného napsaného textu nastaví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kon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arva písma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jeví se se nám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leta bar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ze které si vybereme požadovanou barv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ený text můžeme zvýraznit kliknutím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kon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výraznění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jeví se se nám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leta bar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ze které si vybereme požadovanou barv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ástupný symbol pro zápatí 3"/>
          <p:cNvSpPr/>
          <p:nvPr/>
        </p:nvSpPr>
        <p:spPr>
          <a:xfrm>
            <a:off x="1071720" y="5857920"/>
            <a:ext cx="7358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Formátování odstavc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ený text můž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ormátovat tlačítky pro formátování odstavc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é najdeme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deme provádět tyt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prav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rovnání text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levo, na střed, vpravo, do blok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ádkování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dsazení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y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zápatí 3"/>
          <p:cNvSpPr/>
          <p:nvPr/>
        </p:nvSpPr>
        <p:spPr>
          <a:xfrm>
            <a:off x="714240" y="5786280"/>
            <a:ext cx="7643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Tvorba tabulky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abulka slouží pro přehledné uspořádání da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a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Tabulka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tabulk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arametry tabulky: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elkost tabulky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očet sloupců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očet řádků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astnosti automatického přizpůsobe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evná šířka sloupce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řizpůsobit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obsah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řizpůsobit okn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a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Navrhnout tabulk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y a ohraniče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astavením parametrů tabulk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zápatí 3"/>
          <p:cNvSpPr/>
          <p:nvPr/>
        </p:nvSpPr>
        <p:spPr>
          <a:xfrm>
            <a:off x="1000080" y="6357960"/>
            <a:ext cx="75009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16:25Z</dcterms:created>
  <dc:creator>ZS Kadan</dc:creator>
  <dc:description/>
  <dc:language>en-US</dc:language>
  <cp:lastModifiedBy>martina</cp:lastModifiedBy>
  <dcterms:modified xsi:type="dcterms:W3CDTF">2013-08-22T15:00:36Z</dcterms:modified>
  <cp:revision>30</cp:revision>
  <dc:subject/>
  <dc:title>Microsoft Office Word 2003  Cesta k základním úpravám</dc:title>
</cp:coreProperties>
</file>