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FF8-51E1-4168-8938-099A7E498A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C536-AC13-42F6-9A1F-9E18A63C96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CEE-C50D-40A1-8838-3233CC07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ED3-8FE8-4981-8854-2C3DE16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C98-03F6-4415-BEC4-7173DD1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F00-D3EF-40B1-9C30-A30A51E3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67E-13F9-46FA-9A39-D0AFA7C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E9C-1B98-4E53-9396-8494370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B3D-6FE0-4472-BBE1-67ECDCB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6BB-A275-4AD8-91F6-5C8B7D2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F93-A859-42F5-AE96-3F457FE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A1D-98A1-487F-8EC1-A7344FB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20D-7CD2-4E9C-8D89-40DDFDB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2FD-6741-4787-BF9D-32CF695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2E9-AAF4-44C1-8D85-FB5ECA8A9442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9AB-256D-4A72-B614-E891F49A403C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Oprava chybné prezentace</a:t>
            </a: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Úkol: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pravte chyby ve vytvořené prezentac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5877000"/>
            <a:ext cx="7715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Vytvořeno dne  8. 2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6500880" y="2786040"/>
            <a:ext cx="115236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Spravce\Dokumenty\Kliparty\Kliparty_3\WMF\Prilezitosti\eve00011.wmf"/>
          <p:cNvPicPr/>
          <p:nvPr/>
        </p:nvPicPr>
        <p:blipFill>
          <a:blip r:embed="rId4"/>
          <a:stretch/>
        </p:blipFill>
        <p:spPr>
          <a:xfrm>
            <a:off x="1285920" y="314316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Documents and Settings\Spravce\Dokumenty\Kliparty\Kliparty_3\WMF\Prilezitosti\eve80005.wmf"/>
          <p:cNvPicPr/>
          <p:nvPr/>
        </p:nvPicPr>
        <p:blipFill>
          <a:blip r:embed="rId5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Documents and Settings\Spravce\Dokumenty\Kliparty\Kliparty_3\WMF\Prilezitosti\eve80006.wmf"/>
          <p:cNvPicPr/>
          <p:nvPr/>
        </p:nvPicPr>
        <p:blipFill>
          <a:blip r:embed="rId6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9"/>
          <p:cNvSpPr/>
          <p:nvPr/>
        </p:nvSpPr>
        <p:spPr>
          <a:xfrm>
            <a:off x="2357280" y="2071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Něco o Vánocích 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svátky klidu a míru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ípravu na Vánoce představuje advent, období čtyř týdnů před Vánoc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08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 .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věnec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Je mladým a velm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8072280" y="585792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4071960" y="442908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 Anglii se Vánoce slaví 25. prosince ráno. Dárky nosí Santa Claus, který chodí komínem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29" name="Zástupný symbol pro zápatí 6"/>
          <p:cNvSpPr/>
          <p:nvPr/>
        </p:nvSpPr>
        <p:spPr>
          <a:xfrm>
            <a:off x="857160" y="6308640"/>
            <a:ext cx="7643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3"/>
          <p:cNvSpPr/>
          <p:nvPr/>
        </p:nvSpPr>
        <p:spPr>
          <a:xfrm>
            <a:off x="1785960" y="592920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prava chybné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áci sami pracují na jednotlivých úpravách prezentace v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za pomoci panelu nástrojů. Součástí prezentace je i správné řeše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ovn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kti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68360" y="480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4786200" y="3429000"/>
            <a:ext cx="1152720" cy="20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9"/>
          <p:cNvSpPr/>
          <p:nvPr/>
        </p:nvSpPr>
        <p:spPr>
          <a:xfrm>
            <a:off x="2357280" y="207180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Spravce\Dokumenty\Kliparty\Kliparty_3\WMF\Prilezitosti\eve00011.wmf"/>
          <p:cNvPicPr/>
          <p:nvPr/>
        </p:nvPicPr>
        <p:blipFill>
          <a:blip r:embed="rId6"/>
          <a:stretch/>
        </p:blipFill>
        <p:spPr>
          <a:xfrm>
            <a:off x="3286080" y="2428920"/>
            <a:ext cx="1254240" cy="156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Něco o Vánocích </a:t>
            </a: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Agency FB"/>
              </a:rPr>
              <a:t>Vánoce jsou svátky klidu a mí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merican Text AT"/>
              </a:rPr>
              <a:t>Přípravu na Vánoce představuje advent, období čtyř týdnů před Váno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7375e"/>
                </a:solidFill>
                <a:uFillTx/>
                <a:latin typeface="Calibri"/>
              </a:rPr>
              <a:t>Adventní věnec</a:t>
            </a:r>
            <a:r>
              <a:rPr b="1" lang="cs-CZ" sz="18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Je mladým a velmi</a:t>
            </a: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3995640" y="270828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c000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</a:t>
            </a:r>
            <a:r>
              <a:rPr b="0" i="1" lang="cs-CZ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900000" y="1268280"/>
            <a:ext cx="3935520" cy="492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000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c00000"/>
                </a:solidFill>
                <a:uFillTx/>
                <a:latin typeface="Agency FB"/>
              </a:rPr>
              <a:t>V Anglii se Vánoce slaví 25. prosince ráno. Dárky nosí Santa Claus, který chodí komín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zápatí 6"/>
          <p:cNvSpPr/>
          <p:nvPr/>
        </p:nvSpPr>
        <p:spPr>
          <a:xfrm>
            <a:off x="857160" y="621504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Zdroje obráz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Všechny uveřejněné odkazy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[cit. 2012-0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08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] dostupné pod licencí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droje obrázků:  jmelí - [eve_00011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voneček - [eve_80005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lucerna - [eve_80006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rskavka - [eve_0003]. Dostupný pod licencí office. microsoft.com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stromeček - [eve_0007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kometa - [eve_2010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patí 4"/>
          <p:cNvSpPr/>
          <p:nvPr/>
        </p:nvSpPr>
        <p:spPr>
          <a:xfrm>
            <a:off x="428760" y="6356520"/>
            <a:ext cx="835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5:29Z</dcterms:created>
  <dc:creator>Lucie Dlouhá</dc:creator>
  <dc:description/>
  <dc:language>en-US</dc:language>
  <cp:lastModifiedBy>martina</cp:lastModifiedBy>
  <dcterms:modified xsi:type="dcterms:W3CDTF">2013-08-22T15:05:32Z</dcterms:modified>
  <cp:revision>79</cp:revision>
  <dc:subject/>
  <dc:title>Vánoční zvyky</dc:title>
</cp:coreProperties>
</file>