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E88C-1644-4945-86CD-DEB56DB52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6059-5ADF-4A17-9672-4C0EC502E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482-7AC0-4FD3-9F70-26BC8A96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9E7-0E08-4FD5-A4A9-DF8E2E74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2535-1BA0-47C3-BF56-CEB4B3C8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D0C-0F0C-4318-A8F1-3D1B3150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5CA9-E210-46C7-BD20-1759F341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C481-DE4B-4BA7-8A75-1D5417CE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4EC3-41AC-4096-B17A-2D663E75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45B6-CC35-44F1-9BD5-13797F68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9425-D937-4D43-8E52-9B140B16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E8E3-0A68-4CBD-ACBE-BF59C5D6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A1F3-BD67-4195-BD93-94279C58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B3D9-8465-4CBB-8E73-D9D475AA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E6CB-99C9-4878-92B2-A087ECD1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C29E-7394-4A2D-8BDE-2A62E05D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0555-EC5C-4BDB-BD99-2C2A2D6A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36DB-64D3-46E7-A7A7-59FC49E1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7E83-09BF-41F7-95F1-AAF2B653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98ED0-537B-472A-B473-5A7B218A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B0ADE-A6CE-4E85-9548-2ED4C0F1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01778-9BBB-49A4-BB86-8C5D19EC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B3129-EA52-4EDD-9D92-3C918F78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40F58-D4C0-4F0B-A46E-25D9B931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E0DC-E40E-42E5-8C3A-78DE2C65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3FC3F-3AE8-43BE-A24F-6A42FBBA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2EE76-CA85-4417-B427-3DD3DD39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1BD66-9BA3-402C-A7D5-B47113BB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DFD9B-1934-41C6-BEC9-0EADE0F2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63312-39CB-4A2B-90BC-16C98C13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8666B-1978-401C-A218-E4D39CB4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504A8-995F-42B0-B01E-3DFF429F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54776-F973-483B-8AF1-4C415FA1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0B352-21E7-4C6C-A22B-A2A06C8D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70AB3-646F-4904-9E52-4AA79B7E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EA04-5C3A-4728-BB58-9115A240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5EEEB-97E5-4B03-A668-877F6740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CD32F-57E0-47AB-BBE4-2F300875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00346-932B-4B93-84FA-9D0792A2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8A608-49CE-46A5-9DB3-F0A48D88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55002-2140-4F53-8CBF-F3914518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6AC45-DF1A-43BA-A9FB-97E0F379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D1308-D8AF-4E9D-82BD-46B26455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4ABCB-B96D-41B5-A091-989F0750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8FA68-BF8A-4012-B001-1A8911CE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BC726-1A44-4D22-B2E6-07F33B81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A543-DE41-4B67-B646-9C3327E8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15E48-82DD-418A-8277-1E7EB83D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2BEA4-8837-4BAB-B55C-B5C82111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FD035-6EB8-4F83-A87E-6157EA29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84A39-31F1-47BF-9672-BDE55FAC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A7151-41D5-4F23-8D26-E1F0CB3C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FF8C6-0306-4109-97A0-7374C54B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C6D1F-327D-4CC0-92C4-4938B2D5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0BA2C-BCDA-4410-9655-36C7F6C1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BC6A5-00BA-4FB9-802A-221D3B7B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0A34F-BE86-483D-9F53-5487E36D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D425-9590-4B5B-B2E9-2B7698C4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8B108-71F7-489F-B16D-23519025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60855-5CE0-44DD-893C-329467D7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01255-BDA5-4CC7-91B5-8620E070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D2203-5A2A-4A73-8A21-B9A2CB36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E59E3-C2E8-48B1-AF6C-F9750B88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48EEA-9E48-480B-920A-84765934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8EAB3-C5E4-4F04-9BD7-0D55ADEE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33D51-DAF4-455C-B0E3-4B3325D6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F7400-6400-4579-A3C6-69CA834F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D6772-2A87-4290-9828-61B1A585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488-1D8F-407E-BFAA-61F5C6FB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D8688-715A-4B4B-81C4-B44A05AA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7F072-155E-4401-BF67-95A3B9D6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DE526-A48C-4991-84E5-49DD8EB4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B507C-B7BD-449A-B23D-22E62207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4F331-4D2A-47D7-AA35-21F521E2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368DD-1C29-4CF4-8AF7-B30D00B7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5A674-E2C5-40FB-AEF5-2D6B2674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9E400-A332-4ACE-B081-DEE47182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F4B61-2BDB-4AF6-B5C6-B69F8979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FA12C-F926-43C9-9AF3-28F727A8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C95-553D-46DA-8359-D0B0E614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B2CEF-6FF5-49EA-9984-B7AE81DB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F687E-9A9C-4794-B4BC-990EC2A3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4C6D0-8E81-43A2-A6CE-38F3E5AE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D451D-5EF6-400A-94C5-6DDFE43D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480A6-47AC-462E-88D5-81878BA1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DC2F-9B25-405D-AF22-CCCC668E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ýseč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stenec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Prstenec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Obdélní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3023-0084-4878-98C2-74B2CD9A1551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9813-0E47-4DB5-B9B0-CD272FD7A33E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Obdélní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Výseč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rstenec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Prstenec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Obdélní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délní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EB34-FDEC-46C7-9FCC-D73941263275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0F07-3897-4034-9131-592F1B412DEA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BC8B-6390-402D-982F-5EBDEB3BB037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BE64-8731-4011-AA2C-7422D7EA1021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5F1C-2B5A-4C07-BCBB-80BF5A647EAE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7D91-56EE-498C-960C-F9A3CFBBB46F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Obdélní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délní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B265-ADEA-4864-BB58-6BAC48739123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8BD8-9220-41DF-9F00-98E40B9B8286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EDAC-1333-47F1-8DB9-1F009DE18D14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D0A6-E945-444D-92D8-C06A91DBD654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bdélník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Obdélník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Vývojový diagram: postup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Vývojový diagram: postup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6BFC-D907-408A-AE7C-51130771FF81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9902-4774-4CEE-9B8C-EE5EC32AE9CB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1" lang="cs-CZ" sz="6000" spc="-1" strike="noStrike">
                <a:solidFill>
                  <a:srgbClr val="4f271c"/>
                </a:solidFill>
                <a:latin typeface="Gill Sans MT"/>
              </a:rPr>
              <a:t>MS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6000" spc="-1" strike="noStrike">
                <a:solidFill>
                  <a:srgbClr val="4f271c"/>
                </a:solidFill>
                <a:latin typeface="Gill Sans MT"/>
              </a:rPr>
              <a:t>PowerPoint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2003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891a7"/>
                </a:solidFill>
                <a:latin typeface="Gill Sans MT"/>
              </a:rPr>
              <a:t>postup tvorby prezenta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Zástupný symbol pro zápatí 4"/>
          <p:cNvSpPr/>
          <p:nvPr/>
        </p:nvSpPr>
        <p:spPr>
          <a:xfrm>
            <a:off x="1332000" y="5734080"/>
            <a:ext cx="72784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1"/>
          <a:stretch/>
        </p:blipFill>
        <p:spPr>
          <a:xfrm>
            <a:off x="2340000" y="328464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8)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Spuštění prezentace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332000" y="1447560"/>
            <a:ext cx="7602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Hotovou prezentaci spustíme nabídkou</a:t>
            </a:r>
            <a:r>
              <a:rPr b="0" lang="cs-CZ" sz="41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1" lang="cs-CZ" sz="4100" spc="-1" strike="noStrike">
                <a:solidFill>
                  <a:srgbClr val="3891a7"/>
                </a:solidFill>
                <a:latin typeface="Gill Sans MT"/>
              </a:rPr>
              <a:t>Prezentace – Spustit prezentaci </a:t>
            </a: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s možností (</a:t>
            </a:r>
            <a:r>
              <a:rPr b="0" lang="cs-CZ" sz="4100" spc="-1" strike="noStrike">
                <a:solidFill>
                  <a:srgbClr val="3891a7"/>
                </a:solidFill>
                <a:latin typeface="Gill Sans MT"/>
              </a:rPr>
              <a:t>Od začátku</a:t>
            </a: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, </a:t>
            </a:r>
            <a:r>
              <a:rPr b="0" lang="cs-CZ" sz="4100" spc="-1" strike="noStrike">
                <a:solidFill>
                  <a:srgbClr val="3891a7"/>
                </a:solidFill>
                <a:latin typeface="Gill Sans MT"/>
              </a:rPr>
              <a:t>Z aktuálního snímku</a:t>
            </a: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 …)</a:t>
            </a:r>
            <a:r>
              <a:rPr b="1" lang="cs-CZ" sz="4100" spc="-1" strike="noStrike">
                <a:solidFill>
                  <a:srgbClr val="3891a7"/>
                </a:solidFill>
                <a:latin typeface="Gill Sans MT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100" spc="-1" strike="noStrike">
                <a:solidFill>
                  <a:srgbClr val="3891a7"/>
                </a:solidFill>
                <a:latin typeface="Gill Sans MT"/>
              </a:rPr>
              <a:t>Spustit</a:t>
            </a:r>
            <a:r>
              <a:rPr b="1" lang="cs-CZ" sz="41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4100" spc="-1" strike="noStrike">
                <a:solidFill>
                  <a:srgbClr val="3891a7"/>
                </a:solidFill>
                <a:latin typeface="Gill Sans MT"/>
              </a:rPr>
              <a:t>prezentaci</a:t>
            </a: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 můžeme také přes klávesnici – </a:t>
            </a:r>
            <a:r>
              <a:rPr b="1" lang="cs-CZ" sz="4100" spc="-1" strike="noStrike">
                <a:solidFill>
                  <a:srgbClr val="c00000"/>
                </a:solidFill>
                <a:latin typeface="Gill Sans MT"/>
              </a:rPr>
              <a:t>F5</a:t>
            </a: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Zástupný symbol pro zápatí 4"/>
          <p:cNvSpPr/>
          <p:nvPr/>
        </p:nvSpPr>
        <p:spPr>
          <a:xfrm>
            <a:off x="1928880" y="6000840"/>
            <a:ext cx="66816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Zástupný symbol pro zápatí 3"/>
          <p:cNvSpPr/>
          <p:nvPr/>
        </p:nvSpPr>
        <p:spPr>
          <a:xfrm>
            <a:off x="1332000" y="5516640"/>
            <a:ext cx="6669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50920" y="981000"/>
          <a:ext cx="8643960" cy="3888000"/>
        </p:xfrm>
        <a:graphic>
          <a:graphicData uri="http://schemas.openxmlformats.org/drawingml/2006/table">
            <a:tbl>
              <a:tblPr/>
              <a:tblGrid>
                <a:gridCol w="3343320"/>
                <a:gridCol w="530064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S PowerPoint 2003 - postup tvorby 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seznamuje žáky s jednotlivými kroky tvorby prezentace v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S PowerPoint 2003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Žáci se seznámí s obsahem panelu nástrojů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ovládat základy psaní na klávesnici, na uživatelské úrovni práci s textovým editorem, využívat vhodné aplik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Rectangle 1"/>
          <p:cNvSpPr/>
          <p:nvPr/>
        </p:nvSpPr>
        <p:spPr>
          <a:xfrm>
            <a:off x="468360" y="410040"/>
            <a:ext cx="71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cs-CZ" sz="65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1)</a:t>
            </a:r>
            <a:r>
              <a:rPr b="0" lang="cs-CZ" sz="65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Spuštění</a:t>
            </a:r>
            <a:br>
              <a:rPr sz="3900"/>
            </a:b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Spuštěním</a:t>
            </a:r>
            <a:r>
              <a:rPr b="0" lang="cs-CZ" sz="4400" spc="-1" strike="noStrike">
                <a:solidFill>
                  <a:srgbClr val="4f271c"/>
                </a:solidFill>
                <a:latin typeface="Gill Sans MT"/>
              </a:rPr>
              <a:t> programu </a:t>
            </a:r>
            <a:r>
              <a:rPr b="1" lang="cs-CZ" sz="4400" spc="-1" strike="noStrike">
                <a:solidFill>
                  <a:srgbClr val="3891a7"/>
                </a:solidFill>
                <a:latin typeface="Gill Sans MT"/>
              </a:rPr>
              <a:t>PowerPoint</a:t>
            </a:r>
            <a:r>
              <a:rPr b="0" lang="cs-CZ" sz="4400" spc="-1" strike="noStrike">
                <a:solidFill>
                  <a:srgbClr val="4f271c"/>
                </a:solidFill>
                <a:latin typeface="Gill Sans MT"/>
              </a:rPr>
              <a:t> se objeví na ploše </a:t>
            </a:r>
            <a:r>
              <a:rPr b="1" lang="cs-CZ" sz="4400" spc="-1" strike="noStrike">
                <a:solidFill>
                  <a:srgbClr val="3891a7"/>
                </a:solidFill>
                <a:latin typeface="Gill Sans MT"/>
              </a:rPr>
              <a:t>první prázdný snímek</a:t>
            </a:r>
            <a:r>
              <a:rPr b="0" lang="cs-CZ" sz="4400" spc="-1" strike="noStrike">
                <a:solidFill>
                  <a:srgbClr val="4f271c"/>
                </a:solidFill>
                <a:latin typeface="Gill Sans MT"/>
              </a:rPr>
              <a:t> prezentace většinou jen pro </a:t>
            </a:r>
            <a:r>
              <a:rPr b="1" lang="cs-CZ" sz="4400" spc="-1" strike="noStrike">
                <a:solidFill>
                  <a:srgbClr val="3891a7"/>
                </a:solidFill>
                <a:latin typeface="Gill Sans MT"/>
              </a:rPr>
              <a:t>nadpis</a:t>
            </a:r>
            <a:r>
              <a:rPr b="0" lang="cs-CZ" sz="4400" spc="-1" strike="noStrike">
                <a:solidFill>
                  <a:srgbClr val="4f271c"/>
                </a:solidFill>
                <a:latin typeface="Gill Sans MT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Zástupný symbol pro zápatí 4"/>
          <p:cNvSpPr/>
          <p:nvPr/>
        </p:nvSpPr>
        <p:spPr>
          <a:xfrm>
            <a:off x="1571760" y="5445000"/>
            <a:ext cx="70387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2)</a:t>
            </a:r>
            <a:r>
              <a:rPr b="0" lang="cs-CZ" sz="60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Návrh grafiky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Na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panelu nástrojů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klikneme na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tlačítko</a:t>
            </a:r>
            <a:r>
              <a:rPr b="0" lang="cs-CZ" sz="37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Návrh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a po straně se nám otevře dialogové okno se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šablonou grafických návrhů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barevným spektrem</a:t>
            </a:r>
            <a:r>
              <a:rPr b="1" lang="cs-CZ" sz="3700" spc="-1" strike="noStrike">
                <a:solidFill>
                  <a:srgbClr val="ffff00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a</a:t>
            </a:r>
            <a:r>
              <a:rPr b="1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animačním schématem</a:t>
            </a:r>
            <a:r>
              <a:rPr b="1" lang="cs-CZ" sz="37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Vybereme pro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všechny snímky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nebo jen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pro vybraný snímek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 a vše potvrdíme kliknutím</a:t>
            </a:r>
            <a:r>
              <a:rPr b="0" lang="cs-CZ" sz="2700" spc="-1" strike="noStrike">
                <a:solidFill>
                  <a:srgbClr val="4f271c"/>
                </a:solidFill>
                <a:latin typeface="Gill Sans MT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Zástupný symbol pro zápatí 4"/>
          <p:cNvSpPr/>
          <p:nvPr/>
        </p:nvSpPr>
        <p:spPr>
          <a:xfrm>
            <a:off x="1785960" y="6143760"/>
            <a:ext cx="6753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94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3)</a:t>
            </a:r>
            <a:r>
              <a:rPr b="1" lang="cs-CZ" sz="5400" spc="-1" strike="noStrike">
                <a:solidFill>
                  <a:srgbClr val="ffff00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Vložení dalšího snímku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Nový snímek</a:t>
            </a:r>
            <a:r>
              <a:rPr b="0" lang="cs-CZ" sz="3700" spc="-1" strike="noStrike">
                <a:solidFill>
                  <a:srgbClr val="3891a7"/>
                </a:solidFill>
                <a:latin typeface="Gill Sans MT"/>
              </a:rPr>
              <a:t> 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vytvoříme kliknutím na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tlačítko</a:t>
            </a:r>
            <a:r>
              <a:rPr b="1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se stejným nápisem v</a:t>
            </a:r>
            <a:r>
              <a:rPr b="1" lang="cs-CZ" sz="37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panelu nástrojů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Po straně se nám otevře okno se způsoby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rozložení</a:t>
            </a:r>
            <a:r>
              <a:rPr b="1" lang="cs-CZ" sz="3700" spc="-1" strike="noStrike">
                <a:solidFill>
                  <a:srgbClr val="ffff00"/>
                </a:solidFill>
                <a:latin typeface="Gill Sans MT"/>
              </a:rPr>
              <a:t>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snímků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Vybereme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podle obsahu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(Napis a obsah, Dva obsahy, Obrázek s titulkem …)</a:t>
            </a:r>
            <a:r>
              <a:rPr b="0" lang="cs-CZ" sz="37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a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potvrdíme kliknutím.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Zástupný symbol pro zápatí 4"/>
          <p:cNvSpPr/>
          <p:nvPr/>
        </p:nvSpPr>
        <p:spPr>
          <a:xfrm>
            <a:off x="1785960" y="6000840"/>
            <a:ext cx="682452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4)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Psaní textu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Kliknutím do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vyznačeného rámečku napíšete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nebo zkopírujete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V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panelu nástrojů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text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naformátujete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stejně jako u Wordu (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typ písma</a:t>
            </a:r>
            <a:r>
              <a:rPr b="1" lang="cs-CZ" sz="3200" spc="-1" strike="noStrike">
                <a:solidFill>
                  <a:srgbClr val="4f271c"/>
                </a:solidFill>
                <a:latin typeface="Gill Sans MT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velikost písma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barva písma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tučné písmo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formátování odstavců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zarovnání textu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Zástupný symbol pro zápatí 4"/>
          <p:cNvSpPr/>
          <p:nvPr/>
        </p:nvSpPr>
        <p:spPr>
          <a:xfrm>
            <a:off x="1500120" y="6000840"/>
            <a:ext cx="71103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280" y="285480"/>
            <a:ext cx="86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900" spc="-1" strike="noStrike">
                <a:solidFill>
                  <a:srgbClr val="3891a7"/>
                </a:solidFill>
                <a:latin typeface="Gill Sans MT"/>
              </a:rPr>
              <a:t>5)</a:t>
            </a:r>
            <a:r>
              <a:rPr b="1" lang="cs-CZ" sz="49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4900" spc="-1" strike="noStrike" u="sng">
                <a:solidFill>
                  <a:srgbClr val="4f271c"/>
                </a:solidFill>
                <a:uFillTx/>
                <a:latin typeface="Gill Sans MT"/>
              </a:rPr>
              <a:t>Vložení Klipártů, obrázků </a:t>
            </a:r>
            <a:endParaRPr b="0" lang="en-US" sz="4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1268280"/>
            <a:ext cx="789156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Přes tlačítko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Vložení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můžeme do prezentace vkládat:                      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Kliparty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–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přes rozvinutou nabídku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Klipart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po straně          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obrázky ze souboru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– přes dialogové okno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Vložit obrázek                         grafy                                                          zvuky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- přes výběr z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Galerie médi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Výběr potvrdíme </a:t>
            </a:r>
            <a:r>
              <a:rPr b="0" lang="cs-CZ" sz="3200" spc="-1" strike="noStrike">
                <a:solidFill>
                  <a:srgbClr val="3891a7"/>
                </a:solidFill>
                <a:latin typeface="Gill Sans MT"/>
              </a:rPr>
              <a:t>Entrem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nebo </a:t>
            </a:r>
            <a:r>
              <a:rPr b="0" lang="cs-CZ" sz="3200" spc="-1" strike="noStrike">
                <a:solidFill>
                  <a:srgbClr val="3891a7"/>
                </a:solidFill>
                <a:latin typeface="Gill Sans MT"/>
              </a:rPr>
              <a:t>kliknutí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Zástupný symbol pro zápatí 4"/>
          <p:cNvSpPr/>
          <p:nvPr/>
        </p:nvSpPr>
        <p:spPr>
          <a:xfrm>
            <a:off x="1428840" y="6000840"/>
            <a:ext cx="718164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6)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Animace prezentace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Animovat můžeme celou prezentaci, jednotlivé snímky nebo jen části snímků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Vybereme ji z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Animačních schémat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, které rozvineme v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Návrhu snímk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3891a7"/>
                </a:solidFill>
                <a:uFillTx/>
                <a:latin typeface="Gill Sans MT"/>
              </a:rPr>
              <a:t>Animační schémata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: Rolovat, Lupa, Rozvinout, Prolínání, Vystupovat at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Tlačítkem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Náhled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si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můžeme jednotlivé animace prohlédnou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Zástupný symbol pro zápatí 4"/>
          <p:cNvSpPr/>
          <p:nvPr/>
        </p:nvSpPr>
        <p:spPr>
          <a:xfrm>
            <a:off x="1428840" y="6000840"/>
            <a:ext cx="721512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7)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Nastavení prezentace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Zaškrtnutím nastavíme upřesněné možnosti pro celou prezentaci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Typ prezent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Možnosti zobrazen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Zobrazení snímků a jejich přechod na dalš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Zástupný symbol pro zápatí 4"/>
          <p:cNvSpPr/>
          <p:nvPr/>
        </p:nvSpPr>
        <p:spPr>
          <a:xfrm>
            <a:off x="1500120" y="6072120"/>
            <a:ext cx="711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20:18:49Z</dcterms:created>
  <dc:creator>ZS Kadan</dc:creator>
  <dc:description/>
  <dc:language>en-US</dc:language>
  <cp:lastModifiedBy>martina</cp:lastModifiedBy>
  <dcterms:modified xsi:type="dcterms:W3CDTF">2013-08-22T15:03:47Z</dcterms:modified>
  <cp:revision>29</cp:revision>
  <dc:subject/>
  <dc:title>     MS PowerPoint 2003</dc:title>
</cp:coreProperties>
</file>