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7BF-AAE7-44BE-B9FE-1629E3AF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710-E421-4A4E-97A7-0DB213A3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D39-C38B-4935-A58B-A9BA586A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F56-C9E5-4479-AA0A-4C61E612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277B-4174-4372-9330-2EADFA10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0B5E-8F46-44EA-AE1B-26E26885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ACD4-D4A6-471E-BD10-07E4C15A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5CA8-D46E-4987-A555-493D5740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6899-6F33-40AA-A830-173B8692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4E86-06E1-46AD-A75A-02FAD3E9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ECC9-6EA0-4756-B165-9E0DC716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EB3-3C2E-4932-8074-D7B2EBDD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2546-4503-480D-BC09-CE26F051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7110-2126-47DA-9CC0-8DC4E39F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A744-816F-4F49-951C-E5B52FA1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64A5-992E-4DD2-9627-32567A73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1684-CA7B-4261-83A1-FDA9E4DA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1D6-D45A-416A-BF64-153EF6C8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FA3-5F98-40C2-A0CE-DE0152C7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C06-C01B-4971-8074-F6C2333D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2D5-25A1-45E2-9965-8B67B875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331-DEBB-446A-A67D-65E316F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7BD-8969-422B-AF82-4DF6298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CE1-D545-477C-8CB0-F7B290C3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D3DE-051F-4B46-9824-08F45D8695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0B0E-810F-410D-A185-B7ED890916A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ikimedia.org/" TargetMode="External"/><Relationship Id="rId2" Type="http://schemas.openxmlformats.org/officeDocument/2006/relationships/hyperlink" Target="http://commons.wikimedia.org/wiki/File:St&#345;edov&#283;k&#253;_trh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1" lang="cs-CZ" sz="5800" spc="-1" strike="noStrike">
                <a:solidFill>
                  <a:srgbClr val="ffffb7"/>
                </a:solidFill>
                <a:latin typeface="Arial"/>
              </a:rPr>
              <a:t>Počátek novověku</a:t>
            </a:r>
            <a:endParaRPr b="1" lang="en-US" sz="5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4. 4. 201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692360" y="33336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Verdana"/>
              </a:rPr>
              <a:t>Zdroje obrázků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šechny uveřejněné odkazy [cit. 2012-04-04] dostupné pod licencí Creative Commons – </a:t>
            </a:r>
            <a:r>
              <a:rPr b="0" lang="cs-CZ" sz="1600" spc="-1" strike="noStrike" u="sng">
                <a:solidFill>
                  <a:srgbClr val="99ff66"/>
                </a:solidFill>
                <a:uFillTx/>
                <a:latin typeface="Verdana"/>
                <a:hlinkClick r:id="rId1"/>
              </a:rPr>
              <a:t>http://wikimedia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Středověký tr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commons.wikimedia.org/wiki/File:St%C5%99edov%C4%9Bk%C3%BD_trh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5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. 11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2637000"/>
          <a:ext cx="8785440" cy="3722400"/>
        </p:xfrm>
        <a:graphic>
          <a:graphicData uri="http://schemas.openxmlformats.org/drawingml/2006/table">
            <a:tbl>
              <a:tblPr/>
              <a:tblGrid>
                <a:gridCol w="4238640"/>
                <a:gridCol w="45468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očátek novově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 poznají příčiny a důsledky objevných ce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ědět o důsledcích objevných cest a poznávání nových civiliza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Poznávání svě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ký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var má Země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ějiny lidstva jsou už odpradávna doprováze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ůznými vymyšlenými příběhy  o stvoření svě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idé si Zemi představovali různě – jako placku, ja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očeného hada ap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ázor církve na stvoření svět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řídání dne a noci dle nich stvořil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ůh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dyž řekl: „Bu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větlo!“ Potom shromáždil vodu do moře a stvořil tráv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stliny a stromy, na kterých roste ovoce. Bůh stvoř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unce, měsíc, hvězdy. Pak stvořil zvířata a nakonec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člověk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který měl panovat nad všemi tvory. Pak Bů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hlédl na vše, co stvořil za 6 dní a 7. den odpočí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391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b7"/>
                </a:solidFill>
                <a:latin typeface="Arial"/>
              </a:rPr>
              <a:t>Mýty a legend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sou to </a:t>
            </a:r>
            <a:r>
              <a:rPr b="1" lang="cs-CZ" sz="3200" spc="-1" strike="noStrike">
                <a:solidFill>
                  <a:srgbClr val="ff99ff"/>
                </a:solidFill>
                <a:latin typeface="Arial"/>
              </a:rPr>
              <a:t>příběhy z dávných dob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teré jsou částečně nebo úplně vymyšlen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yto představy se začaly měnit až s rozvojem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jevování vzdálených kraji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chod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e 14. a 15. století, kdy cestující pluli po moři a cestovali po souš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Italští obchodní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Evropě se rozvíjel </a:t>
            </a:r>
            <a:r>
              <a:rPr b="1" lang="cs-CZ" sz="3200" spc="-1" strike="noStrike">
                <a:solidFill>
                  <a:srgbClr val="33ccff"/>
                </a:solidFill>
                <a:latin typeface="Arial"/>
              </a:rPr>
              <a:t>námořní obch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řemeslná výrob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především v </a:t>
            </a:r>
            <a:r>
              <a:rPr b="0" lang="cs-CZ" sz="3200" spc="-1" strike="noStrike">
                <a:solidFill>
                  <a:srgbClr val="ff99ff"/>
                </a:solidFill>
                <a:latin typeface="Arial"/>
              </a:rPr>
              <a:t>Itál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boží z Benátek, Florencie a Janova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dávalo až v daleké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di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naop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ké bohatství italských měst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jich život i názor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Arial"/>
              </a:rPr>
              <a:t>Středověký tr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324000" y="1557360"/>
          <a:ext cx="84960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496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ff"/>
                </a:solidFill>
                <a:latin typeface="Arial"/>
              </a:rPr>
              <a:t>Změna názoru na stvoření svě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stování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ěnily i představy lid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 svět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nechtěli se již podřizovat jediné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ázoru církve, chtěli žít podle svéh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vojem </a:t>
            </a:r>
            <a:r>
              <a:rPr b="1" lang="cs-CZ" sz="3200" spc="-1" strike="noStrike">
                <a:solidFill>
                  <a:srgbClr val="ff99ff"/>
                </a:solidFill>
                <a:latin typeface="Arial"/>
              </a:rPr>
              <a:t>řemese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obchod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e mění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hled lidí na pozemský živ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čali více 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věř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rozumu</a:t>
            </a:r>
            <a:r>
              <a:rPr b="0" lang="cs-CZ" sz="3200" spc="-1" strike="noStrike">
                <a:solidFill>
                  <a:srgbClr val="ffff66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vědeckému zkoum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Knihtis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kou událostí pro středověké obyvatele byl </a:t>
            </a: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vynález knihtis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nalezl ho německý tiskař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ohann Gutenberg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 té doby se knihy opisovaly ručně, což by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mi namáhavé a zdlouhav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mocí tištěných knih se k lidem dostáva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é názor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tematiků a astronomů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lid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koumající vesmír), ž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emě je kulat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táčí se kolem Slun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b7"/>
                </a:solidFill>
                <a:latin typeface="Verdana"/>
              </a:rPr>
              <a:t>Zdro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VALENTA, Mi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;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tupeň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 základní školy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praktické. 3. dí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1. vydání. Praha : Parta, 2009. ISBN 9788073201234. s. 6 - 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93 – 9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7:52:22Z</dcterms:created>
  <dc:creator>Hana Zimová</dc:creator>
  <dc:description/>
  <dc:language>en-US</dc:language>
  <cp:lastModifiedBy>martina</cp:lastModifiedBy>
  <dcterms:modified xsi:type="dcterms:W3CDTF">2013-06-09T07:24:15Z</dcterms:modified>
  <cp:revision>18</cp:revision>
  <dc:subject/>
  <dc:title>Důsledky 2. světové války</dc:title>
</cp:coreProperties>
</file>