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D20D-DE2C-4A15-B780-98235153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ED1C-44FE-4189-877F-A533FA5A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1D97-4EA6-48A3-8B7E-301CB4F1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6607-3AFF-4E79-8D1B-A217B2F2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8725-659C-411D-9F05-68F81640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FC5C-1F13-4B8A-9D0B-32ECB9F4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132-8668-4FE8-B984-4BB12B6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D17F-AA00-4680-B4F0-102D2DF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4DDD-CB36-49C3-AB84-41E7A080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AB53-377C-4654-8ECA-7EB94D78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D7EA-2A11-4DC4-AC37-5D5AB7C2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7B6D-9FD7-4B5F-9038-96063E5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26D8-BCF7-4B47-8AAD-BCD3504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9E1-0C7A-48C9-BA3F-12495C88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3F8F-8E11-4DFA-ADCC-A5C83061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D9F9-84B5-4C80-9D82-6F45A75C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609D-0603-4405-A1C1-2A0D02B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3A12-B7F5-446A-9BB5-9E230843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FDBF-3EC3-40E0-9E5E-A70BF308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6D8D-4174-4EB1-B1B8-467CD2C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0D7C-E879-4AE0-A0E5-4244FF1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F6EC-0B28-4009-90A3-6B304D5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90A1-BB77-4D37-A530-5A9972F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9C81-A460-4BB3-B343-16BAB45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DC1C-72FA-45A3-80A9-4545FE08C7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C57D-2701-445D-A640-94A55A23E8B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Doba temna, Komenský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9. 5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26028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Jan Ámos Komensk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28. 3. 1592 – 15. 11. 1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bitvě na Bílé hoře muse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toličtí šlechtici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ěšťané opustit domov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 odejít do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VYHNANSTV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zi vyhnanci byl tak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něz a učit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Jan Ámos Komensk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tří mezi nejslavnějš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obnosti českých i evropských děj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7" descr="Johan_amos_comenius_1592-1671"/>
          <p:cNvPicPr/>
          <p:nvPr/>
        </p:nvPicPr>
        <p:blipFill>
          <a:blip r:embed="rId1"/>
          <a:stretch/>
        </p:blipFill>
        <p:spPr>
          <a:xfrm>
            <a:off x="5153040" y="1125360"/>
            <a:ext cx="3990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Činnost Komenskéh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 vyhnání ze země procestoval mnoho zemí, kde pomáhal s výchovou a vzděláváním dětí ve školá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to je nazývá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učitelem nár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en jeho naroze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8. břez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slav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zinárodní den učitel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šel celou Evropu, Anglii, Holandsko, Polsk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védsko, Maďarsko a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 konci svého života žil v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msterdam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 Holandsk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de také zemř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m byla vydána polovina z celého Komenského díl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příklad soubor 43 spisů pod názvem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Opera didact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omnia (Veškeré spisy didaktické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ševýchov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 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šemluv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vzdory usilovné práci a pomoci syna Daniela zůstala mnohá díla více či méně nedokonč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emře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o dlouhodobých zdravotních problémech, 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osti své ženy Jany, syna Daniel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tele a lékaře Mikuláše Tulpa,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5. listopadu 1670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pohřben v kostelíku v Naard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Jeho knih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 A. Komenský napsal mnoho knih a učebn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známější se jmen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vět v obraze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to učebnice latinského jazyka, který byl v té době jazykem vzdělanců a učenců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asto se ho musely učit už malé děti a to se Komenskému nelíbil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počáteční vyučování prosazov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ateřský jazy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79280" y="476280"/>
            <a:ext cx="446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starší dochovan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ukopis J. A. Komenské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 roku 1611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ást textu česk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 mladosti má člově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amatovati, kterak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bře živ byl, a v staros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terak by dobře umř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5" descr="File:Oldest manuscript of Comenius.jpg"/>
          <p:cNvPicPr/>
          <p:nvPr/>
        </p:nvPicPr>
        <p:blipFill>
          <a:blip r:embed="rId2"/>
          <a:stretch/>
        </p:blipFill>
        <p:spPr>
          <a:xfrm>
            <a:off x="5003640" y="333360"/>
            <a:ext cx="3961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alší požadavky Komenskéh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ále požadoval, aby do šk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hly chodit i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děti z chudých rod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té době většinou chodili do škol jen chlapc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 bohatších vrste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žil o to, ab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kol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byla pro dě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zábavou a hr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Škola hr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jmenuje další z jeho slavných učebn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Hlavní pedagogické náz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ce si ceni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znamu výcho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odle něj by žádné dítě nemělo být vyloučeno z výchovy, protože i to nejméně nadané dítě lze vych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Výchova dítěte má podle něj </a:t>
            </a:r>
            <a:r>
              <a:rPr b="1" i="1" lang="cs-CZ" sz="2800" spc="-1" strike="noStrike">
                <a:solidFill>
                  <a:srgbClr val="ffff00"/>
                </a:solidFill>
                <a:latin typeface="Arial"/>
              </a:rPr>
              <a:t>tři hlavní cíl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oznat sebe a svě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zdělání ve vědách, uměních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 řemesle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ovládnout seb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chova m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povznést se k Boh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výchova nábožensk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lade důraz na význam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ázn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 ukončení vzdělávání by měl člověk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stova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Zdůrazňoval, že vzdělávání nikdy nekonč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kolní ro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rvé definoval poje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kolní rok, škol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ázdniny a školní týd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třídách by měli být žáci stejného vě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 stejné úrovně znalostí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je ve třídě větší počet žáků, doporuč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učitele pomocníka (ve třídách bývalo 80 a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0 žáků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ždá třída by měla mít svou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ístnos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výuku, každý rok by měla mí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čeb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8 - 2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8 - 1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5-09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let čaroděj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Hexensabbat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arodějnický 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WitchcraftAtSalemVillage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n Ámos Komen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Johan_amos_comenius_1592-167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is Komenské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Oldest_manuscript_of_Comeni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9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657600"/>
        </p:xfrm>
        <a:graphic>
          <a:graphicData uri="http://schemas.openxmlformats.org/drawingml/2006/table">
            <a:tbl>
              <a:tblPr/>
              <a:tblGrid>
                <a:gridCol w="3672000"/>
                <a:gridCol w="5113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ba temna, J. A. Komens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život lidí v pobělohorské době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znají význam J. A. Komenskéh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oznat význačné osobnosti naši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Arial"/>
              </a:rPr>
              <a:t>Doba pobělohorská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období po bitvě na Bílé hoře r. 16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 skončení třicetileté války byla města rozbitá a venkovské usedlosti opuštěné. Scházelo mnoho pracovních sil, protože za války zahynulo velké množství lid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rkev nutila poddané k přestupu na katolickou víru, nutila je k účasti na bohoslužbách a zakázala jim odchod ze země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Spalování kni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314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době po bitvě na Bílé hoře by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66cc"/>
                </a:solidFill>
                <a:latin typeface="Verdana"/>
              </a:rPr>
              <a:t>spalovány </a:t>
            </a:r>
            <a:r>
              <a:rPr b="1" lang="cs-CZ" sz="3200" spc="-1" strike="noStrike">
                <a:solidFill>
                  <a:srgbClr val="ff66cc"/>
                </a:solidFill>
                <a:latin typeface="Verdana"/>
              </a:rPr>
              <a:t>knih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, které vyprávě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minulosti národa, hlav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době husitsk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i, kteří tyto knihy vlastnili, byli tvrdě potrestá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Upalování lid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romě zakázaných knih byli upalováni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é, hlavně za 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čarodějnictv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rkev věřila, že mezi lidmi se ukrývaj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uctívači ďábla – </a:t>
            </a:r>
            <a:r>
              <a:rPr b="0" lang="cs-CZ" sz="3200" spc="-1" strike="noStrike">
                <a:solidFill>
                  <a:srgbClr val="ffff00"/>
                </a:solidFill>
                <a:latin typeface="Verdana"/>
              </a:rPr>
              <a:t>ČARODĚJNÍC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rdila, že ti způsobují uhynutí dobytka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kodu na majetku, nemoci, sm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 nesmy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Slet čarodějnic vedených ďábl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Čarodějnický pro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File:WitchcraftAtSalemVillage.png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Útlak ze strany vrchn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omě útlaku ze strany církve byli lidé utlačová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lechtou. Ta mluvila převážně německy, pro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eština začala postupně mizet z veřejného živo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daní také museli císaři museli posílat sv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yny do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lužby k císařskému vojs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at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lužba trvala až 18 le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omě toho však muse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vádě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šlechtě velk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ást své úrody či výděl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také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racov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(robotovat = zadarmo pracovat) na panský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olí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Nevolnic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ez povolení vrchnosti se poddaní nesmě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ěhovat, ženit či vdávat ani posílat své dě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uče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danství se změni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VOLNI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 nevolníků byl velmi těžký. Téměř nic mu nezbylo pro vlastní potřebu, rodiny trpěly velkou nouz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9:34Z</dcterms:created>
  <dc:creator>Hana Zimová</dc:creator>
  <dc:description/>
  <dc:language>en-US</dc:language>
  <cp:lastModifiedBy>martina</cp:lastModifiedBy>
  <dcterms:modified xsi:type="dcterms:W3CDTF">2013-06-09T07:30:37Z</dcterms:modified>
  <cp:revision>30</cp:revision>
  <dc:subject/>
  <dc:title>  Doba temna</dc:title>
</cp:coreProperties>
</file>