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A7017-3600-42D9-9267-E508328B3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B5ED9-8215-4446-B99F-30A45C8F7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0AD30-D68D-438C-8B4D-AE84247E9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38385-EF5D-40E4-83E4-83B7F557B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BF18C-F474-4CC4-A63F-CB399973C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51885-9104-4689-930E-C2232CABD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CD1E4-C7FE-4EB8-A8B4-0E4F873C7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9842D-B832-4E3F-80E4-3C5904FE0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E0FBF-DD04-4265-9BAE-3CCA991E5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45784-D1B0-4121-AEE6-953DB6A03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94C80-0910-4847-9AD7-82AEC07DD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FD7C5-F348-456D-847C-10F5337C9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AA546-FA35-4865-A25D-47CEE0634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BB526-0ACB-45F8-AA87-42A6466C5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F9AC3-B9AB-4162-903A-1AB958C4D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B73FD-F214-417F-980B-66F61EFC0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E9CDA-BD66-41DB-84F8-75C9218F8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78BBF-E320-4622-9470-E25114C51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1E00D-7271-4238-B2E0-669C896F1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0CD59-FC0F-4E3E-88B1-22344BEF4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3EFCE-CA6F-4B44-ABD9-752800EA4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7EDBC-83E9-480D-8A54-5CE2AABB0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A387D-6217-46DB-BB62-69CF75330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AB544-B7B5-4A34-AF04-45E544C40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>
                <a:gd name="textAreaLeft" fmla="*/ 0 w 4267080"/>
                <a:gd name="textAreaRight" fmla="*/ 4267440 w 4267080"/>
                <a:gd name="textAreaTop" fmla="*/ 0 h 1942920"/>
                <a:gd name="textAreaBottom" fmla="*/ 1943280 h 1942920"/>
              </a:gdLst>
              <a:ahLst/>
              <a:rect l="textAreaLeft" t="textAreaTop" r="textAreaRight" b="textAreaBottom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>
                <a:gd name="textAreaLeft" fmla="*/ 0 w 3811680"/>
                <a:gd name="textAreaRight" fmla="*/ 3812040 w 3811680"/>
                <a:gd name="textAreaTop" fmla="*/ 0 h 1955880"/>
                <a:gd name="textAreaBottom" fmla="*/ 1956240 h 1955880"/>
              </a:gdLst>
              <a:ahLst/>
              <a:rect l="textAreaLeft" t="textAreaTop" r="textAreaRight" b="textAreaBottom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>
                <a:gd name="textAreaLeft" fmla="*/ 0 w 3124080"/>
                <a:gd name="textAreaRight" fmla="*/ 3124440 w 3124080"/>
                <a:gd name="textAreaTop" fmla="*/ 0 h 1209960"/>
                <a:gd name="textAreaBottom" fmla="*/ 1209960 h 1209960"/>
              </a:gdLst>
              <a:ahLst/>
              <a:rect l="textAreaLeft" t="textAreaTop" r="textAreaRight" b="textAreaBottom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>
                <a:gd name="textAreaLeft" fmla="*/ 0 w 295200"/>
                <a:gd name="textAreaRight" fmla="*/ 295560 w 29520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>
                <a:gd name="textAreaLeft" fmla="*/ 0 w 293760"/>
                <a:gd name="textAreaRight" fmla="*/ 294120 w 293760"/>
                <a:gd name="textAreaTop" fmla="*/ 0 h 190800"/>
                <a:gd name="textAreaBottom" fmla="*/ 191160 h 19080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>
                <a:gd name="textAreaLeft" fmla="*/ 0 w 838080"/>
                <a:gd name="textAreaRight" fmla="*/ 838440 w 838080"/>
                <a:gd name="textAreaTop" fmla="*/ 0 h 436680"/>
                <a:gd name="textAreaBottom" fmla="*/ 436680 h 436680"/>
              </a:gdLst>
              <a:ahLst/>
              <a:rect l="textAreaLeft" t="textAreaTop" r="textAreaRight" b="textAreaBottom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>
                <a:gd name="textAreaLeft" fmla="*/ 0 w 1144800"/>
                <a:gd name="textAreaRight" fmla="*/ 1145160 w 1144800"/>
                <a:gd name="textAreaTop" fmla="*/ 0 h 485640"/>
                <a:gd name="textAreaBottom" fmla="*/ 486000 h 485640"/>
              </a:gdLst>
              <a:ahLst/>
              <a:rect l="textAreaLeft" t="textAreaTop" r="textAreaRight" b="textAreaBottom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>
                <a:gd name="textAreaLeft" fmla="*/ 0 w 3809880"/>
                <a:gd name="textAreaRight" fmla="*/ 3810240 w 3809880"/>
                <a:gd name="textAreaTop" fmla="*/ 0 h 1398600"/>
                <a:gd name="textAreaBottom" fmla="*/ 1398960 h 1398600"/>
              </a:gdLst>
              <a:ahLst/>
              <a:rect l="textAreaLeft" t="textAreaTop" r="textAreaRight" b="textAreaBottom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409320"/>
                <a:gd name="textAreaBottom" fmla="*/ 409680 h 409320"/>
              </a:gdLst>
              <a:ahLst/>
              <a:rect l="textAreaLeft" t="textAreaTop" r="textAreaRight" b="textAreaBottom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>
                <a:gd name="textAreaLeft" fmla="*/ 0 w 1136520"/>
                <a:gd name="textAreaRight" fmla="*/ 1136880 w 113652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>
                <a:gd name="textAreaLeft" fmla="*/ 0 w 4119480"/>
                <a:gd name="textAreaRight" fmla="*/ 4119480 w 4119480"/>
                <a:gd name="textAreaTop" fmla="*/ 0 h 1481040"/>
                <a:gd name="textAreaBottom" fmla="*/ 1481400 h 1481040"/>
              </a:gdLst>
              <a:ahLst/>
              <a:rect l="textAreaLeft" t="textAreaTop" r="textAreaRight" b="textAreaBottom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>
                <a:gd name="textAreaLeft" fmla="*/ 0 w 4322880"/>
                <a:gd name="textAreaRight" fmla="*/ 4323240 w 4322880"/>
                <a:gd name="textAreaTop" fmla="*/ 0 h 1731960"/>
                <a:gd name="textAreaBottom" fmla="*/ 1732320 h 1731960"/>
              </a:gdLst>
              <a:ahLst/>
              <a:rect l="textAreaLeft" t="textAreaTop" r="textAreaRight" b="textAreaBottom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08D5A-7858-410A-8A28-25BC80313BC9}" type="slidenum">
              <a:rPr b="0" lang="cs-CZ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>
                <a:gd name="textAreaLeft" fmla="*/ 0 w 4267080"/>
                <a:gd name="textAreaRight" fmla="*/ 4267440 w 4267080"/>
                <a:gd name="textAreaTop" fmla="*/ 0 h 1942920"/>
                <a:gd name="textAreaBottom" fmla="*/ 1943280 h 1942920"/>
              </a:gdLst>
              <a:ahLst/>
              <a:rect l="textAreaLeft" t="textAreaTop" r="textAreaRight" b="textAreaBottom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>
                <a:gd name="textAreaLeft" fmla="*/ 0 w 3811680"/>
                <a:gd name="textAreaRight" fmla="*/ 3812040 w 3811680"/>
                <a:gd name="textAreaTop" fmla="*/ 0 h 1955880"/>
                <a:gd name="textAreaBottom" fmla="*/ 1956240 h 1955880"/>
              </a:gdLst>
              <a:ahLst/>
              <a:rect l="textAreaLeft" t="textAreaTop" r="textAreaRight" b="textAreaBottom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>
                <a:gd name="textAreaLeft" fmla="*/ 0 w 3124080"/>
                <a:gd name="textAreaRight" fmla="*/ 3124440 w 3124080"/>
                <a:gd name="textAreaTop" fmla="*/ 0 h 1209960"/>
                <a:gd name="textAreaBottom" fmla="*/ 1209960 h 1209960"/>
              </a:gdLst>
              <a:ahLst/>
              <a:rect l="textAreaLeft" t="textAreaTop" r="textAreaRight" b="textAreaBottom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>
                <a:gd name="textAreaLeft" fmla="*/ 0 w 295200"/>
                <a:gd name="textAreaRight" fmla="*/ 295560 w 29520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>
                <a:gd name="textAreaLeft" fmla="*/ 0 w 293760"/>
                <a:gd name="textAreaRight" fmla="*/ 294120 w 293760"/>
                <a:gd name="textAreaTop" fmla="*/ 0 h 190800"/>
                <a:gd name="textAreaBottom" fmla="*/ 191160 h 19080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>
                <a:gd name="textAreaLeft" fmla="*/ 0 w 838080"/>
                <a:gd name="textAreaRight" fmla="*/ 838440 w 838080"/>
                <a:gd name="textAreaTop" fmla="*/ 0 h 436680"/>
                <a:gd name="textAreaBottom" fmla="*/ 436680 h 436680"/>
              </a:gdLst>
              <a:ahLst/>
              <a:rect l="textAreaLeft" t="textAreaTop" r="textAreaRight" b="textAreaBottom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>
                <a:gd name="textAreaLeft" fmla="*/ 0 w 1144800"/>
                <a:gd name="textAreaRight" fmla="*/ 1145160 w 1144800"/>
                <a:gd name="textAreaTop" fmla="*/ 0 h 485640"/>
                <a:gd name="textAreaBottom" fmla="*/ 486000 h 485640"/>
              </a:gdLst>
              <a:ahLst/>
              <a:rect l="textAreaLeft" t="textAreaTop" r="textAreaRight" b="textAreaBottom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>
                <a:gd name="textAreaLeft" fmla="*/ 0 w 3809880"/>
                <a:gd name="textAreaRight" fmla="*/ 3810240 w 3809880"/>
                <a:gd name="textAreaTop" fmla="*/ 0 h 1398600"/>
                <a:gd name="textAreaBottom" fmla="*/ 1398960 h 1398600"/>
              </a:gdLst>
              <a:ahLst/>
              <a:rect l="textAreaLeft" t="textAreaTop" r="textAreaRight" b="textAreaBottom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409320"/>
                <a:gd name="textAreaBottom" fmla="*/ 409680 h 409320"/>
              </a:gdLst>
              <a:ahLst/>
              <a:rect l="textAreaLeft" t="textAreaTop" r="textAreaRight" b="textAreaBottom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>
                <a:gd name="textAreaLeft" fmla="*/ 0 w 1136520"/>
                <a:gd name="textAreaRight" fmla="*/ 1136880 w 113652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>
                <a:gd name="textAreaLeft" fmla="*/ 0 w 4119480"/>
                <a:gd name="textAreaRight" fmla="*/ 4119480 w 4119480"/>
                <a:gd name="textAreaTop" fmla="*/ 0 h 1481040"/>
                <a:gd name="textAreaBottom" fmla="*/ 1481400 h 1481040"/>
              </a:gdLst>
              <a:ahLst/>
              <a:rect l="textAreaLeft" t="textAreaTop" r="textAreaRight" b="textAreaBottom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>
                <a:gd name="textAreaLeft" fmla="*/ 0 w 4322880"/>
                <a:gd name="textAreaRight" fmla="*/ 4323240 w 4322880"/>
                <a:gd name="textAreaTop" fmla="*/ 0 h 1731960"/>
                <a:gd name="textAreaBottom" fmla="*/ 1732320 h 1731960"/>
              </a:gdLst>
              <a:ahLst/>
              <a:rect l="textAreaLeft" t="textAreaTop" r="textAreaRight" b="textAreaBottom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27FE9-6BD5-4D93-AB0A-4FC66DD94DC4}" type="slidenum">
              <a:rPr b="0" lang="cs-CZ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00000" y="1125360"/>
            <a:ext cx="7631280" cy="17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800"/>
            </a:br>
            <a:br>
              <a:rPr sz="5800"/>
            </a:br>
            <a:r>
              <a:rPr b="1" lang="cs-CZ" sz="5800" spc="-1" strike="noStrike">
                <a:solidFill>
                  <a:srgbClr val="00ff99"/>
                </a:solidFill>
                <a:latin typeface="Arial"/>
              </a:rPr>
              <a:t>Bitva na Bílé hoře</a:t>
            </a:r>
            <a:endParaRPr b="1" lang="en-US" sz="5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0" y="5157360"/>
            <a:ext cx="914400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ffffff"/>
                </a:solidFill>
                <a:latin typeface="Tahoma"/>
              </a:rPr>
              <a:t>Autorem materiálu a všech jeho částí, není-li uvedeno jinak,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ffffff"/>
                </a:solidFill>
                <a:latin typeface="Tahoma"/>
              </a:rPr>
              <a:t>je Mgr. Hana Zimová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ffffff"/>
                </a:solidFill>
                <a:latin typeface="Tahoma"/>
              </a:rPr>
              <a:t>Vytvořeno dne 24. 4. 2012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ffffff"/>
                </a:solidFill>
                <a:latin typeface="Tahoma"/>
              </a:rPr>
              <a:t>Nový začátek (New start) CZ.1.07/1.4.00/21.1409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ffffff"/>
                </a:solidFill>
                <a:latin typeface="Tahoma"/>
              </a:rPr>
              <a:t>Tento projekt je spolufinancován Evropským sociálním fondem a státním rozpočtem České republiky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6" name="obrázek 2" descr="Logolink_horizontal_zaklad_RGB"/>
          <p:cNvPicPr/>
          <p:nvPr/>
        </p:nvPicPr>
        <p:blipFill>
          <a:blip r:embed="rId1"/>
          <a:stretch/>
        </p:blipFill>
        <p:spPr>
          <a:xfrm>
            <a:off x="1979640" y="476280"/>
            <a:ext cx="5753160" cy="14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b9efee"/>
                </a:solidFill>
                <a:latin typeface="Verdana"/>
              </a:rPr>
              <a:t>Zdroje obrázků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896472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Všechny uveřejněné odkazy [cit. 2012-04-24] dostupné pod licencí Creative Commons – </a:t>
            </a:r>
            <a:r>
              <a:rPr b="0" lang="cs-CZ" sz="1600" spc="-1" strike="noStrike" u="sng">
                <a:solidFill>
                  <a:srgbClr val="ffffff"/>
                </a:solidFill>
                <a:uFillTx/>
                <a:latin typeface="Verdana"/>
              </a:rPr>
              <a:t>http://wikimedia.org/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Defenestrace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http://commons.wikimedia.org/wiki/File:Karel_Svoboda_Defenestrace.jpg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Dobové vyobrazení bitvy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http://commons.wikimedia.org/wiki/File:Battle_of_White_Mountain.jpg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Vrchol návrší s pamětní mohylou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http://commons.wikimedia.org/wiki/File:Wite_Mountain_-_the_tumulus.JPG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¨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50560" y="1989000"/>
            <a:ext cx="865080" cy="432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č. 18</a:t>
            </a:r>
            <a:endParaRPr b="1" lang="en-US" sz="2000" spc="-1" strike="noStrike">
              <a:solidFill>
                <a:srgbClr val="b9efee"/>
              </a:solidFill>
              <a:latin typeface="Garamond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179280" y="2637000"/>
          <a:ext cx="8785440" cy="3722400"/>
        </p:xfrm>
        <a:graphic>
          <a:graphicData uri="http://schemas.openxmlformats.org/drawingml/2006/table">
            <a:tbl>
              <a:tblPr/>
              <a:tblGrid>
                <a:gridCol w="3456000"/>
                <a:gridCol w="5329440"/>
              </a:tblGrid>
              <a:tr h="43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název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Bitva na Bílé hoř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anota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Žáci  poznají příčiny, průběh bitvy na Bílé hoře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očekávaný výstup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ZV – LMP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Člověk a společnost – 2. stupeň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D – </a:t>
                      </a: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mít přehled o zásadních historických událostech v našich zemích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druh učebního materiál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druh interaktivit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Výkla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"/>
                        </a:rPr>
                        <a:t>ročník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8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b9efee"/>
                </a:solidFill>
                <a:latin typeface="Arial"/>
              </a:rPr>
              <a:t>Povstání českých stavů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0" y="981000"/>
            <a:ext cx="91440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Habsburští panovníci, kteří vládli po císaři Rudolfu II., stále více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66"/>
                </a:solidFill>
                <a:latin typeface="Verdana"/>
              </a:rPr>
              <a:t>omezovali práva české šlechty a měst</a:t>
            </a: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Proto se v Praze sešli a sepsali svoji stížnost a </a:t>
            </a:r>
            <a:r>
              <a:rPr b="1" lang="cs-CZ" sz="2800" spc="-1" strike="noStrike">
                <a:solidFill>
                  <a:srgbClr val="ff99ff"/>
                </a:solidFill>
                <a:latin typeface="Verdana"/>
              </a:rPr>
              <a:t>23. května 1618</a:t>
            </a: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 se ji vydali předat na </a:t>
            </a:r>
            <a:r>
              <a:rPr b="1" lang="cs-CZ" sz="2800" spc="-1" strike="noStrike">
                <a:solidFill>
                  <a:srgbClr val="ffffff"/>
                </a:solidFill>
                <a:latin typeface="Verdana"/>
              </a:rPr>
              <a:t>Pražský hrad</a:t>
            </a: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 zástupcům krále, který sídlil ve Vídni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Na Hradě však došlo k bitce, při které šlechtici </a:t>
            </a:r>
            <a:r>
              <a:rPr b="1" lang="cs-CZ" sz="2800" spc="-1" strike="noStrike">
                <a:solidFill>
                  <a:srgbClr val="00ff99"/>
                </a:solidFill>
                <a:latin typeface="Verdana"/>
              </a:rPr>
              <a:t>vyhodili královské zástupce z oken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Verdana"/>
              </a:rPr>
              <a:t>do hradního příkopu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Verdana"/>
              </a:rPr>
              <a:t>= </a:t>
            </a:r>
            <a:r>
              <a:rPr b="1" i="1" lang="cs-CZ" sz="2800" spc="-1" strike="noStrike">
                <a:solidFill>
                  <a:srgbClr val="00ff99"/>
                </a:solidFill>
                <a:latin typeface="Verdana"/>
              </a:rPr>
              <a:t>defenestrac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Tím začala </a:t>
            </a:r>
            <a:r>
              <a:rPr b="1" i="1" lang="cs-CZ" sz="2800" spc="-1" strike="noStrike">
                <a:solidFill>
                  <a:srgbClr val="ffff66"/>
                </a:solidFill>
                <a:latin typeface="Verdana"/>
              </a:rPr>
              <a:t>válka</a:t>
            </a:r>
            <a:r>
              <a:rPr b="1" lang="cs-CZ" sz="2800" spc="-1" strike="noStrike">
                <a:solidFill>
                  <a:srgbClr val="ff99ff"/>
                </a:solidFill>
                <a:latin typeface="Verdana"/>
              </a:rPr>
              <a:t> mezi habsburským panovníkem a českými šlechtici</a:t>
            </a: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Válka se rozšířila do mnoha zemí a </a:t>
            </a:r>
            <a:r>
              <a:rPr b="1" lang="cs-CZ" sz="2800" spc="-1" strike="noStrike">
                <a:solidFill>
                  <a:srgbClr val="ffffff"/>
                </a:solidFill>
                <a:latin typeface="Verdana"/>
              </a:rPr>
              <a:t>trvala 30 let</a:t>
            </a: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Proto ji nazýváme </a:t>
            </a:r>
            <a:r>
              <a:rPr b="1" i="1" lang="cs-CZ" sz="2800" spc="-1" strike="noStrike">
                <a:solidFill>
                  <a:srgbClr val="ccff66"/>
                </a:solidFill>
                <a:latin typeface="Verdana"/>
              </a:rPr>
              <a:t>třicetiletou válkou</a:t>
            </a: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b9efee"/>
                </a:solidFill>
                <a:latin typeface="Arial"/>
              </a:rPr>
              <a:t>Pražská defenestrace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graphicFrame>
        <p:nvGraphicFramePr>
          <p:cNvPr id="122" name="Object 3"/>
          <p:cNvGraphicFramePr/>
          <p:nvPr/>
        </p:nvGraphicFramePr>
        <p:xfrm>
          <a:off x="684360" y="1268280"/>
          <a:ext cx="7704000" cy="540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268280"/>
                    <a:ext cx="7704000" cy="540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b9efee"/>
                </a:solidFill>
                <a:latin typeface="Arial"/>
              </a:rPr>
              <a:t>Bitva na Bílé hoře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896472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Císař Ferdinand II. poslal do Čech armádu proti armádě českých šlechticů a měšťanů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Vojska se střetla </a:t>
            </a:r>
            <a:r>
              <a:rPr b="1" lang="cs-CZ" sz="3200" spc="-1" strike="noStrike">
                <a:solidFill>
                  <a:srgbClr val="ffff66"/>
                </a:solidFill>
                <a:latin typeface="Verdana"/>
              </a:rPr>
              <a:t>8. listopadu 1620</a:t>
            </a: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 na</a:t>
            </a:r>
            <a:r>
              <a:rPr b="0" lang="cs-CZ" sz="3200" spc="-1" strike="noStrike">
                <a:solidFill>
                  <a:srgbClr val="ff99ff"/>
                </a:solidFill>
                <a:latin typeface="Verdana"/>
              </a:rPr>
              <a:t> </a:t>
            </a:r>
            <a:r>
              <a:rPr b="1" lang="cs-CZ" sz="3200" spc="-1" strike="noStrike">
                <a:solidFill>
                  <a:srgbClr val="ff99ff"/>
                </a:solidFill>
                <a:latin typeface="Verdana"/>
              </a:rPr>
              <a:t>Bílé hoře</a:t>
            </a: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 nedaleko Prahy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Česká vojska se dala brzy na ústup, neměla šanci proti přesile císařských vojsk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8506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66"/>
                </a:solidFill>
                <a:latin typeface="Arial"/>
              </a:rPr>
              <a:t>Dobové vyobrazení bitvy </a:t>
            </a:r>
            <a:br>
              <a:rPr sz="4000"/>
            </a:br>
            <a:r>
              <a:rPr b="1" lang="cs-CZ" sz="4000" spc="-1" strike="noStrike">
                <a:solidFill>
                  <a:srgbClr val="ffff66"/>
                </a:solidFill>
                <a:latin typeface="Arial"/>
              </a:rPr>
              <a:t>na Bílé hoře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graphicFrame>
        <p:nvGraphicFramePr>
          <p:cNvPr id="127" name="Object 3"/>
          <p:cNvGraphicFramePr/>
          <p:nvPr/>
        </p:nvGraphicFramePr>
        <p:xfrm>
          <a:off x="324000" y="1413000"/>
          <a:ext cx="8424720" cy="518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413000"/>
                    <a:ext cx="8424720" cy="518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66"/>
                </a:solidFill>
                <a:latin typeface="Arial"/>
              </a:rPr>
              <a:t>Vrchol návrší s pamětní mohylou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graphicFrame>
        <p:nvGraphicFramePr>
          <p:cNvPr id="130" name="Object 3"/>
          <p:cNvGraphicFramePr/>
          <p:nvPr/>
        </p:nvGraphicFramePr>
        <p:xfrm>
          <a:off x="250920" y="1125360"/>
          <a:ext cx="8642160" cy="547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125360"/>
                    <a:ext cx="8642160" cy="547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66"/>
                </a:solidFill>
                <a:latin typeface="Arial"/>
              </a:rPr>
              <a:t>Potrestání českých šlechticů </a:t>
            </a:r>
            <a:br>
              <a:rPr sz="4000"/>
            </a:br>
            <a:r>
              <a:rPr b="1" lang="cs-CZ" sz="4000" spc="-1" strike="noStrike">
                <a:solidFill>
                  <a:srgbClr val="ffff66"/>
                </a:solidFill>
                <a:latin typeface="Arial"/>
              </a:rPr>
              <a:t>a měšťanů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914400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Císař Ferdinand II. tvrdě potrestal vzbouřené české a moravské pány a měšťany. </a:t>
            </a:r>
            <a:r>
              <a:rPr b="1" lang="cs-CZ" sz="3200" spc="-1" strike="noStrike">
                <a:solidFill>
                  <a:srgbClr val="ff6600"/>
                </a:solidFill>
                <a:latin typeface="Verdana"/>
              </a:rPr>
              <a:t>21. června 1621</a:t>
            </a: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 dal na Staroměstském náměstí postavit lešení a nechal </a:t>
            </a:r>
            <a:r>
              <a:rPr b="1" lang="cs-CZ" sz="3200" spc="-1" strike="noStrike">
                <a:solidFill>
                  <a:srgbClr val="ff99ff"/>
                </a:solidFill>
                <a:latin typeface="Verdana"/>
              </a:rPr>
              <a:t>popravit</a:t>
            </a:r>
            <a:r>
              <a:rPr b="1" lang="cs-CZ" sz="3200" spc="-1" strike="noStrike">
                <a:solidFill>
                  <a:srgbClr val="ffff66"/>
                </a:solidFill>
                <a:latin typeface="Verdana"/>
              </a:rPr>
              <a:t> 27 vůdců povstání</a:t>
            </a: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Ostatním vzpurným šlechticům </a:t>
            </a:r>
            <a:r>
              <a:rPr b="1" lang="cs-CZ" sz="3200" spc="-1" strike="noStrike">
                <a:solidFill>
                  <a:srgbClr val="ffffff"/>
                </a:solidFill>
                <a:latin typeface="Verdana"/>
              </a:rPr>
              <a:t>zabavil majetek a vyhnal je ze země</a:t>
            </a: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Nekatolíci museli přestoupit na katolickou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víru = </a:t>
            </a:r>
            <a:r>
              <a:rPr b="1" lang="cs-CZ" sz="3200" spc="-1" strike="noStrike">
                <a:solidFill>
                  <a:srgbClr val="ff99ff"/>
                </a:solidFill>
                <a:latin typeface="Verdana"/>
              </a:rPr>
              <a:t>konec náboženské svobod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v Čechách, kterou zaručil Rudolf II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b9efee"/>
                </a:solidFill>
                <a:latin typeface="Verdana"/>
              </a:rPr>
              <a:t>Zdroje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VALENTA, Milan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;</a:t>
            </a: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 MÜLLER, Oldřich. </a:t>
            </a:r>
            <a:r>
              <a:rPr b="0" i="1" lang="cs-CZ" sz="1400" spc="-1" strike="noStrike">
                <a:solidFill>
                  <a:srgbClr val="ffffff"/>
                </a:solidFill>
                <a:latin typeface="Verdana"/>
                <a:ea typeface="Verdana"/>
              </a:rPr>
              <a:t>Dějepis pro 2. stupeň základní školy praktické. 3. díl.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1. vydání. Praha : Parta, 2009. ISBN 9788073201234. s. 16 - 17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KOHOUTKOVÁ, H.; KOMSOVÁ, M. </a:t>
            </a:r>
            <a:r>
              <a:rPr b="0" i="1" lang="cs-CZ" sz="1600" spc="-1" strike="noStrike">
                <a:solidFill>
                  <a:srgbClr val="ffffff"/>
                </a:solidFill>
                <a:latin typeface="Verdana"/>
              </a:rPr>
              <a:t>Dějepis na dlani. 2</a:t>
            </a: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. vydání. Olomouc : Rubico,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2007. ISBN 8073460653. s. 107 - 108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6:30Z</dcterms:created>
  <dc:creator>Hana Zimová</dc:creator>
  <dc:description/>
  <dc:language>en-US</dc:language>
  <cp:lastModifiedBy>martina</cp:lastModifiedBy>
  <dcterms:modified xsi:type="dcterms:W3CDTF">2013-06-09T07:29:55Z</dcterms:modified>
  <cp:revision>18</cp:revision>
  <dc:subject/>
  <dc:title>  Bitva na Bílé hoře</dc:title>
</cp:coreProperties>
</file>