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73B-62CA-4029-B4E2-93440D70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33D-E1B2-4906-83D6-B554761F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D17-45D1-4054-9F6D-885A43EE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741-8AD1-4837-AED4-44E3462B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76CC-5E65-4525-9A70-38A6F62B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6E04-A8C9-4109-A6D7-6F6BEBB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CD3B-442C-4C3A-AD09-3F863611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90A5-7748-4272-8FAE-CBC03D4D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883B-1C18-4036-8C6E-05584557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3612-81E5-47D5-AA1B-0587E29F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2AE4-4FFC-4D41-98C0-C182C64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E0C-1D21-408C-A88D-B5832FEE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65A3-28D1-4D29-8EF6-99053F9E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480E-2416-4829-8800-E4E574E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0D9C-1009-4303-A5A0-ACB0BFB3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982A-DD2E-4BBF-BC9A-D1E9AD3B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84F2-97DD-46BC-9536-77384045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9E2-0C8A-48CD-BE06-FBA6DAEC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877-F688-45E5-A6CD-4DF33CDC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5BF-D5E8-4CC0-AF8B-B126782C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C5B-27AC-4FFC-AD75-0CB79BED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1B4-2BE3-405F-9B79-659B77B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9D8-6A7A-457B-9CA4-E63AE9BF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751-BF05-46EE-8981-6DF5D900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12D3-72A5-4148-BDB4-2A98C39AD7A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F33D-6F09-4A50-A9D6-B292758C637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00"/>
                </a:solidFill>
                <a:latin typeface="Arial"/>
              </a:rPr>
              <a:t>Vliv náboženství  na chápání světa</a:t>
            </a:r>
            <a:endParaRPr b="0" lang="en-US" sz="5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4. 4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19280" y="26028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1989000"/>
            <a:ext cx="1008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2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liv náboženství  na chápání svě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rozlišují pozitivní a negativní důsledky zámořských objev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ff00"/>
                </a:solidFill>
                <a:latin typeface="Arial"/>
              </a:rPr>
              <a:t>Zámořské objev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2. poloviny 15. stol. se evropské země snažily objevit přímou námořní cestu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do Indie a dalších východních zem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váželo se odtud </a:t>
            </a: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zlato, koření a jiné vzácné surovi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sty po souši byly nebezpečné kvůli Turkům, kteří přepadali karava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nže Evropané se báli Atlantiku, protože se tradovalo, že je tam konec světa, obývaný příšerami, jako byli draci, obří chobotnice, hadi a ryby s hlavami Turků. Proto hledali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esty přes Středozemní moř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Španělské loďstv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den z nejdůležitějších zámořských objevů 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ařil španělskému loďstv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ořský mořeplavec </a:t>
            </a: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Kryštof Kolumbu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ed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panělské lodě do Indie západním směr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 mnohadenní plavbě se dostali k břehů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známého světadílu, který byl později nazvá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Ameriko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A protože se domnívali, že dopluli d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die, nazvali místní obyvatele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indiány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Dovoz plodi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Ameriky do Evropy přivezli nové plodin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ko </a:t>
            </a: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brambory, rajčata, pálivé papriky a tabá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 Ameriky se vypravovalo stále více dobyvatelů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teří původní </a:t>
            </a:r>
            <a:r>
              <a:rPr b="0" lang="cs-CZ" sz="3200" spc="-1" strike="noStrike">
                <a:solidFill>
                  <a:srgbClr val="ffff00"/>
                </a:solidFill>
                <a:latin typeface="Tahoma"/>
              </a:rPr>
              <a:t>obyvatele zotročil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a zničili jej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u. Oběťmi se staly nádherné říše kmen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ztéků a Ink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jevení Ameriky mělo velký vliv na rozvo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vropského bohatství a poznávání okolního svě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esty kolem světa byly důkazem toho, ž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                       </a:t>
            </a: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Země je kulatá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Španělé bijí indiány – mučili je, upaloval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468360" y="1484280"/>
          <a:ext cx="828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28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Bičování otro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1619280" y="1808280"/>
          <a:ext cx="568944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08280"/>
                    <a:ext cx="568944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8 - 9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5 – 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Verdana"/>
              </a:rPr>
              <a:t>Zdroje obrázk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04] dostupné pod licencí Creative Commons – </a:t>
            </a:r>
            <a:r>
              <a:rPr b="0" lang="cs-CZ" sz="1600" spc="-1" strike="noStrike" u="sng">
                <a:solidFill>
                  <a:srgbClr val="ffffff"/>
                </a:solidFill>
                <a:uFillTx/>
                <a:latin typeface="Verdana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Španělé bijí indián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Cortez-montezuma-mexico-city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Bičování otrok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ttp://commons.wikimedia.org/wiki/File:Otroci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04:53Z</dcterms:created>
  <dc:creator>Hana Zimová</dc:creator>
  <dc:description/>
  <dc:language>en-US</dc:language>
  <cp:lastModifiedBy>martina</cp:lastModifiedBy>
  <dcterms:modified xsi:type="dcterms:W3CDTF">2013-06-09T07:24:57Z</dcterms:modified>
  <cp:revision>15</cp:revision>
  <dc:subject/>
  <dc:title>Vliv náboženství  na chápání světa</dc:title>
</cp:coreProperties>
</file>