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0869-B446-4935-B97D-6073F1B7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187A-A016-4C1B-87EA-4F13CA68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B4F9-440E-4EDD-9403-B0B150D8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5CCF-8485-47CF-8906-5A05326A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190E-85E4-4D2C-84EC-3069EF49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97B7-8674-46A9-8FAE-1A9569E9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A25B-4677-4B5D-BDA4-95D35D9B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59BA-30AD-4058-88A7-FA0B53E7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8819-D838-4447-8E44-AA174A53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E38D-127A-4AC2-91D3-C75BE048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EBEF-FA43-44E3-9CE6-B5F683E6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03F7-F0EF-493A-BE36-A15EB9F8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8AFD-0B00-4DB9-A504-81366409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EDED-F244-4A72-9882-4A1DC71F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13C2-2E26-4AD6-B25C-28EE0F56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CD3C-C40E-4E21-AE76-54ED0B40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46F9-F627-4B11-8DE9-793F057A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DFA9-5935-4DCD-8DE6-4BC379CA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412-82E5-4F97-9CE6-CFE95D73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875-E82F-4CEC-83DE-12E72EF3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7A56-7705-4B7F-85FB-9F022BB5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F50D-8B9F-4ADB-BE3A-9F8BB49F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F4E0-D47E-409B-AC72-21A5677A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BE9-7A05-491D-9CDD-2CFC4D27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3799-93F6-4309-A55B-9511350F8B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C5AA-5995-472F-BB43-02411E44E84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hyperlink" Target="http://commons.wikimedia.org/wiki/File:Flag_of_the_Czech_Republic.sv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136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700"/>
            </a:br>
            <a:br>
              <a:rPr sz="5700"/>
            </a:br>
            <a:r>
              <a:rPr b="1" lang="cs-CZ" sz="5700" spc="-1" strike="noStrike">
                <a:solidFill>
                  <a:srgbClr val="feec94"/>
                </a:solidFill>
                <a:latin typeface="Arial"/>
              </a:rPr>
              <a:t>Vznik ČR</a:t>
            </a:r>
            <a:endParaRPr b="1" lang="en-US" sz="57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28. 3. 201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33336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Státní znak Č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File:Coat of arms of the Czech Republic.svg"/>
          <p:cNvPicPr/>
          <p:nvPr/>
        </p:nvPicPr>
        <p:blipFill>
          <a:blip r:embed="rId1"/>
          <a:stretch/>
        </p:blipFill>
        <p:spPr>
          <a:xfrm>
            <a:off x="1979640" y="1143000"/>
            <a:ext cx="4753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Vlajka Slovenské republik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179280" y="2349360"/>
          <a:ext cx="4319640" cy="28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349360"/>
                    <a:ext cx="431964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5"/>
          <p:cNvGraphicFramePr/>
          <p:nvPr/>
        </p:nvGraphicFramePr>
        <p:xfrm>
          <a:off x="4854600" y="1600200"/>
          <a:ext cx="3624120" cy="453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4600" y="1600200"/>
                    <a:ext cx="3624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eec94"/>
                </a:solidFill>
                <a:latin typeface="Arial"/>
              </a:rPr>
              <a:t>Mapa ČR a znaky historických zemí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File:Czech Rep. - Bohemia, Moravia and Silesia III.png"/>
          <p:cNvPicPr/>
          <p:nvPr/>
        </p:nvPicPr>
        <p:blipFill>
          <a:blip r:embed="rId1"/>
          <a:stretch/>
        </p:blipFill>
        <p:spPr>
          <a:xfrm>
            <a:off x="179280" y="1989000"/>
            <a:ext cx="864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eec94"/>
                </a:solidFill>
                <a:latin typeface="Arial"/>
              </a:rPr>
              <a:t>Opětovné zvolení Václava Havla,</a:t>
            </a:r>
            <a:br>
              <a:rPr sz="4000"/>
            </a:br>
            <a:r>
              <a:rPr b="1" lang="cs-CZ" sz="4000" spc="-1" strike="noStrike">
                <a:solidFill>
                  <a:srgbClr val="feec94"/>
                </a:solidFill>
                <a:latin typeface="Arial"/>
              </a:rPr>
              <a:t>NA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áclav Havel byl českým prezidente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letech 1993 – 200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jaře 1999 vstoupila ČR do NATO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everoatlantický pak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Verdana"/>
              </a:rPr>
              <a:t>Zdro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díl. 1. vydání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Praha : Parta, 20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ISBN 9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788073201241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s. 64 - 67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243 - 24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eec94"/>
                </a:solidFill>
                <a:latin typeface="Verdana"/>
              </a:rPr>
              <a:t>Zdroje obrázk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šechny uveřejněné odkazy [cit. 2012-03-28] dostupné pod licencí Creative Commons – </a:t>
            </a: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Vlajka Č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commons.wikimedia.org/wiki/File:Flag_of_the_Czech_Republic.sv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Znak Č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Coat_of_arms_of_the_Czech_Republic.sv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Vlajka S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Flag_of_Slovakia.sv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Znak S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Coat_of_Arms_of_Slovakia.sv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apa Č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Czech_Rep._-_Bohemia,_Moravia_and_Silesia_III.p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apa Československa 1969 – 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%C4%8CSSR-mapa.p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. 8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9280" y="2637000"/>
          <a:ext cx="8785440" cy="403848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znik Č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popíší dobu vzniku Č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chápat význam událostí v ro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1989 a vítězství demokracie v naší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vla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Zánik Československ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ánik Československa se udál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dvakrát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ff"/>
                </a:solidFill>
                <a:latin typeface="Arial"/>
              </a:rPr>
              <a:t>poprvé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14.–15. března 1939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cs-CZ" sz="3200" spc="-1" strike="noStrike">
                <a:solidFill>
                  <a:srgbClr val="0099ff"/>
                </a:solidFill>
                <a:latin typeface="Arial"/>
              </a:rPr>
              <a:t>podruhé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definitivně 31. prosince 1992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dy Česká a Slovenská Federativní Republika zanikl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dosavadní národní republik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(Česká republika i Slovenská republika) 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d </a:t>
            </a:r>
            <a:r>
              <a:rPr b="1" lang="cs-CZ" sz="3200" spc="-1" strike="noStrike">
                <a:solidFill>
                  <a:srgbClr val="66ff33"/>
                </a:solidFill>
                <a:latin typeface="Arial"/>
              </a:rPr>
              <a:t>1. ledna 1993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osamostatnil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staly subjekty mezinárodního práv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Politické změn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29. prosince 1989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byl zvolen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ezidente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ma i v zahraničí uznávaný </a:t>
            </a:r>
            <a:r>
              <a:rPr b="1" i="1" lang="cs-CZ" sz="3200" spc="-1" strike="noStrike">
                <a:solidFill>
                  <a:srgbClr val="ffff00"/>
                </a:solidFill>
                <a:latin typeface="Arial"/>
              </a:rPr>
              <a:t>Václav Havel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dsedou Federálního shromáždění se st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Alexandr Dubče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Komunistický režim definitivně padl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cs-CZ" sz="3200" spc="-1" strike="noStrike">
                <a:solidFill>
                  <a:srgbClr val="66ff33"/>
                </a:solidFill>
                <a:latin typeface="Arial"/>
              </a:rPr>
              <a:t>červnu 1990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uskutečnily </a:t>
            </a:r>
            <a:r>
              <a:rPr b="1" lang="cs-CZ" sz="3200" spc="-1" strike="noStrike">
                <a:solidFill>
                  <a:srgbClr val="66ff33"/>
                </a:solidFill>
                <a:latin typeface="Arial"/>
              </a:rPr>
              <a:t>první svobodn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ff33"/>
                </a:solidFill>
                <a:latin typeface="Arial"/>
              </a:rPr>
              <a:t>volby do parlament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Další změn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1. února 1990 byl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rušena Státní bezpeč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v březnu byl přijat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zákon o rehabilitac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lid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íhaných komunistickým režim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byl přijat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restituční záko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navracející soukromý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jetek zabavený po únoru 1948 jeh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ůvodním vlastník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v březnu 1990 byl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měněn název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ČSSR 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Českou a Slovenskou federativní republi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SF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Zahraniční politik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eskoslovensko se rychle zbavovalo závislost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Sovětském svazu a chystala se začlen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ezi evropské demokratické stá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 největší úspěch se považuje dohod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 odchodu sovětských vojsk z našeho územ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 20 lete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38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eec94"/>
                </a:solidFill>
                <a:latin typeface="Arial"/>
              </a:rPr>
              <a:t>Rozdělení československé republiky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1844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. ledna 1993 došlo k rozdělení Československa n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va samostatné stát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ff33"/>
                </a:solidFill>
                <a:latin typeface="Arial"/>
              </a:rPr>
              <a:t>Českou republi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0099ff"/>
                </a:solidFill>
                <a:latin typeface="Arial"/>
              </a:rPr>
              <a:t>Slovenskou republi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oce 2004 se naše republika stal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lenskou zemí </a:t>
            </a:r>
            <a:r>
              <a:rPr b="1" i="1" lang="cs-CZ" sz="3200" spc="-1" strike="noStrike">
                <a:solidFill>
                  <a:srgbClr val="ffff00"/>
                </a:solidFill>
                <a:latin typeface="Arial"/>
              </a:rPr>
              <a:t>Evropské uni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eec94"/>
                </a:solidFill>
                <a:latin typeface="Arial"/>
              </a:rPr>
              <a:t>Mapa Československa 1969 - 1990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File:ČSSR-mapa.png"/>
          <p:cNvPicPr/>
          <p:nvPr/>
        </p:nvPicPr>
        <p:blipFill>
          <a:blip r:embed="rId1"/>
          <a:stretch/>
        </p:blipFill>
        <p:spPr>
          <a:xfrm>
            <a:off x="179280" y="1413000"/>
            <a:ext cx="8713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Vlajka Č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9:21:27Z</dcterms:created>
  <dc:creator>Sbor</dc:creator>
  <dc:description/>
  <dc:language>en-US</dc:language>
  <cp:lastModifiedBy>martina</cp:lastModifiedBy>
  <dcterms:modified xsi:type="dcterms:W3CDTF">2013-06-09T07:21:02Z</dcterms:modified>
  <cp:revision>17</cp:revision>
  <dc:subject/>
  <dc:title>Vznik ČR</dc:title>
</cp:coreProperties>
</file>