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9FA9-83EB-4CD1-971F-BAE4C902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4D3D-01A9-4B5C-BABD-78A040D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FEA6-54D5-459F-A0F8-14491CB3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77A8-69A5-41FA-B92B-23199D35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7A4E-AC6B-4531-9B85-823DAB99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AFA7-2AA4-42F0-9FA3-367338C5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65ED-1274-4A54-A63C-A09A0EEA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4202-E261-4C50-8EBB-8DBBAC2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515C-5FF4-4E70-B769-0AB88D27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132-260A-4D87-A04D-12EBE52F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2852-9360-4AE0-A2B1-6A480F5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EADD-7AA5-4F85-B9AA-01C6554D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718E-0FC8-42B3-8C72-CD77F3EB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7AD3-A2D5-4CF3-9162-F0F89CDB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8D5-A5D0-4931-891D-F98A9EEF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4A50-0FAB-46E0-BB19-FF27C50C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4B58-7BC7-4490-8B58-DA7127C5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B6B5-88DA-4D9E-9F32-6AE72845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69C8-AA6D-4FEE-A44E-D65155DE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691D-35A0-4EB4-AAC3-F2F1F7D0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8624-A973-4D1D-BA00-19546EA8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2DF6-7C44-463C-81C9-8BF2F60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0185-CCCA-42E9-AE4F-FD93004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E32A-CB8E-4692-814A-AE14AFD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B676-CD82-4E49-A6BC-19FD1128D9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B083-4448-49A2-9455-0DD6183B681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Rok 1968 – okupace ČSR sovětskou armádou 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3. 3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Totalitní reži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bouřlivě protestovali proti okupantům, ti však už v zemi zůstali dalších 20 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a obnovena cenzura tisku a médií a byl nastolen totalitní režim, lidé pomalu ztráceli svobod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Totalitní reži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nedemokratické státní zřízení – např. fašistické nebo komunistick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Protest student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čané ztráceli své svobody, proto se někteř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udenti rozhodli za svobodu položit veřej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ůj živ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Studen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JAN PALA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a   </a:t>
            </a:r>
            <a:r>
              <a:rPr b="1" i="1" lang="cs-CZ" sz="3600" spc="-1" strike="noStrike">
                <a:solidFill>
                  <a:srgbClr val="ff3300"/>
                </a:solidFill>
                <a:latin typeface="Arial"/>
              </a:rPr>
              <a:t>JAN ZAJÍ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s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a protest proti režimu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upálil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těli tím vyburcovat národ k protestům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monstracím proti totalit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476280"/>
            <a:ext cx="356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mrtn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3300"/>
                </a:solidFill>
                <a:latin typeface="Arial"/>
              </a:rPr>
              <a:t>Jana Palac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948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álil 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6. 1. 19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udent filozofie a politické ekonom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Object 9"/>
          <p:cNvGraphicFramePr/>
          <p:nvPr/>
        </p:nvGraphicFramePr>
        <p:xfrm>
          <a:off x="3924360" y="404640"/>
          <a:ext cx="48243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04640"/>
                    <a:ext cx="48243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78920" y="404280"/>
            <a:ext cx="4248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66"/>
                </a:solidFill>
                <a:latin typeface="Arial"/>
              </a:rPr>
              <a:t>Jan Zají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udent střední průmyslové školy železniční v Šumper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950 – 25. 2. 19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pamětní desku na Václavském námě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4427640" y="476280"/>
          <a:ext cx="471636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471636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Výňatek z dopisu Jana Zajíce před smrtí rodičům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minko, tatínku, bratři a sestřičk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ž budete číst tento dopis, budu už zřejm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rtev nebo velmi blízko smrti. Vím, jak velk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ánu Vám svým činem způsobím, ale nezlobte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mne. Nedělám to proto, že by mne živ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mrzel, ale proto, že si ho velmi váží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smíte se nikdy smířit s nespravedlností, mo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mrt Vás k tomu zavazu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mi líto, že Vás už nikdy neuvidí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235 - 237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3-13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exandr Dubč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Dubcek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ubček, Svoboda, Ceausesc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IICCR_G539_Ceausescu_Dubcek_Svoboda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Jan Pal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Monumento_a_Jan_Palach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Jan Zají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Zaj%C3%ADc_Jan_-_portr%C3%A9t_na_pam%C4%9Btn%C3%AD_desce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6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4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1557360"/>
          <a:ext cx="8785440" cy="471492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1968 – okupace ČSR sovětskou armádo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íší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1968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Jaro 1968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jaře roku 1968 se situace v zemi uvolni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 se přestávali bát tajné polic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hlo se volně cestovat za hra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a povolena činnost dříve zakázaných spolků a st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a zrušena </a:t>
            </a: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cenzur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= kontrola a omezov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ělování různých informací – ať už předávaný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luveným slovem, tiskem a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vykle se týká veřejně sdělovaných názorů, 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obách nesvobody je kontrolováno i soukrom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ělování názorů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Cenz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vo 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cenzur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chází z latinského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censor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což byl úředník, která měl za úkol sčítání obyvatel a dohlížení na morál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Českých zemích cenzura existovala už před rokem 1918, kdy noviny musely vyjít se začerněnými stránkami ap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istovala i během nacistické a komunistické totality, ale i za tzv. první a druhé republiky, kdy byly ovšem zakázány především komunistické a nacionalistické spisy,  také pís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době komunistického režimu byly některé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knih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ydávány v pozměněném zněn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zura byla oficiálně zrušena novelou Tiskového zákona v roce 1968 po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ovětské invazi do Československa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všem neoficiálně pokračovala až do roku 198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Cenzura fotografií a film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nzura </a:t>
            </a:r>
            <a:r>
              <a:rPr b="1" lang="cs-CZ" sz="2800" spc="-1" strike="noStrike">
                <a:solidFill>
                  <a:srgbClr val="ff66ff"/>
                </a:solidFill>
                <a:latin typeface="Arial"/>
              </a:rPr>
              <a:t>fotografií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 období totality - prováděla se jejich retušováním, „vylepšováním“ anebo jejich úplným zakázáním. Na snímcích se odmazávaly nepohodlné osoby, nebo se např. mohl přidat jásající dav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sahy cenzury se většinou nařizovaly ústně, proto k nim existuje jen málo dokument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nzura ve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ilm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nzura filmové tvorby probíhala po celém světě od počátků rozvoje filmového umění a probíhá až do současnosti - ochrana obecné mravnosti, ochrana mládeže apod. K cenzuře filmů ale dochází i z politických důvodů; tak byly např. z některých filmů vystříhány scény s Waldemarem Matuškou, který se stal kvůli své emigraci vládnoucímu komunistickému režimu nepohodlný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Alexandr Dubče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68 lidé touži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svobodě a hleda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stu, jak se zbav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dvlády Sověts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vaz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čele demokratic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nutí stan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i="1" lang="cs-CZ" sz="2800" spc="-1" strike="noStrike">
                <a:solidFill>
                  <a:srgbClr val="ffff66"/>
                </a:solidFill>
                <a:latin typeface="Arial"/>
              </a:rPr>
              <a:t>Alexandr Dubček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6"/>
          <p:cNvGraphicFramePr/>
          <p:nvPr/>
        </p:nvGraphicFramePr>
        <p:xfrm>
          <a:off x="4892760" y="1413000"/>
          <a:ext cx="3927240" cy="51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92760" y="1413000"/>
                    <a:ext cx="39272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Sovětský vl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ský svaz neustále kontroloval „uvolňování“ 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Arial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Arial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aby zabraňovali dalšímu šíření přílišné demokra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napomínání nepomáhalo, rozhodl se Leonid Brežněv (vedoucí představitel SSSR) zakroč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Dubček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 v roce 1968 na návštěvě </a:t>
            </a:r>
            <a:br>
              <a:rPr sz="3200"/>
            </a:b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v Rumunsku. Uprostřed je </a:t>
            </a:r>
            <a:r>
              <a:rPr b="1" i="1" lang="cs-CZ" sz="3200" spc="-1" strike="noStrike">
                <a:solidFill>
                  <a:srgbClr val="ffff66"/>
                </a:solidFill>
                <a:latin typeface="Arial"/>
              </a:rPr>
              <a:t>Ludvík Svoboda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dfdef6"/>
                </a:solidFill>
                <a:latin typeface="Arial"/>
              </a:rPr>
              <a:t>Nicolae Ceauşescu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2" name="Object 3"/>
          <p:cNvGraphicFramePr/>
          <p:nvPr/>
        </p:nvGraphicFramePr>
        <p:xfrm>
          <a:off x="395280" y="1600200"/>
          <a:ext cx="8424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0200"/>
                    <a:ext cx="8424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Okupace Československ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noci na </a:t>
            </a:r>
            <a:r>
              <a:rPr b="1" i="1" lang="cs-CZ" sz="3200" spc="-1" strike="noStrike">
                <a:solidFill>
                  <a:srgbClr val="ffff66"/>
                </a:solidFill>
                <a:latin typeface="Arial"/>
              </a:rPr>
              <a:t>21. srpna 196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trhly na naše území sovětské tanky společně s jednotkami dalších států ( Maďarsko, Polsko, Bulharsko, NDR ), aby zabránily rozmachu svobody v ze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čané se bránili i holýma rukama, zapálili několik tanků, které proti nim stříl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Arial"/>
              </a:rPr>
              <a:t>Okupační vojs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obsadila vládní budovu, redakce novin, budovu rozhlasu a telev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ětští důstojníci odvlekli A. Dubčeka a jeho spolupracovníky do Mosk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43:44Z</dcterms:created>
  <dc:creator>Hana Zimová</dc:creator>
  <dc:description/>
  <dc:language>en-US</dc:language>
  <cp:lastModifiedBy>martina</cp:lastModifiedBy>
  <dcterms:modified xsi:type="dcterms:W3CDTF">2013-06-09T07:17:38Z</dcterms:modified>
  <cp:revision>13</cp:revision>
  <dc:subject/>
  <dc:title>   Rok 1968 – okupace ČSR sovětskou armádou </dc:title>
</cp:coreProperties>
</file>