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C63-BDD9-4AF3-A48B-689EA32C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9C1-60E1-4C33-A0E4-EBD13790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58C-B324-4852-B0DE-985ABE1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D56-864F-4F3C-A2AD-44E30BAD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C82-AB8C-4E6B-9437-D8866AC1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734-A962-4CDB-9F2B-5FAE3D0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F74-BB37-4747-8556-C33ADA1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FFCB-AE98-4185-BC98-8A10DB6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9EE5-2172-430E-AA30-C1C853F4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1140-B345-4060-B813-C26E4C63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02E8-8BB4-4C23-AFBF-ED9676E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F70-FDC5-4985-A600-305F361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795-F409-47A4-8E30-F95951F4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C34-C4AB-451F-8D3B-7F97E61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D7A-6345-4E45-9383-EFE87EB9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06E-5552-4223-A704-DD7EF413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BCAE-1313-41ED-BA4A-19913D6D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EA4-707E-4E91-BC5A-DEEDAFF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F14-0EF8-4D1D-9D91-C46E69DC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CBD-9070-4AFD-9101-4C12ABD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EC4-8C6B-4E74-B1E6-3F2068A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BE7-9BE3-4B44-8066-F3F427D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AB4-CC60-4A82-BC4F-73A11B0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D7F-B9B1-468B-93D9-EFE3112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346-6330-407F-AD17-A3C626B95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B0B-F270-4EF8-9500-613D3E5ED19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eec94"/>
                </a:solidFill>
                <a:latin typeface="Arial"/>
              </a:rPr>
              <a:t>Kryštof Kolumbus</a:t>
            </a:r>
            <a:endParaRPr b="1" lang="en-US" sz="5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76364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ryštof Kolum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hristopher_Columbus.P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apa výpra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Viajes_de_colon_cs.sv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us v Novém světě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Columbus_Taking_Possession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lumbův náhrob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http://commons.wikimedia.org/wiki/File:Tumba_de_Colon-Sevilla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3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yštof Kolumb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chápou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nam Kryštofa Kolumba pro Evropu a svět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eec94"/>
                </a:solidFill>
                <a:latin typeface="Arial"/>
              </a:rPr>
              <a:t>Objevení Amerik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. srpna 1492 vyplul </a:t>
            </a:r>
            <a:r>
              <a:rPr b="1" lang="cs-CZ" sz="3200" spc="-1" strike="noStrike">
                <a:solidFill>
                  <a:srgbClr val="66ff66"/>
                </a:solidFill>
                <a:latin typeface="Arial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 španělských břehů směrem ke Kanárský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rovům, měl 3 malé plachetn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iňa, Pinta a Santa Mari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odě se plavily Atlantským oceánem na západ. Cesta jim trvala 33 dn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12. října 1492 přistály u Karibi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ostrovech námořníci objevil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morodé obyvatele, zlato a nové druhy rostl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716360" y="260280"/>
          <a:ext cx="4427640" cy="64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0280"/>
                    <a:ext cx="44276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-360" y="260280"/>
            <a:ext cx="4506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ryštof Kolumbu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si 31. října 1451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0. května 15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y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řeplavec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olonizá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 službách Katolický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álů Španělska uskutečn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tyři plavby př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tlantský oceá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 Evropě probudily záj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 nový kontinent, pozděj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zvaný Ameri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nevěděl, že objevil nový kontin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 obyvatele nazval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Indio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španělský výraz p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y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lumbus chtěl pro sebe a své dědice výhody 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panělského královského dvora. Nakonec se m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ařilo prosadit jen některé z nic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mřel r. 1506 ve Valladolidu a jeho ostatky j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s umístěny v katedrále Panny 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Mapa 4 Kolumbových výprav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250920" y="1125360"/>
          <a:ext cx="864216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Arial"/>
              </a:rPr>
              <a:t>Kolumbus v Novém světě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95280" y="1341360"/>
          <a:ext cx="83534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353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eec94"/>
              </a:solidFill>
              <a:latin typeface="Arial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4572000" y="260280"/>
          <a:ext cx="43210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0280"/>
                    <a:ext cx="43210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 txBox="1"/>
          <p:nvPr/>
        </p:nvSpPr>
        <p:spPr>
          <a:xfrm>
            <a:off x="324000" y="333000"/>
            <a:ext cx="4254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lumbův náhrob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 Katedrále Pan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ie v Sevil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umbu nes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ové Kastili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eónu, Aragonie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va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eec94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3. díl. 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7:16Z</dcterms:created>
  <dc:creator>Hana Zimová</dc:creator>
  <dc:description/>
  <dc:language>en-US</dc:language>
  <cp:lastModifiedBy>martina</cp:lastModifiedBy>
  <dcterms:modified xsi:type="dcterms:W3CDTF">2013-06-09T07:25:39Z</dcterms:modified>
  <cp:revision>17</cp:revision>
  <dc:subject/>
  <dc:title>Kryštof Kolumbus</dc:title>
</cp:coreProperties>
</file>