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4370-09EA-47A1-811A-CCB093A9A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02FE-2EFB-4B20-AB97-DAC04DCE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475C-1CA8-404D-82B0-81F9603F1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7732-89C4-4D2C-B90A-02DD56342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15C3-534B-4CB8-9F5D-2D2E2D364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A5B08-8517-4764-9265-761D1FF0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ABC9-ED30-42F7-9E29-5F82497D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1084-47D7-4D02-BB54-9E540CCF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ED63E-9BDD-41DA-8A17-60A7F9E0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9EB8-74D8-4A88-93D8-F9D3B028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1EA3-87E0-4E55-AB2B-F0DB43B6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FD25-5DE9-46C3-A174-85BAC869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7AC82-801E-4C43-A474-63FC06AA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87A0E-7A8E-4A13-9C6E-51AEF41C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FEF0-A18C-4800-B4AC-0DAF310A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627B-333C-47E3-9F45-785FCF166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2F69-5AF3-4372-B825-03B95CB16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B2A0-1F54-4802-A3D2-032DE88D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907E-E57C-446F-858A-F139FF4E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C6FF-5DE2-47A8-955E-DF366043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D3DE-8815-4805-803E-2B709E54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31E4-6B2E-43B8-86EC-2131076F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1C0E-9A20-49A2-9A2D-37AB8390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C499-A8D0-4EE0-AD32-EBA1C085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A94E-9E6A-46A9-A60F-2181CFB71691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CF1E-1125-490A-A373-2547C1FC205C}" type="slidenum">
              <a:rPr b="0" lang="cs-C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1/19/Kepler-solar-system-1.png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ikimedia.org/" TargetMode="External"/><Relationship Id="rId2" Type="http://schemas.openxmlformats.org/officeDocument/2006/relationships/hyperlink" Target="http://commons.wikimedia.org/wiki/File:Kanuni.jpg" TargetMode="External"/><Relationship Id="rId3" Type="http://schemas.openxmlformats.org/officeDocument/2006/relationships/hyperlink" Target="http://commons.wikimedia.org/wiki/File:Moh&#225;cs_Historical_Monumen_(5).jpg" TargetMode="External"/><Relationship Id="rId4" Type="http://schemas.openxmlformats.org/officeDocument/2006/relationships/hyperlink" Target="http://commons.wikimedia.org/wiki/File:Louis2.jpg" TargetMode="External"/><Relationship Id="rId5" Type="http://schemas.openxmlformats.org/officeDocument/2006/relationships/hyperlink" Target="http://commons.wikimedia.org/wiki/File:Hans_Bocksberger_der_Aeltere_001.jpg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d/d0/Hans_Bocksberger_der_Aeltere_001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file://upload.wikimedia.org/wikipedia/commons/4/49/The_Emperor_Ferdinand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6312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800"/>
            </a:br>
            <a:br>
              <a:rPr sz="5800"/>
            </a:br>
            <a:r>
              <a:rPr b="0" lang="cs-CZ" sz="5800" spc="-1" strike="noStrike">
                <a:solidFill>
                  <a:srgbClr val="ffffcc"/>
                </a:solidFill>
                <a:latin typeface="Arial"/>
              </a:rPr>
              <a:t>Císařský dvůr </a:t>
            </a:r>
            <a:br>
              <a:rPr sz="5800"/>
            </a:br>
            <a:r>
              <a:rPr b="0" lang="cs-CZ" sz="5800" spc="-1" strike="noStrike">
                <a:solidFill>
                  <a:srgbClr val="ffffcc"/>
                </a:solidFill>
                <a:latin typeface="Arial"/>
              </a:rPr>
              <a:t>Rudolfa II.</a:t>
            </a:r>
            <a:endParaRPr b="0" lang="en-US" sz="5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Autorem materiálu a všech jeho částí, není-li uvedeno jinak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je Mgr. Hana Zimová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Vytvořeno dne 11. 4. 2012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Nový začátek (New start) CZ.1.07/1.4.00/21.1409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Tento projekt je spolufinancován Evropským sociálním fondem a státním rozpočtem České republiky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835280" y="333360"/>
            <a:ext cx="57528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40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00"/>
                </a:solidFill>
                <a:latin typeface="Tahoma"/>
              </a:rPr>
              <a:t>Vláda Rudolfa II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ládl v letech </a:t>
            </a:r>
            <a:r>
              <a:rPr b="1" lang="cs-CZ" sz="3200" spc="-1" strike="noStrike">
                <a:solidFill>
                  <a:srgbClr val="ffff00"/>
                </a:solidFill>
                <a:latin typeface="Tahoma"/>
              </a:rPr>
              <a:t>1576 – 1611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anování Rudolfa II. je dobou </a:t>
            </a:r>
            <a:r>
              <a:rPr b="1" lang="cs-CZ" sz="3200" spc="-1" strike="noStrike">
                <a:solidFill>
                  <a:srgbClr val="ff00ff"/>
                </a:solidFill>
                <a:latin typeface="Tahoma"/>
              </a:rPr>
              <a:t>alchymistů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=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lidé, kteří se snažili vyrobit zlato a elixí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života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(tekutinu, která omlazuje). Sice zlato an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lixír nevyrobili, ale zato učinili 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mnoh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důležitých objevů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Byla to také doba </a:t>
            </a:r>
            <a:r>
              <a:rPr b="1" lang="cs-CZ" sz="3200" spc="-1" strike="noStrike">
                <a:solidFill>
                  <a:srgbClr val="00ccff"/>
                </a:solidFill>
                <a:latin typeface="Tahoma"/>
              </a:rPr>
              <a:t>hvězdopravců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(astrologové)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teří z hvězdného nebe hádali osud lidí. Věřili, ž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lidé mohou svůj osud vyčíst z postavení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beských těles jako jsou Slunce a Měsí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Rudolf II. v Praz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ako jediný Habsburk přesídlil Rudolf II. se svý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vorem z Vídně do Prahy </a:t>
            </a:r>
            <a:r>
              <a:rPr b="0" lang="cs-CZ" sz="2800" spc="-1" strike="noStrike">
                <a:solidFill>
                  <a:srgbClr val="ffff00"/>
                </a:solidFill>
                <a:latin typeface="Tahoma"/>
              </a:rPr>
              <a:t>na Pražský hrad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Byl obklopen alchymisty a také mnohým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dvodníky, ale i různými učenci. Mezi nimi byli 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ynikající </a:t>
            </a:r>
            <a:r>
              <a:rPr b="1" i="1" lang="cs-CZ" sz="2800" spc="-1" strike="noStrike">
                <a:solidFill>
                  <a:srgbClr val="ffffff"/>
                </a:solidFill>
                <a:latin typeface="Tahoma"/>
              </a:rPr>
              <a:t>hvězdáři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cs-CZ" sz="2800" spc="-1" strike="noStrike">
                <a:solidFill>
                  <a:srgbClr val="00ff00"/>
                </a:solidFill>
                <a:latin typeface="Tahoma"/>
              </a:rPr>
              <a:t>Jan Kepler a Tycho de Brah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a vlády Rudolfa II. se z Prahy stalo důležité kulturní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centrum Evropy, především díky vzácným </a:t>
            </a: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sbírká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ccff"/>
                </a:solidFill>
                <a:latin typeface="Tahoma"/>
              </a:rPr>
              <a:t>obrazů, zbraní, knih, skla a drahokamů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aha Rudolfa II. byla podle pověstí i městem tajemnýc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jevení, jako např. </a:t>
            </a:r>
            <a:r>
              <a:rPr b="1" i="1" lang="cs-CZ" sz="2800" spc="-1" strike="noStrike">
                <a:solidFill>
                  <a:srgbClr val="ffffff"/>
                </a:solidFill>
                <a:latin typeface="Tahoma"/>
              </a:rPr>
              <a:t>Golema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188640"/>
            <a:ext cx="854064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Tahoma"/>
              </a:rPr>
              <a:t>Model sluneční soustavy J. Keplera (1596)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8" name="Picture 5" descr="File:Kepler-solar-system-1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1341360"/>
            <a:ext cx="51912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115920"/>
            <a:ext cx="854064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Tycho de Brah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0" y="1196640"/>
            <a:ext cx="6012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14. prosince 1546, </a:t>
            </a: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Knudstrup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ánsko – 24. října 1601, Pra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ůvodním jménem </a:t>
            </a: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Tyge Ottese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Brahe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, nesprávně uváděný jak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ahoma"/>
              </a:rPr>
              <a:t>Tycho de Brah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byl to význačný dánský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astronom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astrolog a alchymista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je považován za nejlepšího 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jpřesnějšího pozorovatele </a:t>
            </a: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hvězdné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oblohy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, jenž byl překonán až šedesát le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 vynalezení dalekohled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2" name="Picture 7" descr="File:Tycho Brahe.JPG"/>
          <p:cNvPicPr/>
          <p:nvPr/>
        </p:nvPicPr>
        <p:blipFill>
          <a:blip r:embed="rId1"/>
          <a:stretch/>
        </p:blipFill>
        <p:spPr>
          <a:xfrm>
            <a:off x="5724360" y="1197000"/>
            <a:ext cx="33116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0" y="476280"/>
            <a:ext cx="53640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cs-CZ" sz="2800" spc="-1" strike="noStrike">
                <a:solidFill>
                  <a:srgbClr val="ffff00"/>
                </a:solidFill>
                <a:latin typeface="Tahoma"/>
              </a:rPr>
              <a:t>Golem</a:t>
            </a:r>
            <a:r>
              <a:rPr b="0" lang="cs-CZ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hebrejsky: </a:t>
            </a:r>
            <a:r>
              <a:rPr b="0" lang="he-IL" sz="2800" spc="-1" strike="noStrike">
                <a:solidFill>
                  <a:srgbClr val="ffffff"/>
                </a:solidFill>
                <a:latin typeface="Tahoma"/>
              </a:rPr>
              <a:t>הגולם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je v židovské mystice člověkem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živená soch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lovo </a:t>
            </a:r>
            <a:r>
              <a:rPr b="1" i="1" lang="cs-CZ" sz="2400" spc="-1" strike="noStrike">
                <a:solidFill>
                  <a:srgbClr val="ffffff"/>
                </a:solidFill>
                <a:latin typeface="Tahoma"/>
              </a:rPr>
              <a:t>golem</a:t>
            </a: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namená v hebrejštině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úplnost, nedokonalost a takto byl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také tato oživená bytost pojímán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měla vlastní myšlenky ani vlastní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ůli, obvykle nemohla hovořit 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uze plnila příkazy svého pán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jetí </a:t>
            </a: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šému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, který golemy oživoval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chází z </a:t>
            </a: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kabaly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, což je dru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mystiky, tzn. že mystik (kabalista) 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cela oddává službě Boh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6" name="Picture 5" descr="File:Clay-golem.jpg"/>
          <p:cNvPicPr/>
          <p:nvPr/>
        </p:nvPicPr>
        <p:blipFill>
          <a:blip r:embed="rId1"/>
          <a:stretch/>
        </p:blipFill>
        <p:spPr>
          <a:xfrm>
            <a:off x="5148360" y="836640"/>
            <a:ext cx="39956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Verdana"/>
              </a:rPr>
              <a:t>Zdroj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ALENTA, Milan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;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 MÜLLER, Oldřich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pro </a:t>
            </a: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stupeň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 základní školy </a:t>
            </a: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praktické. 3. díl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1. vydání. Praha : Parta, 2009. ISBN 9788073201234. s. 12 - 15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KOHOUTKOVÁ, H.; KOMSOVÁ, M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na dlani. 2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vydání. Olomouc : Rubico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2007. ISBN 8073460653. s. 106 - 107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Verdana"/>
              </a:rPr>
              <a:t>Zdroje obrázků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8964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šechny uveřejněné odkazy [cit. 2012-04-11] dostupné pod licencí Creative Commons – </a:t>
            </a:r>
            <a:r>
              <a:rPr b="0" lang="cs-CZ" sz="1600" spc="-1" strike="noStrike" u="sng">
                <a:solidFill>
                  <a:srgbClr val="a3c145"/>
                </a:solidFill>
                <a:uFillTx/>
                <a:latin typeface="Verdana"/>
                <a:hlinkClick r:id="rId1"/>
              </a:rPr>
              <a:t>http://wikimedia.org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Sultán Sulejma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http://commons.wikimedia.org/wiki/File:Kanuni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Bitva u Moháč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http://commons.wikimedia.org/wiki/File:Moh%C3%A1cs_Historical_Monumen_(5)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Ludvík Jagellonsk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http://commons.wikimedia.org/wiki/File:Louis2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Ferdinand I. Habsbursk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a3c145"/>
                </a:solidFill>
                <a:uFillTx/>
                <a:latin typeface="Tahoma"/>
                <a:hlinkClick r:id="rId5"/>
              </a:rPr>
              <a:t>http://commons.wikimedia.org/wiki/File:Hans_Bocksberger_der_Aeltere_001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Ferdinand v r. 1531 při jeho zvolení římskoněmeckým krále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http://commons.wikimedia.org/wiki/File:The_Emperor_Ferdinand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Rudolf II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http://commons.wikimedia.org/wiki/File:Hans_von_Aachen_003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Tola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http://commons.wikimedia.org/wiki/File:TOLAR1600_AV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Model sluneční soustavy J. Kepler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http://commons.wikimedia.org/wiki/File:Kepler-solar-system-1.p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Tycho de Brah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http://commons.wikimedia.org/wiki/File:Tycho_Brahe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Gole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http://commons.wikimedia.org/wiki/File:Clay-golem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0560" y="1989000"/>
            <a:ext cx="8650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č. 16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179280" y="2637000"/>
          <a:ext cx="8785440" cy="4027320"/>
        </p:xfrm>
        <a:graphic>
          <a:graphicData uri="http://schemas.openxmlformats.org/drawingml/2006/table">
            <a:tbl>
              <a:tblPr/>
              <a:tblGrid>
                <a:gridCol w="3168720"/>
                <a:gridCol w="56167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ísařský dvůr Rudolfa II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Žáci  se seznámí se životem lidí v době vlády Rudolfa II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ZV – LMP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Člověk a společnost – 2. stupe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 –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  <a:ea typeface="Arial Unicode MS"/>
                        </a:rPr>
                        <a:t>znát rozdíly způsobu života společnosti jednotlivých historických etap v kontextu světových děj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8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42160" cy="981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ff00"/>
                </a:solidFill>
                <a:latin typeface="Tahoma"/>
              </a:rPr>
              <a:t>Bitva proti Turkům u Moháče</a:t>
            </a:r>
            <a:r>
              <a:rPr b="0" lang="cs-CZ" sz="4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0" y="1268280"/>
            <a:ext cx="9144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urecký </a:t>
            </a:r>
            <a:r>
              <a:rPr b="1" lang="cs-CZ" sz="3200" spc="-1" strike="noStrike">
                <a:solidFill>
                  <a:srgbClr val="ffff00"/>
                </a:solidFill>
                <a:latin typeface="Tahoma"/>
              </a:rPr>
              <a:t>sultán Sulejman I.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vyzbrojil velkou armádu, se kterou míří do Evropy pokořit celý křesťanský svět. Kradou a zapalují domy, pobíjejí muže, ženy s dětmi odvlékají do zajetí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Lidé v Království českém mají velké obavy o své životy a majetky, proto </a:t>
            </a:r>
            <a:r>
              <a:rPr b="0" lang="cs-CZ" sz="3200" spc="-1" strike="noStrike">
                <a:solidFill>
                  <a:srgbClr val="ff00ff"/>
                </a:solidFill>
                <a:latin typeface="Tahoma"/>
              </a:rPr>
              <a:t>český král </a:t>
            </a:r>
            <a:r>
              <a:rPr b="1" lang="cs-CZ" sz="3200" spc="-1" strike="noStrike">
                <a:solidFill>
                  <a:srgbClr val="ff00ff"/>
                </a:solidFill>
                <a:latin typeface="Tahoma"/>
              </a:rPr>
              <a:t>Ludvík Jagellonský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r. 1526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se svým vojskem postavil proti Turkům poblíž 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města Moháče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(Maďarsko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Bitva to byla ukrutná, Turci použili desítky děl, která rozhodla o </a:t>
            </a:r>
            <a:r>
              <a:rPr b="1" lang="cs-CZ" sz="3200" spc="-1" strike="noStrike">
                <a:solidFill>
                  <a:srgbClr val="00ccff"/>
                </a:solidFill>
                <a:latin typeface="Tahoma"/>
              </a:rPr>
              <a:t>porážce vojsk krále Ludvíka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rál utekl z boje, ale utopil se v močál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cc"/>
                </a:solidFill>
                <a:latin typeface="Tahoma"/>
              </a:rPr>
              <a:t>Sultán Sulejman I.       Ludvík Jagellonský    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3" name="Picture 7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3168720" cy="50403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9" descr="Louis2"/>
          <p:cNvPicPr/>
          <p:nvPr/>
        </p:nvPicPr>
        <p:blipFill>
          <a:blip r:embed="rId2"/>
          <a:stretch/>
        </p:blipFill>
        <p:spPr>
          <a:xfrm>
            <a:off x="5219640" y="1484280"/>
            <a:ext cx="3024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Bitva u Moháče v Maďarsku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7" name="Picture 5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85690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ahoma"/>
              </a:rPr>
              <a:t>Vznik habsburské říš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 smrti krále Ludvíka Jagellonského česká šlecht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usela zvolit nového panovníka, kterým se st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rakouský vévod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ahoma"/>
              </a:rPr>
              <a:t>Ferdinand I. Habsburský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ošlo ke spojení českých zemí a Uher s Rakousk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znikla nová říše – </a:t>
            </a:r>
            <a:r>
              <a:rPr b="1" lang="cs-CZ" sz="2800" spc="-1" strike="noStrike">
                <a:solidFill>
                  <a:srgbClr val="ff00ff"/>
                </a:solidFill>
                <a:latin typeface="Tahoma"/>
              </a:rPr>
              <a:t>habsburská říš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Ferdinand I. sídlil ve Vídni, v Čechách nech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počátku vládnout českou šlechtu, ale po čase zač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mezovat její vliv a pravomoci, zřídil vlastní úřady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ařídil velké daně a moc ve městech vložil moc do ruko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ediného královského úředníka – </a:t>
            </a:r>
            <a:r>
              <a:rPr b="0" lang="cs-CZ" sz="2800" spc="-1" strike="noStrike">
                <a:solidFill>
                  <a:srgbClr val="ffff00"/>
                </a:solidFill>
                <a:latin typeface="Tahoma"/>
              </a:rPr>
              <a:t>rychtář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24000" y="-316080"/>
            <a:ext cx="85406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Ferdinand I. Habsburský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140000" y="1052640"/>
            <a:ext cx="48243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Ferdinand v r. 1531 při jeh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volení římskoněmecký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král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Picture 7" descr="File:Hans Bocksberger der Aeltere 00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981000"/>
            <a:ext cx="2886120" cy="56959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File:The Emperor Ferdinand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1640" y="2349360"/>
            <a:ext cx="25207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4064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00"/>
                </a:solidFill>
                <a:latin typeface="Tahoma"/>
              </a:rPr>
              <a:t>Doba Rudolfa II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volením Ferdinanda I. usedl na český trů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akouský </a:t>
            </a:r>
            <a:r>
              <a:rPr b="1" lang="cs-CZ" sz="3200" spc="-1" strike="noStrike">
                <a:solidFill>
                  <a:srgbClr val="ffff00"/>
                </a:solidFill>
                <a:latin typeface="Tahoma"/>
              </a:rPr>
              <a:t>rod Habsburků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 Vládli v českýc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emích téměř 400 let – </a:t>
            </a:r>
            <a:r>
              <a:rPr b="0" lang="cs-CZ" sz="3200" spc="-1" strike="noStrike">
                <a:solidFill>
                  <a:srgbClr val="00ff00"/>
                </a:solidFill>
                <a:latin typeface="Tahoma"/>
              </a:rPr>
              <a:t>až do r. 1918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edním z vládců by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císař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cs-CZ" sz="3600" spc="-1" strike="noStrike">
                <a:solidFill>
                  <a:srgbClr val="ffff00"/>
                </a:solidFill>
                <a:latin typeface="Tahoma"/>
              </a:rPr>
              <a:t>Rudolf II</a:t>
            </a:r>
            <a:r>
              <a:rPr b="1" lang="cs-CZ" sz="3200" spc="-1" strike="noStrike">
                <a:solidFill>
                  <a:srgbClr val="ffff00"/>
                </a:solidFill>
                <a:latin typeface="Tahoma"/>
              </a:rPr>
              <a:t>.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 kterém bylo napsáno mnoho knih – u nás byl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atočeny filmy o tomto panovníkovi – Císařův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ekař a Císařův pekař -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 hlavní roli s Janem Werich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Rudolf II.               Tola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9" name="Picture 10" descr="File:Hans von Aachen 003.jpg"/>
          <p:cNvPicPr/>
          <p:nvPr/>
        </p:nvPicPr>
        <p:blipFill>
          <a:blip r:embed="rId1"/>
          <a:stretch/>
        </p:blipFill>
        <p:spPr>
          <a:xfrm>
            <a:off x="324000" y="1557360"/>
            <a:ext cx="3744720" cy="4967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0" y="184428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1" name="Picture 16" descr="File:TOLAR1600 AV.jpg"/>
          <p:cNvPicPr/>
          <p:nvPr/>
        </p:nvPicPr>
        <p:blipFill>
          <a:blip r:embed="rId2"/>
          <a:stretch/>
        </p:blipFill>
        <p:spPr>
          <a:xfrm>
            <a:off x="4427640" y="2276640"/>
            <a:ext cx="45370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15:51Z</dcterms:created>
  <dc:creator>Hana Zimová</dc:creator>
  <dc:description/>
  <dc:language>en-US</dc:language>
  <cp:lastModifiedBy>martina</cp:lastModifiedBy>
  <dcterms:modified xsi:type="dcterms:W3CDTF">2013-06-09T07:28:21Z</dcterms:modified>
  <cp:revision>29</cp:revision>
  <dc:subject/>
  <dc:title>  Počátek novověku</dc:title>
</cp:coreProperties>
</file>