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3F54-3497-42A8-B471-133FCC41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C7CE-98BC-45F5-B4F0-C1E17D0B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6688-DB6E-4061-85A8-7C9A3041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670D-B850-462B-B924-46109136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B53F-53FD-493A-9272-98060115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207E-D198-49EE-A8D2-CA7E5464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890C-0000-48F4-9733-FEB87238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B3B1-D110-4FDA-B718-A1B725F2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247C-7EB3-42BB-AFB9-94E3454D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FAD3-ED57-4AC1-AA4A-CCC4355E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CE97-C0BC-4A5B-888C-32433A6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CDB2-1A5C-475C-8A2A-BBE9BDB9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1BF2-8929-451E-9E43-B8F8B6C3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E18A-6ADE-462B-9F52-AB094FF3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3A8B-0196-4E05-A243-6D24374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4B8E-27BA-4A8B-A21E-82F13831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04E4-5C06-485E-8959-8BB81B8A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0830-794F-4685-8CF6-23011AA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5257-35FC-46C3-BCEF-00D43757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EA8A-16F8-4AFC-8397-D10BA61B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178B-5246-49F3-B7B5-02561DDC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E060-7C89-4F15-85FB-C5A3164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80B9-919F-4FA2-B268-C91DD2A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3237-EAEA-4AFD-B61A-F36E7637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89B1-16FF-4725-8742-BDEAF4A37A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5255-B118-4B3F-AC8A-81A7D35AFFC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6600" spc="-1" strike="noStrike">
                <a:solidFill>
                  <a:srgbClr val="dfdef6"/>
                </a:solidFill>
                <a:latin typeface="Tahoma"/>
              </a:rPr>
              <a:t>Vznik </a:t>
            </a:r>
            <a:br>
              <a:rPr sz="6600"/>
            </a:br>
            <a:r>
              <a:rPr b="1" lang="cs-CZ" sz="6600" spc="-1" strike="noStrike">
                <a:solidFill>
                  <a:srgbClr val="dfdef6"/>
                </a:solidFill>
                <a:latin typeface="Tahoma"/>
              </a:rPr>
              <a:t>samostatné ČSR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Vytvořeno dne 15. 10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260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Znak republik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9" name="Object 3"/>
          <p:cNvGraphicFramePr/>
          <p:nvPr/>
        </p:nvGraphicFramePr>
        <p:xfrm>
          <a:off x="539640" y="1268280"/>
          <a:ext cx="813600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13600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Ü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Dějepis pro 2. stupeň z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š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oly praktick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4. 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. 1. vy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aha : Parta, 2010. ISBN 9788073201241. s. 13 - 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uveřejněné odkazy [cit. 2012-10-15] dostupné pod licencí Creative Commons – </a:t>
            </a:r>
            <a:r>
              <a:rPr b="0" lang="cs-CZ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amalovávání symbol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Kratky,_Frantisek_- Kolin,_postovni_schranka_(28.10._1918)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Edvard Bene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Edvard_Bene%C5%A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Milan Rastislav Štefán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Milan_Rastislav_%C5%A0tef%C3%A1nik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Československo 1920 -193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Czechoslovakia1920-38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n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commons.wikimedia.org/wiki/File:Czechoslovakia_COA_large.sv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3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nik samostatné ČS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vybavují základní poznatky o vzniku československého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mít základní poznatky o vzniku samostatné Československé republ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66"/>
                </a:solidFill>
                <a:latin typeface="Arial"/>
              </a:rPr>
              <a:t>Život v Rakousko - Uhersku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válce strádá i civilní obyvatelstvo. Šíří se nemoci a hlad. Mnoho lidí, hlavně dětí, umírá na podvýživu, protože je nedostatek léků a potrav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se začali bouřit proti drahotě a hladu. Rakouské úřady proti demonstrujícím vyslaly četníky, kteří na koních najížděli do lidí a rozháněli je šavlemi a obušky, někdy použili i střelné zbran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66ff"/>
                </a:solidFill>
                <a:latin typeface="Arial"/>
              </a:rPr>
              <a:t>Konec  Rakousko – Uherska </a:t>
            </a:r>
            <a:br>
              <a:rPr sz="4000"/>
            </a:br>
            <a:r>
              <a:rPr b="1" lang="cs-CZ" sz="4000" spc="-1" strike="noStrike">
                <a:solidFill>
                  <a:srgbClr val="ff66ff"/>
                </a:solidFill>
                <a:latin typeface="Arial"/>
              </a:rPr>
              <a:t>a vznik Československé republik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podzim r. 1918 bylo Rakousko – Uhersk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raženo ve válce, hladoví lidé se začali bouř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hávali německé nápisy, pálili znaky rakousko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herské monarchie a portréty císaře. V ulicí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rála hudba, lidé slavili a tanči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 velkého nadšení byl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28. října 191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yhlášen svobodný stát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00"/>
                </a:solidFill>
                <a:latin typeface="Arial"/>
              </a:rPr>
              <a:t>Československá republik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ento den dodnes slavíme státní svátek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Zamalovávání symbolů monarchie na poštovní schránce v Kolíně </a:t>
            </a:r>
            <a:br>
              <a:rPr sz="4000"/>
            </a:br>
            <a:r>
              <a:rPr b="0" lang="cs-CZ" sz="4000" spc="-1" strike="noStrike">
                <a:solidFill>
                  <a:srgbClr val="ffff66"/>
                </a:solidFill>
                <a:latin typeface="Arial"/>
              </a:rPr>
              <a:t>28. 10. 1918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4" name="Object 3"/>
          <p:cNvGraphicFramePr/>
          <p:nvPr/>
        </p:nvGraphicFramePr>
        <p:xfrm>
          <a:off x="1042920" y="1773360"/>
          <a:ext cx="705816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70581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Nová vláda a prezid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ezidentem nového státu byl zvol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66ff"/>
                </a:solidFill>
                <a:latin typeface="Arial"/>
              </a:rPr>
              <a:t>Tomáš Garrigue Masary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ději byla ustanovena i nová vlá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bližšími spolupracovníky prezidenta by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ský politik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Edvard Bene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slovenský generál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Milan Rastislav Štefáni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Edvard Beneš a Milan R. Štefánik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6"/>
          <p:cNvGraphicFramePr/>
          <p:nvPr/>
        </p:nvGraphicFramePr>
        <p:xfrm>
          <a:off x="4859280" y="1484280"/>
          <a:ext cx="396072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484280"/>
                    <a:ext cx="3960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2" name="Picture 8" descr="Beneš"/>
          <p:cNvPicPr/>
          <p:nvPr/>
        </p:nvPicPr>
        <p:blipFill>
          <a:blip r:embed="rId4"/>
          <a:stretch/>
        </p:blipFill>
        <p:spPr>
          <a:xfrm>
            <a:off x="250920" y="1484280"/>
            <a:ext cx="410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Sloučení zem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svobodný stát –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Československo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l sloučením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ří územ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cs-CZ" sz="3600" spc="-1" strike="noStrike">
                <a:solidFill>
                  <a:srgbClr val="ff66ff"/>
                </a:solidFill>
                <a:latin typeface="Arial"/>
              </a:rPr>
              <a:t>českých zemí, Slovenska a Podkarpatské Rus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bírání moci nebylo jednoduché. Žily zde národnostní menšiny, které měly strach, že ztratí své politické a hospodářské výh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i to především Němci, Maďaři a Rusíni. Někde museli být vytlačeni českými legionář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legionáři = příslušníci našich zahraničních legií, byli základem československé armá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Československo 1920 - 193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6" name="Object 3"/>
          <p:cNvGraphicFramePr/>
          <p:nvPr/>
        </p:nvGraphicFramePr>
        <p:xfrm>
          <a:off x="0" y="1557360"/>
          <a:ext cx="9144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9:36:25Z</dcterms:created>
  <dc:creator>Hana Zimová</dc:creator>
  <dc:description/>
  <dc:language>en-US</dc:language>
  <cp:lastModifiedBy>martina</cp:lastModifiedBy>
  <dcterms:modified xsi:type="dcterms:W3CDTF">2013-06-09T07:33:52Z</dcterms:modified>
  <cp:revision>17</cp:revision>
  <dc:subject/>
  <dc:title>  Vznik  samostatné ČSR</dc:title>
</cp:coreProperties>
</file>