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DF46-CF67-4C45-8E47-D5B29E24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D8F2-2304-4053-A8C8-FEC65B6A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84EE-22B0-4470-B191-2455A2EC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CB11-0F5B-49DB-9F4D-075FD0A1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9D49-B569-488E-8514-8345D194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CE64-D5BE-4E9B-B0AD-F09FA89D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E848-21F8-4311-A190-A61C4B5B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604E-55EB-4ADB-8C03-E883CB79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9059-2BDE-4171-ADA2-EAAA29B7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1760-550B-49BD-9D0A-706FBABB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1B95-DE3C-4F29-9C21-9F08F9DF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4AA6-5E94-4D10-89D3-8372A3FA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45D2-D7F2-4732-A95E-219D536F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8520-49A0-41B0-8971-54EB5DC5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CEFE-E509-4AAD-90C9-A542A2CA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E931-3582-4932-BBCA-93F4295B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1098-7DB0-40B1-A623-02E2C603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1C6C-D99D-46B5-9C57-F7FC64EE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12F7-8A2F-4CFF-8428-07706763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9BF2-22AD-4D64-9F5A-326057BC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2D14-3DF3-42BC-85E4-20268DD2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CA64-DC87-46F1-BF6F-1EBEC581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59FE-581B-4CC5-82A6-9933A398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6C56-75DA-457F-8216-E06F9E04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D078-EE1A-48C1-8259-B08F72D8478F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1BD3-CAF3-4053-9A10-10EF11385F76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br>
              <a:rPr sz="4700"/>
            </a:br>
            <a:r>
              <a:rPr b="1" lang="cs-CZ" sz="5400" spc="-1" strike="noStrike">
                <a:solidFill>
                  <a:srgbClr val="ffff99"/>
                </a:solidFill>
                <a:latin typeface="Tahoma"/>
              </a:rPr>
              <a:t>1. světová válka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09. 09. 201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33336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99"/>
                </a:solidFill>
                <a:latin typeface="Arial"/>
              </a:rPr>
              <a:t>Bojové letadlo Rakouska-Uherska </a:t>
            </a:r>
            <a:br>
              <a:rPr sz="2800"/>
            </a:br>
            <a:r>
              <a:rPr b="1" lang="cs-CZ" sz="2800" spc="-1" strike="noStrike">
                <a:solidFill>
                  <a:srgbClr val="ffff99"/>
                </a:solidFill>
                <a:latin typeface="Arial"/>
              </a:rPr>
              <a:t>Hansa-Brandenburg B.I, vyráběné i po válce</a:t>
            </a:r>
            <a:r>
              <a:rPr b="0" lang="cs-CZ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82" name="Object 3"/>
          <p:cNvGraphicFramePr/>
          <p:nvPr/>
        </p:nvGraphicFramePr>
        <p:xfrm>
          <a:off x="395280" y="1773360"/>
          <a:ext cx="835344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3534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Blíží se konec 1. světové válk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roce 1918 v Evropě zuřila válka již pátým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kem. Byla to válka velmi ničivá, bylo do ní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apojeno 70 milionů lidí ze 35 států.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ese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ilionů lidí se z ní nevrátilo a 20 milionů lidí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bylo zmrzačených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posledním roce války se projevovala převah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hody (Velká Británie, Francie a Rusko)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ěmecká a rakouskou – uherská vojska byl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slabena velkými ztrátami a ustupovala ze svých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zic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Vojáci u děl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87" name="Object 3"/>
          <p:cNvGraphicFramePr/>
          <p:nvPr/>
        </p:nvGraphicFramePr>
        <p:xfrm>
          <a:off x="395280" y="1125360"/>
          <a:ext cx="84247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4247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Čeští a slovenští vojáci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Čeští a slovenští vojáci odmítali válčit z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izí zájmy – za císaře a Rakousko –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Uhersko. V armádě začala upadat bojová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orálka, množil se počet útěků z válk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(vojenští zběhové) nebo přeběhů do zajetí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i, kterým se nedařilo utéct, se sam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raňovali, aby byli posláni do polní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emocnice = polního lazaretu a zd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ůstávali co nejdéle, aby se vyhnuli bojů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Vojenské vzpour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V první polovině r. 1918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nespokojenost vojáků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yvrcholila odmítnutím poslušnosti císaři 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dalších bojů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ejvětší vzpoury: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v Kotorské, Kragujevci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Rimavské Sobotě a Rumburku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ojenské úřady je sice potlačily, ale armáda s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stupně rozpadal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lní soudy tuto neposlušnost velmi tvrdě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trestaly, v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Rumburku bylo zastřeleno 10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vojáků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okamžitě po rozsudku.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99"/>
                </a:solidFill>
                <a:latin typeface="Arial"/>
              </a:rPr>
              <a:t>Rumburská poprav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94" name="Object 3"/>
          <p:cNvGraphicFramePr/>
          <p:nvPr/>
        </p:nvGraphicFramePr>
        <p:xfrm>
          <a:off x="539640" y="1052640"/>
          <a:ext cx="80647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052640"/>
                    <a:ext cx="80647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99"/>
                </a:solidFill>
                <a:latin typeface="Arial"/>
              </a:rPr>
              <a:t>Konec první světové válk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Na podzim roku 1918 bylo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akousko – Uhersko poraženo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 první světová válka skončil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řinesla s sebou </a:t>
            </a:r>
            <a:r>
              <a:rPr b="1" lang="cs-CZ" sz="2800" spc="-1" strike="noStrike">
                <a:solidFill>
                  <a:srgbClr val="00ffff"/>
                </a:solidFill>
                <a:latin typeface="Arial"/>
              </a:rPr>
              <a:t>10 milionů obět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cs-CZ" sz="2800" spc="-1" strike="noStrike">
                <a:solidFill>
                  <a:srgbClr val="00ccff"/>
                </a:solidFill>
                <a:latin typeface="Arial"/>
              </a:rPr>
              <a:t>20 milionů navždy zmrzačených lidí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99"/>
                </a:solidFill>
                <a:latin typeface="Arial"/>
              </a:rPr>
              <a:t>válečné škody přesáhly několik miliard dolarů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99"/>
                </a:solidFill>
                <a:latin typeface="Arial"/>
              </a:rPr>
              <a:t>Fronta hladových dětí čekající </a:t>
            </a:r>
            <a:br>
              <a:rPr sz="4000"/>
            </a:br>
            <a:r>
              <a:rPr b="0" lang="cs-CZ" sz="4000" spc="-1" strike="noStrike">
                <a:solidFill>
                  <a:srgbClr val="ffff99"/>
                </a:solidFill>
                <a:latin typeface="Arial"/>
              </a:rPr>
              <a:t>na polévku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250920" y="1484280"/>
          <a:ext cx="86421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84280"/>
                    <a:ext cx="86421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2. stupeň základní školy praktické. 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4. díl. 1. vydání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Praha : Parta, 2010. ISBN 9788073201241. s. 7 - 12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99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9-09] dostupné pod licencí Creative Commons – </a:t>
            </a:r>
            <a:r>
              <a:rPr b="0" lang="cs-CZ" sz="16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František Ferdinan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Franzferdinand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Dvouplošní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Aero_Ae-01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ojáci u děl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Turkish_howitzer_10.5cm_leFH_98_09_LOC_00121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ojáci za tanke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Canadian_tank_and_soldiers_Vimy_1917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Fronta hladových dětí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Fronta_hladov%C3%BDch_d%C4%9Bt%C3%AD_%C4%8Dekaj%C3%ADc%C3%AD_na_pol%C3%A9vku_1_WW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Rumburská poprav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Rumbursk%C3%A1_vzpoura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21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79280" y="2637000"/>
          <a:ext cx="8785440" cy="402732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 světov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válk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uvádí příčiny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a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ůsledky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1. světové války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být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seznámen s příčinami a politickými,  sociálními a kulturními důsledky 1. světové války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9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99"/>
                </a:solidFill>
                <a:latin typeface="Arial"/>
              </a:rPr>
              <a:t>Atentát na následníka trůn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minkou k rozpoutání 1. světové války se stal </a:t>
            </a:r>
            <a:r>
              <a:rPr b="1" lang="cs-CZ" sz="3600" spc="-1" strike="noStrike">
                <a:solidFill>
                  <a:srgbClr val="0099cc"/>
                </a:solidFill>
                <a:latin typeface="Arial"/>
              </a:rPr>
              <a:t>atentát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v </a:t>
            </a:r>
            <a:r>
              <a:rPr b="1" lang="cs-CZ" sz="3600" spc="-1" strike="noStrike">
                <a:solidFill>
                  <a:srgbClr val="cc3300"/>
                </a:solidFill>
                <a:latin typeface="Arial"/>
              </a:rPr>
              <a:t>Sarajevu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na rakouského následníka trůnu –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cc"/>
                </a:solidFill>
                <a:latin typeface="Arial"/>
              </a:rPr>
              <a:t>Františka Ferdinanda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alo se to </a:t>
            </a:r>
            <a:r>
              <a:rPr b="1" lang="cs-CZ" sz="3600" spc="-1" strike="noStrike">
                <a:solidFill>
                  <a:srgbClr val="00cc99"/>
                </a:solidFill>
                <a:latin typeface="Arial"/>
              </a:rPr>
              <a:t>24. června roku 1914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kutečným důvodem rozpoutání války však bylo nepřátelství mezi nejsilnějšími evropskými státy – Německem, Francií a Anglií. Tyto státy se nemohly dohodnout na rozdělení světových kolonií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99"/>
                </a:solidFill>
                <a:latin typeface="Arial"/>
              </a:rPr>
              <a:t>František Ferdinand s rodinou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68" name="Object 3"/>
          <p:cNvGraphicFramePr/>
          <p:nvPr/>
        </p:nvGraphicFramePr>
        <p:xfrm>
          <a:off x="2340000" y="1052640"/>
          <a:ext cx="446400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052640"/>
                    <a:ext cx="44640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280" y="158760"/>
            <a:ext cx="878544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99"/>
                </a:solidFill>
                <a:latin typeface="Arial"/>
              </a:rPr>
              <a:t>Mým národům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ěmito slovy začíná prohlášení rakouského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ísaře Františka Josefa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e dne </a:t>
            </a:r>
            <a:r>
              <a:rPr b="1" lang="cs-CZ" sz="3600" spc="-1" strike="noStrike">
                <a:solidFill>
                  <a:srgbClr val="00cc99"/>
                </a:solidFill>
                <a:latin typeface="Arial"/>
              </a:rPr>
              <a:t>28. července 1914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ísař oznamuje vyhlášení války Srbsku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o byl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99cc"/>
                </a:solidFill>
                <a:latin typeface="Arial"/>
              </a:rPr>
              <a:t>začátek 1. světové války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Nepřátelské tábor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Do války se brzy zapojily i ostatní státy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Rozdělily se do dvou táborů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ffff"/>
                </a:solidFill>
                <a:latin typeface="Arial"/>
              </a:rPr>
              <a:t>1. Trojspolek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– Německo, Rakousko – Uhersko, Itálie (ta ale pak přestoupila na stranu Dohody) a další (Bulharsko aj.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ccff"/>
                </a:solidFill>
                <a:latin typeface="Arial"/>
              </a:rPr>
              <a:t>2. Dohoda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– Anglie, Francie, Rusk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99"/>
                </a:solidFill>
                <a:latin typeface="Arial"/>
              </a:rPr>
              <a:t>Průběh 1. světové válk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93963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počátku se věřilo, že válka bude trvat jen pá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ýdnů, ale vždy, když jedna armáda vyrazil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 útoku, byla za obrovských ztrát zahnána zpě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álka se tak nečekaně protáhla na rok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yly používány </a:t>
            </a:r>
            <a:r>
              <a:rPr b="1" lang="cs-CZ" sz="3200" spc="-1" strike="noStrike">
                <a:solidFill>
                  <a:srgbClr val="00ffff"/>
                </a:solidFill>
                <a:latin typeface="Arial"/>
              </a:rPr>
              <a:t>nové typy zbra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Němci jako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vní zaútočili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travnými plyn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kterými vyřadil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 boje tisíce anglických vojáků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99"/>
                </a:solidFill>
                <a:latin typeface="Arial"/>
              </a:rPr>
              <a:t>Pokračování bojů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ěmci používali i </a:t>
            </a:r>
            <a:r>
              <a:rPr b="1" lang="cs-CZ" sz="2800" spc="-1" strike="noStrike">
                <a:solidFill>
                  <a:srgbClr val="ffff99"/>
                </a:solidFill>
                <a:latin typeface="Arial"/>
              </a:rPr>
              <a:t>ponork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které byly velmi obávano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braní. Potápěli všechny lodě plující pod cizí vlajkou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větnu 191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potopili Němci </a:t>
            </a:r>
            <a:r>
              <a:rPr b="1" lang="cs-CZ" sz="2800" spc="-1" strike="noStrike">
                <a:solidFill>
                  <a:srgbClr val="00cc99"/>
                </a:solidFill>
                <a:latin typeface="Arial"/>
              </a:rPr>
              <a:t>parník Lusitani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n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terém bylo mnoho bohatých Američanů – USA s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ipojily k válce na stranu Dohody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ngličané vynalezli </a:t>
            </a:r>
            <a:r>
              <a:rPr b="1" lang="cs-CZ" sz="2800" spc="-1" strike="noStrike">
                <a:solidFill>
                  <a:srgbClr val="00ffff"/>
                </a:solidFill>
                <a:latin typeface="Arial"/>
              </a:rPr>
              <a:t>pancéřový tank</a:t>
            </a:r>
            <a:r>
              <a:rPr b="0" lang="cs-CZ" sz="2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ále častěji byla používána 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bojová letadl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nejdřív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 průzkumu, později i k bombardování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álečným pilotům se říkalo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„rytíři nebes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“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Vojáci za tankem během bitv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95280" y="1052640"/>
          <a:ext cx="8353440" cy="54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052640"/>
                    <a:ext cx="835344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09:17:51Z</dcterms:created>
  <dc:creator>Hana Zimová</dc:creator>
  <dc:description/>
  <dc:language>en-US</dc:language>
  <cp:lastModifiedBy>martina</cp:lastModifiedBy>
  <dcterms:modified xsi:type="dcterms:W3CDTF">2013-06-09T07:32:17Z</dcterms:modified>
  <cp:revision>33</cp:revision>
  <dc:subject/>
  <dc:title>  1. světová válka</dc:title>
</cp:coreProperties>
</file>