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0CF3-36E8-4413-B183-1DF001D0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0A6A-F63E-49FB-9F75-D6E2CC57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205D-D150-431E-AF92-0992D33F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590D-56D1-465D-84F4-888D36EF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3FDF-C759-4E56-9E9D-504C7671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86C6-8B06-4067-9D9B-EE1856F2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319B-D525-43CD-BC52-E3F7B944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4AD0-37FF-427F-9839-0B6052C7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0A9E-B0E9-4FDA-8EB0-642DAD6F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A72C-2AD1-420A-B56F-A041120F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B2A1-B02A-4E0B-BCC9-5E6E8578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B2EC-080B-4F73-9EA4-4E0C991F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BC60-4E27-4E4D-AB7C-9321B5E0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0979-DAA2-42D7-833A-BF96BDFA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3FF3-0F49-45E1-BC15-8C5F2266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F909-13E0-4681-A8A7-72A18889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5709-0006-4DFE-A652-72984B02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B004-05BE-4A76-A2AD-F57DE7CC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13A4-231E-4AF7-ABA4-23BD78F7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2A6D-0A6E-4E0E-882B-66589D96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966F-C790-44BD-981D-8C266146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27D3-F086-4CDB-A716-22692B96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2CCC-4028-42E0-86E4-F662BE52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FB35-7004-4837-96DA-C45456D7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600F-F29D-480D-B43E-8E221CCF9F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FB33-D0A6-4026-9E09-9D518902C45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dfdef6"/>
                </a:solidFill>
                <a:latin typeface="Arial"/>
              </a:rPr>
              <a:t>Únor 1948 - převrat</a:t>
            </a:r>
            <a:endParaRPr b="0" lang="en-US" sz="5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5. 2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19280" y="476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Ekonomická a politická kriz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0" lang="cs-CZ" sz="3200" spc="-1" strike="noStrike">
                <a:solidFill>
                  <a:srgbClr val="66ff99"/>
                </a:solidFill>
                <a:latin typeface="Arial"/>
              </a:rPr>
              <a:t>politickým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blémům se přidaly i problémy 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ekonomické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Republika měla málo surovin, pracovních sil, ceny rostly, klesla zemědělská výroba, průmysl zaostá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ši ekonomové proto přijali pozvání na konferenci do Paříže v červenci 1947, kde se jednalo  o americké pomoci Evropě – tzv.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Marshallův plá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li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šak naší republice tuto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moc zakáza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ČSR jeho nátlaku podleh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Ohrožená demokraci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blížícím se rokem 1948 ostatní strany pochopily, že KSČ chce převzít veškerou moc ve státě, protože všechna důležitá místa byla postupně obsazena komunisty oddaných Gottwaldov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munisté využili nepokojů proti ostatním politickým stranám a přesvědčily většinu lidí, že když se stát zbaví továrníků a statkářů, bude se jim žít lé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Uvěřili heslu: „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Když bude vše patřit dělníkům a rolníkům, nebude bíd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Arial"/>
              </a:rPr>
              <a:t>Únor 1948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ezident Beneš ustoupil tlaku komunistů, aby zabránil krveprolití, a </a:t>
            </a:r>
            <a:r>
              <a:rPr b="1" lang="cs-CZ" sz="3600" spc="-1" strike="noStrike">
                <a:solidFill>
                  <a:srgbClr val="ffff66"/>
                </a:solidFill>
                <a:latin typeface="Arial"/>
              </a:rPr>
              <a:t>25. února 1948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 přijal demisi nekomunistických ministr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ak byla v Československu </a:t>
            </a:r>
            <a:r>
              <a:rPr b="1" i="1" lang="cs-CZ" sz="3600" spc="-1" strike="noStrike">
                <a:solidFill>
                  <a:srgbClr val="66ff99"/>
                </a:solidFill>
                <a:latin typeface="Arial"/>
              </a:rPr>
              <a:t>nastolena TOTALIT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= nedemokratická 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emise = odstoupení ze svého úř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Edvard Beneš </a:t>
            </a:r>
            <a:br>
              <a:rPr sz="4000"/>
            </a:br>
            <a:r>
              <a:rPr b="0" lang="cs-CZ" sz="2800" spc="-1" strike="noStrike">
                <a:solidFill>
                  <a:srgbClr val="dfdef6"/>
                </a:solidFill>
                <a:latin typeface="Arial"/>
              </a:rPr>
              <a:t>(28. května 1884 – 3. září 1948) a s manželkou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2" name="Object 3"/>
          <p:cNvGraphicFramePr/>
          <p:nvPr/>
        </p:nvGraphicFramePr>
        <p:xfrm>
          <a:off x="4643280" y="1341360"/>
          <a:ext cx="42498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341360"/>
                    <a:ext cx="42498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7"/>
          <p:cNvGraphicFramePr/>
          <p:nvPr/>
        </p:nvGraphicFramePr>
        <p:xfrm>
          <a:off x="423720" y="1557360"/>
          <a:ext cx="354996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720" y="1557360"/>
                    <a:ext cx="354996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Slovníče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66"/>
                </a:solidFill>
                <a:latin typeface="Arial"/>
              </a:rPr>
              <a:t>Co znamená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Znárodně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Demi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Totali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66"/>
                </a:solidFill>
                <a:latin typeface="Arial"/>
              </a:rPr>
              <a:t>Odpověď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Znárodnění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vedení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ukromého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jetku do státního vlastnictv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Demise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= odstoupení ze svého úř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Totalit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= nedemokratická moc nastolená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¨                        komunis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díl. 1. vydání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ISBN 9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788073201241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s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46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226 - 231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šechny uveřejněné odkazy [cit. 2012-02-15] dostupné pod licencí Creative Commons – 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http://wikimedia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imberský 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Nuremberg-1-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růvod Maďarsk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Bundesarchiv_Bild_183-R90009,_Budapest,_II._Weltfestspiele,_Festumzug,_tschechische_Delegation_(cropped)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Edvard Bene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Edvard_Bene%C5%A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Edvard Beneš s manželk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Edvard_Benes_with_his_wife_in_1934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65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3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9280" y="1700280"/>
          <a:ext cx="8785440" cy="40608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Únor 1948 - převr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znávaj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í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oválečný vývoj státu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znát průběh a důsledky 2. světové války a nový politický a hospodářský vývoj v Evrop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66"/>
                </a:solidFill>
                <a:latin typeface="Arial"/>
              </a:rPr>
              <a:t>Situace po 2. SV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 2. světové válce Čechy i Slováky nejvíce zajímala jejich společná budoucnost. Během druhé světové války zemřely tisíce lidí, i škody na majetku byly obrovské. Vedle toho bylo nutné vyřešit státní uspořádání a politický systé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bíhala „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árodní očist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“, která měla zajistit potrestání nacistických zločinců, zrádců a spolupracovníků s fašisty, byly rozděleny pozemky a majetky odsunutých Němců a zrádc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66"/>
                </a:solidFill>
                <a:latin typeface="Arial"/>
              </a:rPr>
              <a:t>Norimberský proces</a:t>
            </a: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 – potrestání válečných zločinců 1945 - 1946 </a:t>
            </a:r>
            <a:br>
              <a:rPr sz="4000"/>
            </a:br>
            <a:r>
              <a:rPr b="0" lang="cs-CZ" sz="3600" spc="-1" strike="noStrike">
                <a:solidFill>
                  <a:srgbClr val="dfdef6"/>
                </a:solidFill>
                <a:latin typeface="Arial"/>
              </a:rPr>
              <a:t>tresty: od 10 let až do doživotí a trest smrti</a:t>
            </a:r>
            <a:br>
              <a:rPr sz="3600"/>
            </a:br>
            <a:r>
              <a:rPr b="0" lang="cs-CZ" sz="3600" spc="-1" strike="noStrike">
                <a:solidFill>
                  <a:srgbClr val="dfdef6"/>
                </a:solidFill>
                <a:latin typeface="Arial"/>
              </a:rPr>
              <a:t>(Göring, Hess a další)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755640" y="2421000"/>
          <a:ext cx="7632720" cy="44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421000"/>
                    <a:ext cx="763272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Národní fron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9396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veškerém dění v poválečném Československ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 podílely politické strany, které byly sdružen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i="1" lang="cs-CZ" sz="3200" spc="-1" strike="noStrike">
                <a:solidFill>
                  <a:srgbClr val="ff0066"/>
                </a:solidFill>
                <a:latin typeface="Arial"/>
              </a:rPr>
              <a:t>Národní frontě Čechů a Slováků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Mimo n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byly povoleny žádné jiné politické stran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cs-CZ" sz="3600" spc="-1" strike="noStrike">
                <a:solidFill>
                  <a:srgbClr val="33cc33"/>
                </a:solidFill>
                <a:latin typeface="Arial"/>
              </a:rPr>
              <a:t>Strany v Národní front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66"/>
                </a:solidFill>
                <a:latin typeface="Arial"/>
              </a:rPr>
              <a:t>Komunistická strana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Nár.socialistická str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ociálně demokratická strana   </a:t>
            </a:r>
            <a:r>
              <a:rPr b="1" lang="cs-CZ" sz="3200" spc="-1" strike="noStrike">
                <a:solidFill>
                  <a:srgbClr val="99ff99"/>
                </a:solidFill>
                <a:latin typeface="Arial"/>
              </a:rPr>
              <a:t>Lidová str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cs-CZ" sz="3200" spc="-1" strike="noStrike">
                <a:solidFill>
                  <a:srgbClr val="ff3399"/>
                </a:solidFill>
                <a:latin typeface="Arial"/>
              </a:rPr>
              <a:t>Slovenská demokratická str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Poválečné hospodářstv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99"/>
                </a:solidFill>
                <a:latin typeface="Arial"/>
              </a:rPr>
              <a:t>Znárodn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jetek (půda, domy …) Němců, zrádců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laborantů, dále soukromý hospodářský majete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 převeden do státního vlastnictv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= byl </a:t>
            </a:r>
            <a:r>
              <a:rPr b="1" i="1" lang="cs-CZ" sz="3600" spc="-1" strike="noStrike">
                <a:solidFill>
                  <a:srgbClr val="ffffff"/>
                </a:solidFill>
                <a:latin typeface="Arial"/>
              </a:rPr>
              <a:t>znárodně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cc33"/>
                </a:solidFill>
                <a:latin typeface="Arial"/>
              </a:rPr>
              <a:t>Systém plánovaného hospodářst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ěl vést k rychlé obnově válkou zničené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spodářství, nadále existovaly i soukromý sek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řemeslná výrob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Volby 1946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květnu 1946 proběhly v ČSR 1. demokratick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rlamentní volby, kterých se účastnily všech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rany Národní fron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vítězila v nich </a:t>
            </a:r>
            <a:r>
              <a:rPr b="1" lang="cs-CZ" sz="3200" spc="-1" strike="noStrike">
                <a:solidFill>
                  <a:srgbClr val="ff0066"/>
                </a:solidFill>
                <a:latin typeface="Arial"/>
              </a:rPr>
              <a:t>Komunistická stra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66"/>
                </a:solidFill>
                <a:latin typeface="Arial"/>
              </a:rPr>
              <a:t>Českoslovens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získala 38 % hlas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Prezident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byl opět zvolen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Edvard Bene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stavením vlády byl pověřen nově zvolen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předseda vlád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99ff99"/>
                </a:solidFill>
                <a:latin typeface="Arial"/>
              </a:rPr>
              <a:t>Klement Gottwal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Průvod v Maďarsku - portréty Gottwalda a Stalina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1" name="Object 3"/>
          <p:cNvGraphicFramePr/>
          <p:nvPr/>
        </p:nvGraphicFramePr>
        <p:xfrm>
          <a:off x="468360" y="1600200"/>
          <a:ext cx="81360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1360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Vliv Sovětského svaz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Československu po volbách 1946 začala síl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oc KSČ a s ní i vliv Stalina, který čím dál tí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íc ovlivňoval dění v zemích osvobozený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v. svazem na konci 2. SV. Chtěl, a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těchto zemích byla nastolena vláda bolševik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oupalo napětí mezi politickými stranami v NF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y pochopily, že KSČ chce převzít vešker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oc, začaly se proto bouř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38:01Z</dcterms:created>
  <dc:creator>Hana Zimová</dc:creator>
  <dc:description/>
  <dc:language>en-US</dc:language>
  <cp:lastModifiedBy>martina</cp:lastModifiedBy>
  <dcterms:modified xsi:type="dcterms:W3CDTF">2013-06-09T07:16:30Z</dcterms:modified>
  <cp:revision>10</cp:revision>
  <dc:subject/>
  <dc:title>  Únor 1948 - převrat</dc:title>
</cp:coreProperties>
</file>