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105-81B0-4CC0-8C09-9873767D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93F-B552-4B88-AD5C-8C2E9E5B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EA0-6639-4710-A115-2FE34F61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F7E-BFB7-4B22-98FC-1C465191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125C-2A38-4638-B273-6ACE6841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6613-358E-456F-8B03-91E762B8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31F1-8E4F-4412-AA47-579C11C6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F82A-C5CC-4188-85BE-327D9E6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7BE0-F6A9-4597-AFF5-0C232836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D46E-A25C-4C6C-9E52-9F012A42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F2D6-0FF2-4CB2-844D-208B574C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625-CF9F-4210-9073-29A411D4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C73A-6118-49F1-9622-D4B5AFD8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D5F6-CCBB-4AB4-8AC4-C0DC5ABE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3A79-B350-41C7-A130-9D2DA08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D2AF-3018-45B4-A468-4D3EF97E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4923-F25D-43B7-A9E8-9241A2E6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41A-AA2F-4500-8345-BEF625D8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983-4912-4022-92BF-DA36F474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CCC-4D16-4967-B16A-E4670468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1FC-18D5-491A-BE08-4F89D2D6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3B8-9571-4E4A-B401-E3B2D341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B05-70DE-430A-BF2A-E769653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517-E23B-4C9C-9BBA-15CD5F20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05AC-27FE-4748-93C2-C27FA75FEFB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C811-B074-4954-8AD7-15DF5F822AA0}" type="slidenum">
              <a:rPr b="0" lang="cs-CZ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Evropsk&#225;_rada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100"/>
            </a:br>
            <a:br>
              <a:rPr sz="6100"/>
            </a:br>
            <a:r>
              <a:rPr b="0" lang="cs-CZ" sz="6100" spc="-1" strike="noStrike">
                <a:solidFill>
                  <a:srgbClr val="ffffcc"/>
                </a:solidFill>
                <a:latin typeface="Arial"/>
              </a:rPr>
              <a:t>Evropská unie</a:t>
            </a:r>
            <a:endParaRPr b="0" lang="en-US" sz="6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Autorem materiálu a všech jeho částí, není-li uvedeno jinak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je Mgr. Hana Zimová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Vytvořeno dne 29. 3. 2012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Nový začátek (New start) CZ.1.07/1.4.00/21.1409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eaeaea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40464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Jednací sál Evropského parlamentu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539640" y="1600200"/>
          <a:ext cx="806472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00200"/>
                    <a:ext cx="806472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Evropská 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(anglicky: </a:t>
            </a:r>
            <a:r>
              <a:rPr b="0" i="1" lang="cs-CZ" sz="3200" spc="-1" strike="noStrike">
                <a:solidFill>
                  <a:srgbClr val="eaeaea"/>
                </a:solidFill>
                <a:latin typeface="Verdana"/>
              </a:rPr>
              <a:t>European Council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je </a:t>
            </a:r>
            <a:r>
              <a:rPr b="1" i="1" lang="cs-CZ" sz="3200" spc="-1" strike="noStrike">
                <a:solidFill>
                  <a:srgbClr val="eaeaea"/>
                </a:solidFill>
                <a:latin typeface="Verdana"/>
              </a:rPr>
              <a:t>jeden z vrcholných orgánů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Evropské uni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Jejími </a:t>
            </a:r>
            <a:r>
              <a:rPr b="1" lang="cs-CZ" sz="3200" spc="-1" strike="noStrike">
                <a:solidFill>
                  <a:srgbClr val="ffff00"/>
                </a:solidFill>
                <a:latin typeface="Verdana"/>
              </a:rPr>
              <a:t>členy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 jsou hlavy států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nebo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předsedové vlád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členských zemí Evropské uni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zasedání se účastní předseda Evropské komis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Působnost Evropské ra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schází se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zpravidla </a:t>
            </a:r>
            <a:r>
              <a:rPr b="1" lang="cs-CZ" sz="2800" spc="-1" strike="noStrike">
                <a:solidFill>
                  <a:srgbClr val="ffff00"/>
                </a:solidFill>
                <a:latin typeface="Verdana"/>
              </a:rPr>
              <a:t>čtyřikrát ročně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na řádném zasedán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dává Unii nezbytné podněty pro její rozvoj a vymezuje její obecné politické směry a priority“ (čl. 15 SEU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V minulosti přijímala tak zásadní politická rozhodnutí, jakým bylo např. přijetí jednotné měny eura, či východní rozšíření Evropské uni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Evropská rada nevykonává legislativní funk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Členové Evropské ra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iz webová stránk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s.wikipedia.org/wiki/Evropsk%C3%A1_ra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ff"/>
                </a:solidFill>
                <a:latin typeface="Arial"/>
              </a:rPr>
              <a:t>Rada Evropské un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stupuje zájmy členských států na evropské úrovn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její hlavní pravomocí je společně s Evropským parlamentem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přijímání legislativ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každý půlrok předsedá Radě jiná země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Evropská komi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sleduje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zájmy Evropské unie jako celk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dohlíží na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dodržování zakládacích smluv E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vypracovává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návrh rozpočtu EU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a provádí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kontrolu jeho plněn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každá země jednoho komisaře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v současnosti je jich tedy 2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ředseda komise je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José Manuel Durão Barroso =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remiér Portugalsk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sídlo má v </a:t>
            </a: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Brusel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ředseda Evropské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kom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José Manuel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Verdana"/>
              </a:rPr>
              <a:t>Durão Barros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5" descr="Barroso"/>
          <p:cNvPicPr/>
          <p:nvPr/>
        </p:nvPicPr>
        <p:blipFill>
          <a:blip r:embed="rId1"/>
          <a:stretch/>
        </p:blipFill>
        <p:spPr>
          <a:xfrm>
            <a:off x="4500720" y="476280"/>
            <a:ext cx="4248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Další institu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Soudní dvůr Evropské uni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dbá nad jednotným výkladem evropského prá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má sídlo v Lucembur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Verdana"/>
              </a:rPr>
              <a:t>Evropská centrální bank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sídlí ve Frankfurtu nad Mohan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spolu s národními centrálními bankami tvoří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Evropský systém centrálních ban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je měnovou bankou pro Eurozón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Evropský účetní dvů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kontroluje hospodaření Unie v Lucembur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Verdana"/>
              </a:rPr>
              <a:t>Hospodářský a sociální výbor a Výbor regionů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- jsou poradní a konzultativní orgány Evropské unie - -- jsou nápomocny Evropskému parlamentu, Radě 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Komis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Sídlo Evropského účetního dvo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5" descr="sídlo evrop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Vstup České republiky do EU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Žádost o vstup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do Evropské unie podala vláda České republiky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17. ledna 1996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edílnou součástí této žádosti bylo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memorandum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 V něm vláda České republiky pod vedením svého předsedy Václava Klause deklarovala (mimo jiné), že </a:t>
            </a:r>
            <a:r>
              <a:rPr b="0" i="1" lang="cs-CZ" sz="3200" spc="-1" strike="noStrike">
                <a:solidFill>
                  <a:srgbClr val="eaeaea"/>
                </a:solidFill>
                <a:latin typeface="Verdana"/>
              </a:rPr>
              <a:t>„</a:t>
            </a:r>
            <a:r>
              <a:rPr b="1" i="1" lang="cs-CZ" sz="3200" spc="-1" strike="noStrike">
                <a:solidFill>
                  <a:srgbClr val="eaeaea"/>
                </a:solidFill>
                <a:latin typeface="Verdana"/>
              </a:rPr>
              <a:t>si uvědomuje prospěšnost a nezvratnost procesu evropské integrace</a:t>
            </a:r>
            <a:r>
              <a:rPr b="0" i="1" lang="cs-CZ" sz="3200" spc="-1" strike="noStrike">
                <a:solidFill>
                  <a:srgbClr val="eaeaea"/>
                </a:solidFill>
                <a:latin typeface="Verdana"/>
              </a:rPr>
              <a:t>“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aeaea"/>
                </a:solidFill>
                <a:latin typeface="Tahoma"/>
              </a:rPr>
              <a:t>č. 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637000"/>
          <a:ext cx="8785440" cy="403848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Evropská uni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hromažďují poznatky o EU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chápat význam událostí v roc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1989 a vítězství demokraci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v naší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  <a:ea typeface="Arial Unicode MS"/>
                        </a:rPr>
                        <a:t>vlast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Smlouva o přistoupení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Smlouva o přistoupení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byla podepsá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16. dubna 2003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v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Aténách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 účasti prezidenta Václava Klau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premiéra Vladimíra Špid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mlouva byla dále podepsána národními parlamenty patnácti starých členských zemí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Verdana"/>
              </a:rPr>
              <a:t>Smlouva vstoupila v platnost o rok později </a:t>
            </a:r>
            <a:r>
              <a:rPr b="1" lang="cs-CZ" sz="4000" spc="-1" strike="noStrike">
                <a:solidFill>
                  <a:srgbClr val="ff66cc"/>
                </a:solidFill>
                <a:latin typeface="Verdana"/>
              </a:rPr>
              <a:t>1. května 2004</a:t>
            </a:r>
            <a:r>
              <a:rPr b="0" lang="cs-CZ" sz="4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Volný pohyb oso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Mnoho starých členských zemí stále neumožnilo volný vstup nových členských států na svůj pracovní trh - 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občané ČR mohli již od vstupu do EU bez omezení pracovat pouze ve Velké Británii, Irsku a Švédsku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Od 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1. května 2006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 se otevřela 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možnost práce v zemích jako je Řecko, Portugalsko, Finsko a Španělsko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Zejména Německo, Rakousko stále svůj pracovní trh neotevřely. Francie tak učinila až v létě 2008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Česká republika se stala </a:t>
            </a:r>
            <a:r>
              <a:rPr b="1" lang="cs-CZ" sz="2400" spc="-1" strike="noStrike">
                <a:solidFill>
                  <a:srgbClr val="ffff00"/>
                </a:solidFill>
                <a:latin typeface="Verdana"/>
              </a:rPr>
              <a:t>22. prosince 2007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 také součástí </a:t>
            </a:r>
            <a:r>
              <a:rPr b="1" i="1" lang="cs-CZ" sz="2400" spc="-1" strike="noStrike">
                <a:solidFill>
                  <a:srgbClr val="ff66cc"/>
                </a:solidFill>
                <a:latin typeface="Verdana"/>
              </a:rPr>
              <a:t>Schengenského prostoru</a:t>
            </a:r>
            <a:r>
              <a:rPr b="1" lang="cs-CZ" sz="2400" spc="-1" strike="noStrike">
                <a:solidFill>
                  <a:srgbClr val="eaeaea"/>
                </a:solidFill>
                <a:latin typeface="Verdana"/>
              </a:rPr>
              <a:t>, který odstraňuje kontroly na hranicích s ostatními zeměmi EU</a:t>
            </a:r>
            <a:r>
              <a:rPr b="0" lang="cs-CZ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Společná měn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řijetí eura se očekává nejdřív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 roce 2020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Tím se usnadní platební styk a cestování zeměmi Evropské měnové uni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Symbol Eur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2050920" y="1197000"/>
          <a:ext cx="518508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197000"/>
                    <a:ext cx="51850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Praha : Parta, 2010. ISBN 9788073201241. s. 63 - 67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Encyklopedie historie lidstva. 1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. české vydání. Praha : Ottovo nakladatelství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2001. ISBN 8071815675. s. 434, 442 - 443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Všechny uveřejněné odkazy [cit. 2012-03-29] dostupné pod licencí Creative Commons – </a:t>
            </a:r>
            <a:r>
              <a:rPr b="0" lang="cs-CZ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lajka EU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Flag_of_Europe.sv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Země v EU globu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_Globe_No_Borders.sv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Jednací sál EP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ropean-parliament-brussels-inside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José Manuel Barros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Jos%C3%A9_Manuel_Barroso_MEDEF_2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Sídlo evropského účetního dvor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rop%C3%A4ischer_Rechnungshof.jp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Symbol Eur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Euro_symbol.sv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700" spc="-1" strike="noStrike">
                <a:solidFill>
                  <a:srgbClr val="ffffcc"/>
                </a:solidFill>
                <a:latin typeface="Arial"/>
              </a:rPr>
              <a:t>Vlajka EU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44400" y="1413000"/>
          <a:ext cx="778356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1413000"/>
                    <a:ext cx="77835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Země v EU glob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19280" y="1341360"/>
          <a:ext cx="56894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41360"/>
                    <a:ext cx="5689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Arial"/>
              </a:rPr>
              <a:t>EVROPSKÁ  UNIE</a:t>
            </a: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cs-CZ" sz="4400" spc="-1" strike="noStrike">
                <a:solidFill>
                  <a:srgbClr val="ffffcc"/>
                </a:solidFill>
                <a:latin typeface="Arial"/>
              </a:rPr>
              <a:t>EU</a:t>
            </a: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je </a:t>
            </a:r>
            <a:r>
              <a:rPr b="1" lang="cs-CZ" sz="3600" spc="-1" strike="noStrike">
                <a:solidFill>
                  <a:srgbClr val="33ccff"/>
                </a:solidFill>
                <a:latin typeface="Verdana"/>
              </a:rPr>
              <a:t>politická a ekonomická unie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, kterou tvoří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27 evropských států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s </a:t>
            </a:r>
            <a:r>
              <a:rPr b="1" lang="cs-CZ" sz="3600" spc="-1" strike="noStrike">
                <a:solidFill>
                  <a:srgbClr val="ff66cc"/>
                </a:solidFill>
                <a:latin typeface="Verdana"/>
              </a:rPr>
              <a:t>500 miliony obyvatel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EU vznikla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v </a:t>
            </a:r>
            <a:r>
              <a:rPr b="1" lang="cs-CZ" sz="3600" spc="-1" strike="noStrike">
                <a:solidFill>
                  <a:srgbClr val="eaeaea"/>
                </a:solidFill>
                <a:latin typeface="Verdana"/>
              </a:rPr>
              <a:t>roce </a:t>
            </a: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1993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na základě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aeaea"/>
                </a:solidFill>
                <a:latin typeface="Verdana"/>
              </a:rPr>
              <a:t>Smlouvy o Evropské unii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Cíl  E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Cílem EU j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ytvoření </a:t>
            </a:r>
            <a:r>
              <a:rPr b="1" lang="cs-CZ" sz="3200" spc="-1" strike="noStrike">
                <a:solidFill>
                  <a:srgbClr val="ffff00"/>
                </a:solidFill>
                <a:latin typeface="Verdana"/>
              </a:rPr>
              <a:t>společného trh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cs-CZ" sz="3200" spc="-1" strike="noStrike">
                <a:solidFill>
                  <a:srgbClr val="ff66cc"/>
                </a:solidFill>
                <a:latin typeface="Verdana"/>
              </a:rPr>
              <a:t>hospodářské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cs-CZ" sz="3200" spc="-1" strike="noStrike">
                <a:solidFill>
                  <a:srgbClr val="ffff00"/>
                </a:solidFill>
                <a:latin typeface="Verdana"/>
              </a:rPr>
              <a:t>měnové unie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odpora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rozvoje a růst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hospodářství,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zaměstnanosti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cs-CZ" sz="3200" spc="-1" strike="noStrike">
                <a:solidFill>
                  <a:srgbClr val="ff66cc"/>
                </a:solidFill>
                <a:latin typeface="Verdana"/>
              </a:rPr>
              <a:t>zlepšování životní úrovně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kvality životního prostředí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K zabezpečení těchto cíl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louží čtyři základní svobody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nitřního trhu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volný pohyb zboží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66cc"/>
                </a:solidFill>
                <a:latin typeface="Verdana"/>
              </a:rPr>
              <a:t>osob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Verdana"/>
              </a:rPr>
              <a:t>služeb</a:t>
            </a: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cs-CZ" sz="3600" spc="-1" strike="noStrike">
                <a:solidFill>
                  <a:srgbClr val="ff66cc"/>
                </a:solidFill>
                <a:latin typeface="Verdana"/>
              </a:rPr>
              <a:t>kapitál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cc"/>
                </a:solidFill>
                <a:latin typeface="Arial"/>
              </a:rPr>
              <a:t>Instituc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Evropský parla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Evropská rada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Rada Evropské uni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cs-CZ" sz="4400" spc="-1" strike="noStrike">
                <a:solidFill>
                  <a:srgbClr val="eaeaea"/>
                </a:solidFill>
                <a:latin typeface="Verdana"/>
              </a:rPr>
              <a:t>Evropská komis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66cc"/>
                </a:solidFill>
                <a:latin typeface="Arial"/>
              </a:rPr>
              <a:t>Evropský parla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ykonává - společně s Radou -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legislativní a rozpočtovou funkc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kládá se ze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zástupců občanů Un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ejvyšší možný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počet členů EP je 751,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nepočítaje předsed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členové EP jsou voleni na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pětileté volební období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sedání Evropského parlamentu se konají v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Bruselu</a:t>
            </a: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 a ve </a:t>
            </a:r>
            <a:r>
              <a:rPr b="1" lang="cs-CZ" sz="3200" spc="-1" strike="noStrike">
                <a:solidFill>
                  <a:srgbClr val="eaeaea"/>
                </a:solidFill>
                <a:latin typeface="Verdana"/>
              </a:rPr>
              <a:t>Štrasburk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8:00:23Z</dcterms:created>
  <dc:creator>Hana Zimová</dc:creator>
  <dc:description/>
  <dc:language>en-US</dc:language>
  <cp:lastModifiedBy>martina</cp:lastModifiedBy>
  <dcterms:modified xsi:type="dcterms:W3CDTF">2013-06-09T07:21:46Z</dcterms:modified>
  <cp:revision>24</cp:revision>
  <dc:subject/>
  <dc:title>Evropská unie</dc:title>
</cp:coreProperties>
</file>