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620-5DDD-4B46-B75D-47A18897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B84-DFAE-45D8-B7BE-B078DA5E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E2A-EBAE-48F4-B1EC-E7027303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1AE-5A9A-426D-81AB-A13129FC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F201-5FF9-4039-AA53-B0FAA105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0D52-2FEE-4C6B-A83E-75DE82D5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7325-C959-44E1-B634-7069630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DB89-248F-41FB-87E9-A3308259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3335-0FDF-4A2B-841A-15ADBC9C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E29-1772-4D3E-985D-B368ACF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1446-D935-4FBC-859C-AD38844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DC9-276E-4567-B7A4-787FCEC5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7434-0A6D-4A56-9F9F-0B979CA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35A-32B3-47D9-A293-6AADF57A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EB0D-348F-4C0C-9D55-4061F785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F8FF-0A84-4081-9412-F03C8976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E481-E385-415B-BF3D-8B9D8B97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2E6-0F6C-42B2-B263-85C09055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BB5-CBD4-42F3-A2CC-32407757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278-526E-4AF4-80F1-403C1C73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CD7-3961-4BA1-A688-BE88964E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292-785F-4A80-A76C-AE188EE6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614-C08A-4297-90D5-AEB80B8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A9C-51F3-4BC8-A9E9-0D2C865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1E6E-10EA-4AB2-994F-8392E4AAA8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AE1C-2D65-4C1F-97E5-BE2E4F4DB7F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eec94"/>
                </a:solidFill>
                <a:latin typeface="Arial"/>
              </a:rPr>
              <a:t>Rok 1989 – sametová revoluce</a:t>
            </a:r>
            <a:endParaRPr b="1" lang="en-US" sz="5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7. 3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54764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Konec komunis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áda komunistů byla u konce, protestní ak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rostly v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átní převr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ý byl nazvá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ff00"/>
                </a:solidFill>
                <a:latin typeface="Times New Roman"/>
              </a:rPr>
              <a:t>„</a:t>
            </a:r>
            <a:r>
              <a:rPr b="1" lang="cs-CZ" sz="4000" spc="-1" strike="noStrike">
                <a:solidFill>
                  <a:srgbClr val="00ff00"/>
                </a:solidFill>
                <a:latin typeface="Times New Roman"/>
              </a:rPr>
              <a:t>sametová“ nebo „něžná“ revolu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ůj nenásilný průbě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amětní deska na Albertově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539640" y="1484280"/>
          <a:ext cx="806472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064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olitické změ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1. listopadu 1989 byla zahájena jednání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tehdejší vlád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7. prosince musela vláda podat demi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Prezid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Gustáv Husák odstoupil a na jeho místo by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9. pro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volen doma i v zahraničí uznávaný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sedou FS se sta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Times New Roman"/>
              </a:rPr>
              <a:t>Václav Havel k 20. výročí revoluc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Václav Havel k 20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ZEMĚ PO 20 LETECH OPĚT VYKROČILA NA CESTU </a:t>
            </a:r>
            <a:r>
              <a:rPr b="0" lang="cs-CZ" sz="5400" spc="-1" strike="noStrike">
                <a:solidFill>
                  <a:srgbClr val="00ff00"/>
                </a:solidFill>
                <a:latin typeface="Times New Roman"/>
              </a:rPr>
              <a:t>SVOBOD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60 - 6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242 - 24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27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ribuna na Václavském náměst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Prague_November89_-_Wenceslas_Monument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Demonstranti na Staroměstském náměst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Prague_November_1989_-_Old_Town_Square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amětní deska na Albertov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Albertov_deska_(01)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áclav Havel k 20. výročí revolu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ttp://commons.wikimedia.org/wiki/File:V%C3%A1clav_Havel_na_V%C3%A1clavsk%C3%A9m_n%C3%A1m%C4%9Bst%C3%AD_17._listopadu_2009c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6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355104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ok 1989 – sametová revolu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chápou události roku 198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chápat význam událostí v roce 19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 vítězství demokracie v naší 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eec94"/>
                </a:solidFill>
                <a:latin typeface="Times New Roman"/>
              </a:rPr>
              <a:t>Charta 77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tšina československých občanů odsuzovala sovětskou okupa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nesouhlasila s totalitním režimem u ná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álokdo však našel odvahu vystoupit proti ně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 1977 vydala skupina občanů prohlášení tz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Chartu 1977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žadovali svobodu a spravedlnost pro všechny, dodržování lidských prá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u z hlavních postav byl 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Situace před rokem 1989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ílem Charty bylo poukazovat na bezpráví, i na problémy v hospodářstv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noho z chartistů bylo pronásledováno a vězně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vůj odpor k režimu vyjadřovali také písničkáři na koncertech, herci v divadlech, byly tajně vydávány knihy zakázaných spisovatel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le více lidí se scházelo a protestovalo proti režimu při různých příležitostech, jako např. okupace sovětskými vojsky, upálení Jana Pala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monstrace byly potlačovány sil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ád komunistického reži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ervnu 1989 Václav Havel a jeho přátelé zorganizovali petici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Několik vě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požadovali svobodu  a demokracii. Podepsalo ji 40 tisíc l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rpnu 1989 proběhly demonstrace k 21. výročí okupace, komunisté si již s odporem občanů nevěděli rad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rdě zasáhli proti studentské manifestaci k výročí úmrt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na Opletal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 roce 1939 byl postřelen nacisty) dne 17. listopadu 198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Sametov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pomínkové shromáždění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7. listopad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řerostlo v </a:t>
            </a: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mohutnou demonstr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ti komunistickému reži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8. listopad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spojili pražští vysokoškoláci s herci a vyhlás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otestní stáv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nně se konaly demonstrace na Václavském náměstí, k lidem promlouvalo mnoho řečníků, jako Václav Havel, Alexandr Dubček aj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Tribuna na Václavském náměst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324000" y="1557360"/>
          <a:ext cx="84247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4247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eec94"/>
                </a:solidFill>
                <a:latin typeface="Times New Roman"/>
              </a:rPr>
              <a:t>Demonstranti na Staroměstském náměstí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539640" y="1628640"/>
          <a:ext cx="8064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064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Občanské fóru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ze bylo ustanove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OBČANSKÉ FÓRU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(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ele  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áclavem Hav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cílem by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vržení komunistickéh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ežim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Českosloven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stolení demokrac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51:28Z</dcterms:created>
  <dc:creator>Hana Zimová</dc:creator>
  <dc:description/>
  <dc:language>en-US</dc:language>
  <cp:lastModifiedBy>martina</cp:lastModifiedBy>
  <dcterms:modified xsi:type="dcterms:W3CDTF">2013-06-09T07:19:32Z</dcterms:modified>
  <cp:revision>25</cp:revision>
  <dc:subject/>
  <dc:title>Rok 1989 – sametová revoluce</dc:title>
</cp:coreProperties>
</file>