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942-26BD-4E8C-98C3-3F436C88D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F838-9AB6-4EEF-91BB-A540027C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608-1765-499A-8AB1-A3763A61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7791-736A-4814-8394-8EB740E0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55C4-7788-4A8B-8B11-C4FADCD8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487F-6D7D-4741-A000-1A0555B2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579E-5567-414F-8B20-CC85FD35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ACF2-9584-4A1E-9848-0FA27CA7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1C87-12E2-4B81-92BC-AF15D48D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00EE-6C41-48AF-906B-3DBF3671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4A05-89CC-4A7E-9937-9F6ECABA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037-28B1-4530-91EC-97718F0F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E912-F35C-4FCD-8182-EFE236F5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FD1F-A363-4FAB-AB1C-3BA208D4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EF81-FD45-4D1C-9D92-1C4D79A4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A2D5-AE2A-452E-8B01-124C9DF2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8CD7-E7C5-4335-BB5C-7CAB50AC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D4E4-1DEC-44C1-8F9F-44841ADE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ECE5-9AEB-4EF6-B757-90F3F1E3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4F5E-403B-465B-996B-5D64904A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686-BE16-4201-91F6-7F67BF3E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9BA0-7D4B-4521-8AF8-0926D19D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D8B-D222-4DCF-8049-51410F13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5E74-E52F-4C42-96A3-F5D6CF4A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7638-D44D-429E-BCDB-10FF0BBA9CD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B9A4-E81B-4E80-ABEE-05D48A84189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hyperlink" Target="http://commons.wikimedia.org/wiki/File:Brno,_kostel_(10)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ffff66"/>
                </a:solidFill>
                <a:latin typeface="Arial"/>
              </a:rPr>
              <a:t>Baroko,</a:t>
            </a:r>
            <a:br>
              <a:rPr sz="5800"/>
            </a:br>
            <a:r>
              <a:rPr b="0" lang="cs-CZ" sz="5800" spc="-1" strike="noStrike">
                <a:solidFill>
                  <a:srgbClr val="ffff66"/>
                </a:solidFill>
                <a:latin typeface="Arial"/>
              </a:rPr>
              <a:t> prvky baroka</a:t>
            </a:r>
            <a:endParaRPr b="0" lang="en-US" sz="5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17. 5. 201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18900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bbd71"/>
                </a:solidFill>
                <a:latin typeface="Arial"/>
              </a:rPr>
              <a:t>Rytířský sál s kazetovým stropem </a:t>
            </a:r>
            <a:br>
              <a:rPr sz="4000"/>
            </a:br>
            <a:r>
              <a:rPr b="0" lang="cs-CZ" sz="4000" spc="-1" strike="noStrike">
                <a:solidFill>
                  <a:srgbClr val="dbbd71"/>
                </a:solidFill>
                <a:latin typeface="Arial"/>
              </a:rPr>
              <a:t>v Častolovicí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78" name="Object 3"/>
          <p:cNvGraphicFramePr/>
          <p:nvPr/>
        </p:nvGraphicFramePr>
        <p:xfrm>
          <a:off x="324000" y="1600200"/>
          <a:ext cx="849600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00200"/>
                    <a:ext cx="849600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bbd71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stupeň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 základní školy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praktické. 3. díl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24 - 25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110 - 111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bbd71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5-17] dostupné pod licencí Creative Commons – </a:t>
            </a:r>
            <a:r>
              <a:rPr b="0" lang="cs-CZ" sz="1600" spc="-1" strike="noStrike" u="sng">
                <a:solidFill>
                  <a:srgbClr val="ffcc66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ýzdoba kostela v Brně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commons.wikimedia.org/wiki/File:Brno,_kostel_(10)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Kostel sv. Mikuláše Prah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ttp://commons.wikimedia.org/wiki/File:Chram_sv_Mikulase_z_upati_Petrina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Výzdoba kostel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ttp://commons.wikimedia.org/wiki/File:Chram_sv_Mikulase_interier_kopule2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Socha Jana Nepomuckého na Karlově mostě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ttp://commons.wikimedia.org/wiki/File:Jan_Nepomucky_na_Karlove_moste_detail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ámek v Častolovicí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ttp://commons.wikimedia.org/wiki/File:%C4%8Castolovice6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Rytířský sá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ttp://commons.wikimedia.org/wiki/File:Rytirak2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20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79280" y="2637000"/>
          <a:ext cx="8785440" cy="3855960"/>
        </p:xfrm>
        <a:graphic>
          <a:graphicData uri="http://schemas.openxmlformats.org/drawingml/2006/table">
            <a:tbl>
              <a:tblPr/>
              <a:tblGrid>
                <a:gridCol w="3384720"/>
                <a:gridCol w="5400720"/>
              </a:tblGrid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oko, prvky baro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 poznávají barokní kulturu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znát rozdíly způsobu života společnosti jednotlivých historických etap v kontextu světových děj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66"/>
                </a:solidFill>
                <a:latin typeface="Arial"/>
              </a:rPr>
              <a:t>Rozvoj baroka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928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 skončení třicetileté války (po Bílé hoř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 českých zemích nastává rozma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barokního umě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ový umělecký styl se projevuje ve </a:t>
            </a:r>
            <a:r>
              <a:rPr b="1" lang="cs-CZ" sz="2800" spc="-1" strike="noStrike">
                <a:solidFill>
                  <a:srgbClr val="00ff00"/>
                </a:solidFill>
                <a:latin typeface="Verdana"/>
              </a:rPr>
              <a:t>stavitelství, módě, malířství, sochařství, hudbě i literatuře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Cílem baroka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bylo odpoutat pozornost člověka od běžných starostí a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obrátit je k bohu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a ke katolické víř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66"/>
                </a:solidFill>
                <a:latin typeface="Arial"/>
              </a:rPr>
              <a:t>Stavitelstv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28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jvýrazněji se vliv baroka projevi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e stavitelství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tavěly se </a:t>
            </a:r>
            <a:r>
              <a:rPr b="1" lang="cs-CZ" sz="3200" spc="-1" strike="noStrike">
                <a:solidFill>
                  <a:srgbClr val="ff99ff"/>
                </a:solidFill>
                <a:latin typeface="Verdana"/>
              </a:rPr>
              <a:t>chrámy, paláce a zámky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teré udivovaly a udivují dodnes svou </a:t>
            </a: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mohutností a krásou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yly velmi </a:t>
            </a: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bohatě zdobené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zvenku i zevnitř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 výzdobě patřilo i velké množstv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Verdana"/>
              </a:rPr>
              <a:t>soch a velkých obrazů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e zlacených rámech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hrámy zastřešovala </a:t>
            </a:r>
            <a:r>
              <a:rPr b="0" lang="cs-CZ" sz="3200" spc="-1" strike="noStrike">
                <a:solidFill>
                  <a:srgbClr val="00ffff"/>
                </a:solidFill>
                <a:latin typeface="Verdana"/>
              </a:rPr>
              <a:t>velká kopule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bbd71"/>
                </a:solidFill>
                <a:latin typeface="Arial"/>
              </a:rPr>
              <a:t>Bohatá barokní výzdoba v kostele Svatých Janů v Brně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File:Brno, kostel (10).jpg"/>
          <p:cNvPicPr/>
          <p:nvPr/>
        </p:nvPicPr>
        <p:blipFill>
          <a:blip r:embed="rId1"/>
          <a:stretch/>
        </p:blipFill>
        <p:spPr>
          <a:xfrm>
            <a:off x="755640" y="1268280"/>
            <a:ext cx="762012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bbd71"/>
                </a:solidFill>
                <a:latin typeface="Arial"/>
              </a:rPr>
              <a:t>Kostel sv. Mikuláše na Malé Straně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5" descr="File:Chram sv Mikulase z upati Petrina.jpg"/>
          <p:cNvPicPr/>
          <p:nvPr/>
        </p:nvPicPr>
        <p:blipFill>
          <a:blip r:embed="rId1"/>
          <a:stretch/>
        </p:blipFill>
        <p:spPr>
          <a:xfrm>
            <a:off x="684360" y="1268280"/>
            <a:ext cx="76197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Malířská výzdoba v kopuli Kostela sv. Mikuláš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5" descr="File:Chram sv Mikulase interier kopule2.jpg"/>
          <p:cNvPicPr/>
          <p:nvPr/>
        </p:nvPicPr>
        <p:blipFill>
          <a:blip r:embed="rId1"/>
          <a:stretch/>
        </p:blipFill>
        <p:spPr>
          <a:xfrm>
            <a:off x="97164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920" y="333360"/>
            <a:ext cx="3960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ocha sv. Jan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epomuckého n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arlově mostě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 Pra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File:Jan Nepomucky na Karlove moste detail.jpg"/>
          <p:cNvPicPr/>
          <p:nvPr/>
        </p:nvPicPr>
        <p:blipFill>
          <a:blip r:embed="rId1"/>
          <a:stretch/>
        </p:blipFill>
        <p:spPr>
          <a:xfrm>
            <a:off x="4500720" y="115920"/>
            <a:ext cx="446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bbd71"/>
                </a:solidFill>
                <a:latin typeface="Arial"/>
              </a:rPr>
              <a:t>Zámek v Častolovicích</a:t>
            </a:r>
            <a:br>
              <a:rPr sz="4000"/>
            </a:br>
            <a:r>
              <a:rPr b="0" lang="cs-CZ" sz="4000" spc="-1" strike="noStrike">
                <a:solidFill>
                  <a:srgbClr val="dbbd71"/>
                </a:solidFill>
                <a:latin typeface="Arial"/>
              </a:rPr>
              <a:t>ve východních Čechá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5" descr="800PX-~1 častolovice"/>
          <p:cNvPicPr/>
          <p:nvPr/>
        </p:nvPicPr>
        <p:blipFill>
          <a:blip r:embed="rId1"/>
          <a:stretch/>
        </p:blipFill>
        <p:spPr>
          <a:xfrm>
            <a:off x="395280" y="1413000"/>
            <a:ext cx="842472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41:40Z</dcterms:created>
  <dc:creator>Hana Zimová</dc:creator>
  <dc:description/>
  <dc:language>en-US</dc:language>
  <cp:lastModifiedBy>martina</cp:lastModifiedBy>
  <dcterms:modified xsi:type="dcterms:W3CDTF">2013-06-09T07:31:38Z</dcterms:modified>
  <cp:revision>25</cp:revision>
  <dc:subject/>
  <dc:title>  Baroko,  prvky baroka</dc:title>
</cp:coreProperties>
</file>