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3A4-0987-47FC-87A4-9052A74E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FFF-75B2-4881-8402-36CE3B5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86D-35A5-448F-B791-4EB1511A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451-6F41-47A7-BEEE-10D20D45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69E-81A1-4817-BFEC-AE7A544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280-3007-45AB-91F0-DB3EF287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CDA-9D1D-42F5-B28A-92F1F1D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020-3EF6-4119-B4F2-A10DDFF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9D6-5FE8-4B6E-8358-2C00706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384-AEF3-4877-B720-1EC4C57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851-87C1-4923-A883-EBAF191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B19-88C3-4259-84C4-C1ABB0D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4F5-980B-49E3-8DAE-D39F31B79C9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Edvard_Bene&#353;_podpis.jpg" TargetMode="Externa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Edvard Beneš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6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324000" y="333360"/>
          <a:ext cx="4968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968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5580000" y="2349000"/>
            <a:ext cx="3106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E. Beneš bě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návště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brněnské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četnict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ahoma"/>
              </a:rPr>
              <a:t>v r. 19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Po vál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jaře 1945 Beneš odcestoval přes Moskvu 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vobozené území čs. republi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V dubnu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 slovenských Koši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menoval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první poválečnou vlá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6. května přijel d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28. října 1945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yl potvrzen ve funkc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prezidenta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následně byl 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znovu zvol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Tahoma"/>
              </a:rPr>
              <a:t>19. června 1946</a:t>
            </a:r>
            <a:r>
              <a:rPr b="0" lang="cs-CZ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Odstoupení z funkce prezidenta, úmrtí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větnu 1948 se prezident pokusil vzepří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stům, když odmítl podepsat nov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oslovenskou ústav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síc poté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7. června19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odstoupil z úřa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preziden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jeho nástupcem se pak stal Kl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ottwa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nedlouho 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3. září roku 1948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Edvard Bene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emře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 Sezimově Ús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8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4. dí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1. vydání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aha : Parta, 2010. ISBN 9788073201241. s. 2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Všechny uveřejněné odkazy [cit. 2012-10-16] dostupné pod licencí Creative Commons –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dvard Bene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podpis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s manželkou 19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s_with_his_wife_in_1934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. Beneš během návštěvy brněnského četnictva 19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Edvard_Bene%C5%A1_na_n%C3%A1v%C5%A1t%C4%9Bv%C4%9B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4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773360"/>
          <a:ext cx="8785440" cy="515772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. Edvard Bene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áci si vybav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Ž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 ukáží protektorát Čechy a Morava, Slovenský stá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V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Člověk a společnos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D - 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znát průběh a důsledky 2. světové války a nový  politický a hospodářský vývoj v Evrop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Dr. Edvard Bene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907920"/>
            <a:ext cx="468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Narodil se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28. 5. 18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Kožlanech, Rak. - 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 3. září 19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v Sezimově Ústí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zdělání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FF Univerzity Karlov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Praha, Sorbonna Fran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Beneš"/>
          <p:cNvPicPr/>
          <p:nvPr/>
        </p:nvPicPr>
        <p:blipFill>
          <a:blip r:embed="rId2"/>
          <a:stretch/>
        </p:blipFill>
        <p:spPr>
          <a:xfrm>
            <a:off x="4500720" y="836640"/>
            <a:ext cx="4467240" cy="57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179280" y="4724280"/>
          <a:ext cx="5046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724280"/>
                    <a:ext cx="50468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"/>
              </a:rPr>
              <a:t>Životopis a studia Edvarda Beneš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Edvard Beneš se narodil v Kožlanech na Rakovnic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jako Eduard, nejmladší syn (10. dítě) rolníka Matě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eneše a jeho manželky Anny Petronily, roz. Benešové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mládí studoval nejprve na gymnáziu v Praze, 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maturitě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ilozofické fakultě pražské Univerz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Karlo - Ferdinandovy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04 studoval ve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Francii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n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orbon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vobodné škole politických nauk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(Ecole libre 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ciences politiques), v roce 1907 v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Berlíně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Paříži se r. 1906 zasnoubil se svou pozdější žen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změnil si křestní jméno z Eduarda na Edva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rancouzská studia Edvard Beneš završil roku 1908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rávnické fakultě v Dijonu doktorskou prací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V roce 1909 pak v Praze složil rigorózní zkoušky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získal titul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doktora filosofie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Tři roky vyučoval na obchodní akademii v Praz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oučasně zkoušel studovat práva (nejprve na české, p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na německé právnické fakultě), studia však nedokonč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 roku 1912 přednášel jako docent na Filozofic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fakultě Univerzity Karlo-Ferdinandov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24000" y="476280"/>
          <a:ext cx="518472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518472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5580000" y="2492280"/>
            <a:ext cx="3564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Edvard Beneš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s manžel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 roce 19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Založení čs. legi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polečně se Štefánikem získal souhlas dohodo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ých mocností se zakládáním českosloven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ojenských jednotek a přispěl tak ke vzni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samostatných legií ve Francii, Rusku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, které se úspěšně zapojily do bojů pr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světové vál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Funk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vyhlášení svrchovanosti Československé republ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října roku 191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 jmenován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ministr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zahraničí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vládě K. Kramá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letech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21–1922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stával Edvard Beneš funk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ředsedy vlád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lancem parlament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enem a místopředsedou Čs. strany národn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ocialistick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významně ovlivňoval její politik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odstoupení T. G. Masaryka 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volen 18. prosi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935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prezidente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Arial"/>
              </a:rPr>
              <a:t>Po Mnichov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o přijetí mnichovského diktátu 5. října 1938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odstoupil a </a:t>
            </a: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22. října 1938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odletěl nejdříve do Velk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Británie, později do Spojených států amerických, k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přednášel na univerzitě v Chicag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Po okupaci Československa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a vyhláš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lovenského státu</a:t>
            </a: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 v březnu 1939 přesídlil 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Londýna a zaslal protest proti německé okupaci Č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a Moravy vládám hlavních světových mocnost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66"/>
                </a:solidFill>
                <a:latin typeface="Arial"/>
              </a:rPr>
              <a:t>Stal se </a:t>
            </a: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vůdčím představitel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Arial"/>
              </a:rPr>
              <a:t>čs. zahraničního odb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0:52:06Z</dcterms:created>
  <dc:creator>Hana Zimová</dc:creator>
  <dc:description/>
  <dc:language>en-US</dc:language>
  <cp:lastModifiedBy>martina</cp:lastModifiedBy>
  <dcterms:modified xsi:type="dcterms:W3CDTF">2013-06-09T07:34:37Z</dcterms:modified>
  <cp:revision>25</cp:revision>
  <dc:subject/>
  <dc:title> Edvard Beneš</dc:title>
</cp:coreProperties>
</file>