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0B5-E3CD-4BD2-8968-45C2C88B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A44-2562-43E6-A31E-2BFCF7A8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687-F6F1-4DA3-8EE4-7CECD760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E6B-9236-4E98-9968-36047BFA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9D1C-EE19-441D-8212-0F0981A4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30DA-6CF9-4047-A2F4-231AA5D3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1BFC-1320-4EE5-B4BB-A16F1D5E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1E8E-2C34-4DDE-B42B-59B3B9CD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F179-044A-4F73-8760-211F3360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64E7-6690-4260-B280-5D664353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268F-2ABB-49CE-94A4-B2B18E6C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C7A-F404-49FE-A24C-FA5A5E1E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BA80-399D-430C-8D92-A885BBCA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28AB-1FF3-47A3-A282-B43D4852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E114-104B-4360-8D38-9C25E0F8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12AE-267D-43FF-8E03-75E8595B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9DA1-CB0C-4C21-96DC-84D786BA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0F9-A3C3-4C63-A449-CDE8E942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B61-2390-491D-B7F9-596968B3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773-8B38-4A2C-B742-7605180B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D7A-4F7A-4C06-956D-4198D3CA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C7B-FBC6-4D22-8755-BD740154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2DA-0E3B-47E7-8DD2-CA140E7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C5C-E068-43A4-B731-A2F229CF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0E8C-E4FB-4355-BF84-ECC7D50599F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F74E-A2B7-4728-954D-59F1E53A947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6312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br>
              <a:rPr sz="5800"/>
            </a:br>
            <a:r>
              <a:rPr b="0" lang="cs-CZ" sz="5800" spc="-1" strike="noStrike">
                <a:solidFill>
                  <a:srgbClr val="ffff00"/>
                </a:solidFill>
                <a:latin typeface="Arial"/>
              </a:rPr>
              <a:t>Rok 1948, 1968 a 1989 pro český stát</a:t>
            </a:r>
            <a:endParaRPr b="0" lang="en-US" sz="5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Autorem materiálu a všech jeho částí, není-li uvedeno jinak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je Mgr. Hana Zimová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Vytvořeno dne 29. 3. 201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Nový začátek (New start) CZ.1.07/1.4.00/21.14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Tahoma"/>
              </a:rPr>
              <a:t>Tento projekt je spolufinancován Evropským sociálním fondem a státním rozpočtem České republi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obrázek 2" descr="Logolink_horizontal_zaklad_RGB"/>
          <p:cNvPicPr/>
          <p:nvPr/>
        </p:nvPicPr>
        <p:blipFill>
          <a:blip r:embed="rId1"/>
          <a:stretch/>
        </p:blipFill>
        <p:spPr>
          <a:xfrm>
            <a:off x="1979640" y="189000"/>
            <a:ext cx="5753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ff00"/>
                </a:solidFill>
                <a:latin typeface="Arial"/>
              </a:rPr>
              <a:t>Sametová revolu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zpomínkové shromáždění </a:t>
            </a:r>
            <a:r>
              <a:rPr b="0" lang="cs-CZ" sz="3200" spc="-1" strike="noStrike">
                <a:solidFill>
                  <a:srgbClr val="ffff00"/>
                </a:solidFill>
                <a:latin typeface="Tahoma"/>
              </a:rPr>
              <a:t>17. listopad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přerostlo v </a:t>
            </a:r>
            <a:r>
              <a:rPr b="1" i="1" lang="cs-CZ" sz="3200" spc="-1" strike="noStrike">
                <a:solidFill>
                  <a:srgbClr val="ffffff"/>
                </a:solidFill>
                <a:latin typeface="Tahoma"/>
              </a:rPr>
              <a:t>mohutnou demonstrac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proti komunistickému režim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8. listopadu se spojili pražští vysokoškoláci s herci a vyhlásili </a:t>
            </a:r>
            <a:r>
              <a:rPr b="1" i="1" lang="cs-CZ" sz="3200" spc="-1" strike="noStrike">
                <a:solidFill>
                  <a:srgbClr val="ffffff"/>
                </a:solidFill>
                <a:latin typeface="Tahoma"/>
              </a:rPr>
              <a:t>protestní stávk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nně se konaly demonstrace na Václavském náměstí, k lidem promlouvalo mnoho řečníků, jako Václav Havel, Alexandr Dubček a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Občanské fóru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Praze bylo ustanoven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OBČANSKÉ FÓRUM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  (O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čele  s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Václavem Havlem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jich cílem bylo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svržení komunistickéh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režim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 Českoslovens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nastolení demokra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Konec komunis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láda komunistů byla u konce, protestní ak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rostly ve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státní převra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který byl nazvá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00"/>
                </a:solidFill>
                <a:latin typeface="Tahoma"/>
              </a:rPr>
              <a:t>„</a:t>
            </a:r>
            <a:r>
              <a:rPr b="1" lang="cs-CZ" sz="3600" spc="-1" strike="noStrike">
                <a:solidFill>
                  <a:srgbClr val="00ff00"/>
                </a:solidFill>
                <a:latin typeface="Tahoma"/>
              </a:rPr>
              <a:t>sametová“ nebo „něžná“ revolu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svůj nenásilný průbě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Politické změn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1. listopadu 1989 byla zahájena jednání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 tehdejší vlád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7. prosince musela vláda podat demi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ahoma"/>
              </a:rPr>
              <a:t>Preziden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Gustáv Husák odstoupil a na jeho místo byl </a:t>
            </a:r>
            <a:r>
              <a:rPr b="1" lang="cs-CZ" sz="3200" spc="-1" strike="noStrike">
                <a:solidFill>
                  <a:srgbClr val="00ff00"/>
                </a:solidFill>
                <a:latin typeface="Tahoma"/>
              </a:rPr>
              <a:t>29. prosin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zvolen doma i v zahraničí uznávaný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Václav Havel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sedou FS se stal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Alexandr Dubček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ahoma"/>
              </a:rPr>
              <a:t>ZEMĚ PO 20 LETECH OPĚT VYKROČILA NA CESTU </a:t>
            </a:r>
            <a:r>
              <a:rPr b="0" lang="cs-CZ" sz="5400" spc="-1" strike="noStrike">
                <a:solidFill>
                  <a:srgbClr val="00ff00"/>
                </a:solidFill>
                <a:latin typeface="Tahoma"/>
              </a:rPr>
              <a:t>SVOBOD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Verdana"/>
              </a:rPr>
              <a:t>Zdro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MÜLLER, Oldřich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pro 2. stupeň základní školy praktické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díl. 1. vydání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Praha : Parta, 20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ISBN 9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788073201241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s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46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5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55, 60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6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KOHOUTKOVÁ, H.; KOMSOVÁ, M. </a:t>
            </a:r>
            <a:r>
              <a:rPr b="0" i="1" lang="cs-CZ" sz="1600" spc="-1" strike="noStrike">
                <a:solidFill>
                  <a:srgbClr val="ffffff"/>
                </a:solidFill>
                <a:latin typeface="Verdana"/>
              </a:rPr>
              <a:t>Dějepis na dlani. 2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 vydání. Olomouc : Rubico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2007. ISBN 8073460653. s.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226 – 231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235 – 237, 242 - 244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65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č. 10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1773360"/>
          <a:ext cx="8785440" cy="464184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náz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k 1948, 1968 a 1989 pro český stá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ano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Žáci </a:t>
                      </a:r>
                      <a:r>
                        <a:rPr b="0" i="1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ají události související s letopočt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očekávaný výst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ZV – LM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Člověk a společnost – 2. stupe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 –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znát průběh a důsledky 2. světové války a nový politický a hospodářský vývoj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v Evrop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- chápat význam událostí v ro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  <a:ea typeface="Arial Unicode MS"/>
                        </a:rPr>
                        <a:t>1989 a vítězství demokracie v naší vla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 Unicode MS"/>
                        </a:rPr>
                        <a:t>druh interakt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kl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  <a:ea typeface="Arial"/>
                        </a:rPr>
                        <a:t>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66"/>
                </a:solidFill>
                <a:latin typeface="Arial"/>
              </a:rPr>
              <a:t>Ohrožená demokrac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 blížícím se rokem 1948 ostatní strany pochopily, že KSČ chce převzít veškerou moc ve státě, protože všechna důležitá místa byla postupně obsazena komunisty oddaných Gottwaldov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munisté využili nepokojů proti ostatním politickým stranám a přesvědčily většinu lidí, že když se stát zbaví továrníků a statkářů, bude se jim žít lé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ěřili heslu: „</a:t>
            </a:r>
            <a:r>
              <a:rPr b="0" lang="cs-CZ" sz="3200" spc="-1" strike="noStrike">
                <a:solidFill>
                  <a:srgbClr val="ffff66"/>
                </a:solidFill>
                <a:latin typeface="Tahoma"/>
              </a:rPr>
              <a:t>Když bude vše patřit dělníkům a rolníkům, nebude bíd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66"/>
                </a:solidFill>
                <a:latin typeface="Arial"/>
              </a:rPr>
              <a:t>Únor 1948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ezident Beneš ustoupil tlaku komunistů, aby zabránil krveprolití, a </a:t>
            </a:r>
            <a:r>
              <a:rPr b="1" lang="cs-CZ" sz="3600" spc="-1" strike="noStrike">
                <a:solidFill>
                  <a:srgbClr val="ffff66"/>
                </a:solidFill>
                <a:latin typeface="Tahoma"/>
              </a:rPr>
              <a:t>25. února 1948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přijal demisi nekomunistických ministr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ak byla v Československu </a:t>
            </a:r>
            <a:r>
              <a:rPr b="1" i="1" lang="cs-CZ" sz="3600" spc="-1" strike="noStrike">
                <a:solidFill>
                  <a:srgbClr val="66ff99"/>
                </a:solidFill>
                <a:latin typeface="Tahoma"/>
              </a:rPr>
              <a:t>nastolena TOTALIT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= nedemokratická m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mise = odstoupení ze svého úřa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Rok 1968 - sovětský vliv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větský svaz neustále kontroloval „uvolňování“ u nás, důrazně napomínal </a:t>
            </a:r>
            <a:r>
              <a:rPr b="0" i="1" lang="cs-CZ" sz="3200" spc="-1" strike="noStrike">
                <a:solidFill>
                  <a:srgbClr val="ff3300"/>
                </a:solidFill>
                <a:latin typeface="Tahoma"/>
              </a:rPr>
              <a:t>Alexandra Dubče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i prezidenta generála </a:t>
            </a:r>
            <a:r>
              <a:rPr b="0" i="1" lang="cs-CZ" sz="3200" spc="-1" strike="noStrike">
                <a:solidFill>
                  <a:srgbClr val="ffff66"/>
                </a:solidFill>
                <a:latin typeface="Tahoma"/>
              </a:rPr>
              <a:t>Ludvíka Svobod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aby zabraňovali dalšímu šíření přílišné demokrac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yž napomínání nepomáhalo, rozhodl se Leonid Brežněv (vedoucí představitel SSSR) zakroč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Okupace Českoslovens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noci na </a:t>
            </a:r>
            <a:r>
              <a:rPr b="1" i="1" lang="cs-CZ" sz="3200" spc="-1" strike="noStrike">
                <a:solidFill>
                  <a:srgbClr val="ffff66"/>
                </a:solidFill>
                <a:latin typeface="Tahoma"/>
              </a:rPr>
              <a:t>21. srpna 1968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vtrhly na naše území sovětské tanky společně s jednotkami dalších států (Maďarsko, Polsko, Bulharsko, NDR), aby zabránily rozmachu svobody v zem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čané se bránili i holýma rukama, zapálili několik tanků, které proti nim stříl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3300"/>
                </a:solidFill>
                <a:latin typeface="Tahoma"/>
              </a:rPr>
              <a:t>Okupační vojs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obsadila vládní budovu, redakce novin, budovu rozhlasu a televi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větští důstojníci odvlekli A. Dubčeka a jeho spolupracovníky do Moskv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Totalitní reži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é bouřlivě protestovali proti okupantům, ti však už v zemi zůstali dalších 20 l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yla obnovena cenzura tisku a médií a byl nastolen totalitní režim, lidé pomalu ztráceli svobod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cs-CZ" sz="3600" spc="-1" strike="noStrike">
                <a:solidFill>
                  <a:srgbClr val="ff3300"/>
                </a:solidFill>
                <a:latin typeface="Tahoma"/>
              </a:rPr>
              <a:t>Totalitní reži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nedemokratické státní zřízení – např. fašistické nebo komunistick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00"/>
                </a:solidFill>
                <a:latin typeface="Arial"/>
              </a:rPr>
              <a:t>Protest student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čané ztráceli své svobody, proto se někteř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udenti rozhodli za svobodu položit veřejn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ůj živ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ahoma"/>
              </a:rPr>
              <a:t>Studen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3300"/>
                </a:solidFill>
                <a:latin typeface="Tahoma"/>
              </a:rPr>
              <a:t>JAN PALACH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a   </a:t>
            </a:r>
            <a:r>
              <a:rPr b="1" i="1" lang="cs-CZ" sz="3600" spc="-1" strike="noStrike">
                <a:solidFill>
                  <a:srgbClr val="ff3300"/>
                </a:solidFill>
                <a:latin typeface="Tahoma"/>
              </a:rPr>
              <a:t>JAN ZAJÍ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s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na protest proti režimu </a:t>
            </a:r>
            <a:r>
              <a:rPr b="1" lang="cs-CZ" sz="3200" spc="-1" strike="noStrike">
                <a:solidFill>
                  <a:srgbClr val="ffff66"/>
                </a:solidFill>
                <a:latin typeface="Tahoma"/>
              </a:rPr>
              <a:t>upálili (1969)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těli tím vyburcovat národ k protestům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monstracím proti totalitě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Pád komunistického reži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červnu </a:t>
            </a:r>
            <a:r>
              <a:rPr b="1" lang="cs-CZ" sz="3200" spc="-1" strike="noStrike">
                <a:solidFill>
                  <a:srgbClr val="ffff00"/>
                </a:solidFill>
                <a:latin typeface="Tahoma"/>
              </a:rPr>
              <a:t>1989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Václav Havel a jeho přátelé zorganizovali petici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ěkolik vě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kde požadovali svobodu  a demokracii. Podepsalo ji 40 tisíc lid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srpnu 1989 proběhly demonstrace k 21. výročí okupace, komunisté si již s odporem občanů nevěděli rad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vrdě zasáhli proti studentské manifestaci k výročí úmrtí Jana Opletala (v roce 1939 byl postřelen nacisty) dne 17. listopadu 198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8:02:58Z</dcterms:created>
  <dc:creator>Hana Zimová</dc:creator>
  <dc:description/>
  <dc:language>en-US</dc:language>
  <cp:lastModifiedBy>martina</cp:lastModifiedBy>
  <dcterms:modified xsi:type="dcterms:W3CDTF">2013-06-09T07:23:03Z</dcterms:modified>
  <cp:revision>10</cp:revision>
  <dc:subject/>
  <dc:title>Rok 1948, 1968 a 1989 pro český stát</dc:title>
</cp:coreProperties>
</file>