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A082-7682-4B79-A8F1-68FE323A5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BBCB-FA10-480F-A527-3BC3EF55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4F4B-06B4-40DA-9794-8853E25D7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F04E-9CCC-4EE0-9BCE-49C7350A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CCE3-2157-48DF-B127-6C4FF310D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0734-F513-4974-98EA-11C9D418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AA3A-8491-47B4-B1CA-B617A6BD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4575-BE44-4055-8803-D32D04DA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1C15-63FE-4298-93EE-1C90229F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AAAE-4DF7-4948-93EB-57B1C44B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57A7-EDBD-473C-8593-CD2B85A9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5B65-1587-4372-83A8-8975DCE4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3B0F-982D-4912-BB2E-81E49255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17E3-2D87-4136-89C0-425CEEF0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600F-BAB9-42CE-9EE4-CE028100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1C9A-126E-4DEC-A6B1-E46CA620B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B04C-9EFC-4383-A4FC-D8D2846F0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6091-FD21-4E1B-8281-D344DBE5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981B-0985-4422-AE85-276339B2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2A7F-138D-4BE1-AC57-A129199D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A910-0037-4405-B957-CED1C0BC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E7F4-E1EE-4C29-B967-CE138A96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A164-B949-40A8-954B-F71E179A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1C54-FBBB-4EB7-B063-4DBF2FDB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68C2-57EA-46CF-BFE0-19057D0AB05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B4FC-CFD7-4356-BB1C-B5FAFB654A54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ikimedia.org/" TargetMode="External"/><Relationship Id="rId2" Type="http://schemas.openxmlformats.org/officeDocument/2006/relationships/hyperlink" Target="http://commons.wikimedia.org/wiki/File:Dubcek.jpg" TargetMode="External"/><Relationship Id="rId3" Type="http://schemas.openxmlformats.org/officeDocument/2006/relationships/hyperlink" Target="http://commons.wikimedia.org/wiki/File:Teodor_Banik_busta_Alexandra_Dubceka.jpg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br>
              <a:rPr sz="5800"/>
            </a:br>
            <a:r>
              <a:rPr b="0" lang="cs-CZ" sz="5800" spc="-1" strike="noStrike">
                <a:solidFill>
                  <a:srgbClr val="ffffb7"/>
                </a:solidFill>
                <a:latin typeface="Arial"/>
              </a:rPr>
              <a:t>Alexandr Dubček</a:t>
            </a:r>
            <a:endParaRPr b="1" lang="en-US" sz="5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22. 3. 201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835280" y="333360"/>
            <a:ext cx="57528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3300"/>
                </a:solidFill>
                <a:latin typeface="Arial"/>
              </a:rPr>
              <a:t>Pokračování srpna 1968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ověti propustili jen některé včetně Dubčeka, které z vězení „v lesích“ dopravili do Moskvy 24. srpna. Poté propustili i další delegáty, ale tajemník ÚV KSSS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Boris Ponomarjov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jim prý řekl, že se budou moci vrátit domů jen po podpisu Sověty připraveného protokolu, ať už to bude trvat i měsíc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27. srpn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se propuštění v čele s Dubčekem směli vrátit do Prahy, až když po vyčerpávajícím nátlaku a vyhrožování (Dubček několikrát omdlel) podepsali všech patnáct sověty diktovaných podmínek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Moskevského protokolu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což znamenalo přijetí „bratrské pomoci SSSR“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b7"/>
                </a:solidFill>
                <a:latin typeface="Arial"/>
              </a:rPr>
              <a:t>Ztráta politické moc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 srpnu 1968, Dubček ustupoval sovětskému tlaku a postupně odvolával z funkcí reformní komunist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ne </a:t>
            </a: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17. dubna 1969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v Praze zvolil ÚV KSČ nové předsednictvo. Alexandra Dubčeka ve funkci prvního tajemníka vystřídal </a:t>
            </a: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Gustáv Husák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d dubna do října 1969 působil Dubček jako předseda Federálního shromáždění a v této funkci podepsal takzvaný </a:t>
            </a:r>
            <a:r>
              <a:rPr b="0" lang="cs-CZ" sz="2400" spc="-1" strike="noStrike">
                <a:solidFill>
                  <a:srgbClr val="ffff66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ffff66"/>
                </a:solidFill>
                <a:latin typeface="Arial"/>
              </a:rPr>
              <a:t>pendrekový zákon</a:t>
            </a:r>
            <a:r>
              <a:rPr b="0" lang="cs-CZ" sz="24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, který umožnil brutální zásah proti demonstrantům po 21. srpnu 1969. Tím jeho popularita v Českých zemích silně klesl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ak krátce působil jako velvyslanec v Turecku a </a:t>
            </a: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v roce 1970 byl vyloučen z KSS i KSČ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 letech 1970 – 1985 pracoval Dubček pro podnik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ápadoslovenské státní les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v bratislavských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Krasňanech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jako mechanizáto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b7"/>
                </a:solidFill>
                <a:latin typeface="Arial"/>
              </a:rPr>
              <a:t>Rok 1989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květnu 1989 poskytl maďarské televizi rozhovor, v němž mluvil hlavně o roku 196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dyž během Sametové revoluce 22. listopadu 1989 poprvé veřejně vystoupil v Bratislavě a o dva dny později na balkóně na Václavském náměstí v Praze vedle Václava Havla, byl nadšeně uvítán jako signál vítězství i česko-slovenské vzájemnost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yl vážným kandidátem na funkci prezidenta republiky, ale nakonec došlo k dohodě a 28. prosince 1989 byl zvolen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předsedou Federálního shromážděn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Tuto funkci vykonával až do roku 199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b7"/>
                </a:solidFill>
                <a:latin typeface="Arial"/>
              </a:rPr>
              <a:t>Tragická smr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i cestě na zasedání FS dne 1. září 1992 kolem 9. hodiny utrpěl Dubček vážnou dopravní nehodu na dálnici D1 u Humpolce, když jeho služební automobil ve vysoké rychlosti za hustého deště dostal smyk a vyletěl z dálnice. Dubček, který seděl nepřipoután na zadním sedadle, vypadl z vozu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 nehodě byl v bezvědomí hospitalizován v pražské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nemocnici Na Homolce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kde na následky zraně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7. listopadu 1992 zemřel.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e pochován v Bratislavě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eho služební řidič, který jej vezl na zasedání Federálního shromáždění z Bratislavy do Prahy, byl později odsouzen na 1 rok nepodmíněně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23004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b7"/>
              </a:solidFill>
              <a:latin typeface="Arial"/>
            </a:endParaRPr>
          </a:p>
        </p:txBody>
      </p:sp>
      <p:graphicFrame>
        <p:nvGraphicFramePr>
          <p:cNvPr id="128" name="Object 3"/>
          <p:cNvGraphicFramePr/>
          <p:nvPr/>
        </p:nvGraphicFramePr>
        <p:xfrm>
          <a:off x="4572000" y="189000"/>
          <a:ext cx="4248000" cy="64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89000"/>
                    <a:ext cx="4248000" cy="64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 txBox="1"/>
          <p:nvPr/>
        </p:nvSpPr>
        <p:spPr>
          <a:xfrm>
            <a:off x="0" y="1699920"/>
            <a:ext cx="4067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Bus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Alexandra Dubče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Verdana"/>
              </a:rPr>
              <a:t>Zdroj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MÜ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pro 2. stupeň základní školy praktické. 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4. díl. 1. vydání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Praha : Parta, 2010. ISBN 9788073201241. s. 53 - 55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HOUTKOVÁ, H.; KOMSOVÁ, M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na dlani. 2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vydání. Olomouc : Rubic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2007. ISBN 8073460653. s. 235 - 237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b7"/>
                </a:solidFill>
                <a:latin typeface="Verdana"/>
              </a:rPr>
              <a:t>Zdroje obrázků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šechny uveřejněné odkazy [cit. 2012-03-22] dostupné pod licencí Creative Commons – </a:t>
            </a:r>
            <a:r>
              <a:rPr b="0" lang="cs-CZ" sz="1600" spc="-1" strike="noStrike" u="sng">
                <a:solidFill>
                  <a:srgbClr val="99ff66"/>
                </a:solidFill>
                <a:uFillTx/>
                <a:latin typeface="Verdana"/>
                <a:hlinkClick r:id="rId1"/>
              </a:rPr>
              <a:t>http://wikimedia.or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Alexandr Dubč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http://commons.wikimedia.org/wiki/File:Dubcek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usta Alexandra Dubče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http://commons.wikimedia.org/wiki/File:Teodor_Banik_busta_Alexandra_Dubceka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65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č. 5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79280" y="1341360"/>
          <a:ext cx="8785440" cy="4815000"/>
        </p:xfrm>
        <a:graphic>
          <a:graphicData uri="http://schemas.openxmlformats.org/drawingml/2006/table">
            <a:tbl>
              <a:tblPr/>
              <a:tblGrid>
                <a:gridCol w="4238640"/>
                <a:gridCol w="4546800"/>
              </a:tblGrid>
              <a:tr h="78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exandr Dubče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po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nají osobnosti v souvislosti s rokem 1968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znát průběh a důsledky 2. světové války a nový politický a hospodářský vývoj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v Evropě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"/>
              </a:rPr>
              <a:t>Alexandr Dubče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-360" y="1341000"/>
            <a:ext cx="543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rodil se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27. listopad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1921 v Uhrovci na Slovensk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 zemřel tragick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7. listopadu 1992 v Pra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yl to československý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lovenský politik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lavní osobnost Pražského jara 196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Object 4"/>
          <p:cNvGraphicFramePr/>
          <p:nvPr/>
        </p:nvGraphicFramePr>
        <p:xfrm>
          <a:off x="5219640" y="1413000"/>
          <a:ext cx="374508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413000"/>
                    <a:ext cx="374508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b7"/>
                </a:solidFill>
                <a:latin typeface="Arial"/>
              </a:rPr>
              <a:t>Životopi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rodil se roku </a:t>
            </a:r>
            <a:r>
              <a:rPr b="1" lang="cs-CZ" sz="2800" spc="-1" strike="noStrike">
                <a:solidFill>
                  <a:srgbClr val="ff3300"/>
                </a:solidFill>
                <a:latin typeface="Arial"/>
              </a:rPr>
              <a:t>1921 v Uhrovc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na Slovensku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eho otec Štefan Dubček byl vyučený tesař, který několik let pracoval v USA, kde se stal přesvědčeným pacifistou a komunistou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roce 1925 odjel malý Alexander se svými rodiči do města Frunze (dnešní Biškek) v sovětské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Kyrgyzi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zději se Dubčekovi přestěhovali do města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Gorkij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a v roce 1938 se vrátili na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lovensko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protože podle nových směrnic by museli přijmout ruské občanství jako jediné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lexander Dubček se vyučil </a:t>
            </a:r>
            <a:r>
              <a:rPr b="1" lang="cs-CZ" sz="2800" spc="-1" strike="noStrike">
                <a:solidFill>
                  <a:srgbClr val="ff3300"/>
                </a:solidFill>
                <a:latin typeface="Arial"/>
              </a:rPr>
              <a:t>strojním zámečníkem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pracoval v Dubnici nad Váhom a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v roce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1939 vstoupil do tehdy ilegální Komunistické strany Slovensk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b7"/>
                </a:solidFill>
                <a:latin typeface="Arial"/>
              </a:rPr>
              <a:t>Politik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9647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roce 1944 se zúčastnil Slovenskéh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árodního povstání, v němž byl zraněn a jeh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bratr Július pad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 válce působil v různých </a:t>
            </a:r>
            <a:r>
              <a:rPr b="0" lang="cs-CZ" sz="3200" spc="-1" strike="noStrike">
                <a:solidFill>
                  <a:srgbClr val="ff3300"/>
                </a:solidFill>
                <a:latin typeface="Arial"/>
              </a:rPr>
              <a:t>politických funkcích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Trenčíně a Banské Bystrici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tože z dětství velmi dobře ovládal </a:t>
            </a:r>
            <a:r>
              <a:rPr b="0" lang="cs-CZ" sz="3200" spc="-1" strike="noStrike">
                <a:solidFill>
                  <a:srgbClr val="ff3300"/>
                </a:solidFill>
                <a:latin typeface="Arial"/>
              </a:rPr>
              <a:t>ruský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Arial"/>
              </a:rPr>
              <a:t>jazyk, byl vyslán do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3200" spc="-1" strike="noStrike">
                <a:solidFill>
                  <a:srgbClr val="ff3300"/>
                </a:solidFill>
                <a:latin typeface="Arial"/>
              </a:rPr>
              <a:t>Moskv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kde v letec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1955-1958 </a:t>
            </a:r>
            <a:r>
              <a:rPr b="0" lang="cs-CZ" sz="3200" spc="-1" strike="noStrike">
                <a:solidFill>
                  <a:srgbClr val="ff3300"/>
                </a:solidFill>
                <a:latin typeface="Arial"/>
              </a:rPr>
              <a:t>studoval politické věd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současně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 Michailem Gorbačov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b7"/>
                </a:solidFill>
                <a:latin typeface="Arial"/>
              </a:rPr>
              <a:t>Počátek politické kariér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 roku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1958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byl stranickým tajemníkem v Bratislavě a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členem Ústředního výboru KSS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V této funkci se poprvé střetl s tehdejším prezidentem Antonínem Novotným kvůli připravované změně Ústavy, s níž Dubček nesouhlasil. Roku 1959 se stal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tajemníkem ÚV KSČ pro průmysl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 roku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1963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byl prvním tajemníkem ÚV K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 konci roku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1967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se dostali někteří členové ÚV KSČ do ostré kontroverze s tehdejším prezidentem a 1. tajemníkem ÚV KSČ 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Antonínem Novotným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který si v prosinci pozval na pomoc sovětského vůdce Leonida Brežněva; ten pozvání sice okamžitě přijal, Novotného ale nepodpoř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Lidé, kteří se s Dubčekem setkali, hovořili o něm jako o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nekonfliktním, přátelském a vlídném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člověku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b7"/>
                </a:solidFill>
                <a:latin typeface="Arial"/>
              </a:rPr>
              <a:t>Prvním tajemníkem stran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ezi 3. a 5. lednem 1968 se ÚV KSČ rozhodlo oddělit funkce prvního tajemníka ÚV KSČ a prezidenta republiky a zbavilo Antonína Novotného funkce prvního tajemníka ÚV KSČ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 jeho nástupci se však předsednictvo nemohlo dohodnout a navrhlo </a:t>
            </a:r>
            <a:r>
              <a:rPr b="1" lang="cs-CZ" sz="2800" spc="-1" strike="noStrike">
                <a:solidFill>
                  <a:srgbClr val="ff3300"/>
                </a:solidFill>
                <a:latin typeface="Arial"/>
              </a:rPr>
              <a:t>Alexandra Dubček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ubček vnesl do československé politiky zcela odlišnou politickou kulturu. Tím umožnil významný společenský a politický proces, který dostal název </a:t>
            </a:r>
            <a:r>
              <a:rPr b="1" i="1" lang="cs-CZ" sz="2800" spc="-1" strike="noStrike">
                <a:solidFill>
                  <a:srgbClr val="ff3300"/>
                </a:solidFill>
                <a:latin typeface="Arial"/>
              </a:rPr>
              <a:t>Pražské jaro 1968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edna z reforem Dubčekova vedení přinesla úplnou </a:t>
            </a:r>
            <a:r>
              <a:rPr b="1" i="1" lang="cs-CZ" sz="2800" spc="-1" strike="noStrike">
                <a:solidFill>
                  <a:srgbClr val="006699"/>
                </a:solidFill>
                <a:latin typeface="Arial"/>
              </a:rPr>
              <a:t>svobodu tisku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takto uvolněné atmosféře se však začnou požadavky lidu více stupňovat. Dubček tak musí čelit kritice uvnitř KSČ a hlavně ze strany sovětského vedení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"/>
              </a:rPr>
              <a:t>Sovětský vliv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ovětský svaz kontroloval „uvolňování“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u nás, důrazně napomínal </a:t>
            </a:r>
            <a:r>
              <a:rPr b="0" i="1" lang="cs-CZ" sz="3200" spc="-1" strike="noStrike">
                <a:solidFill>
                  <a:srgbClr val="ff3300"/>
                </a:solidFill>
                <a:latin typeface="Arial"/>
              </a:rPr>
              <a:t>Alexandra Dubček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i prezidenta generála </a:t>
            </a:r>
            <a:r>
              <a:rPr b="0" i="1" lang="cs-CZ" sz="3200" spc="-1" strike="noStrike">
                <a:solidFill>
                  <a:srgbClr val="ffff66"/>
                </a:solidFill>
                <a:latin typeface="Arial"/>
              </a:rPr>
              <a:t>Ludvíka Svobod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aby zabraňovali dalšímu šířen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ílišné demokraci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dyž napomínání nepomáhalo, rozhodl 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Leonid Brežněv (vedoucí představitel SSSR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akroč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3300"/>
                </a:solidFill>
                <a:latin typeface="Arial"/>
              </a:rPr>
              <a:t>Srpen 1968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s zdánlivé uklidnění v republice vtrhla v noc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 </a:t>
            </a:r>
            <a:r>
              <a:rPr b="1" lang="cs-CZ" sz="2800" spc="-1" strike="noStrike">
                <a:solidFill>
                  <a:srgbClr val="ff3300"/>
                </a:solidFill>
                <a:latin typeface="Arial"/>
              </a:rPr>
              <a:t>20. na 21. srpna 1968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vojska pěti států Varšavsk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smlouv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bez vypovězení války do ČSSR, obsadi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území a zmocnila se postupně kontroly nad celý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á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ovětští vojáci zatkli a odvlekli Alexandra Dubčeka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alší vedoucí představitele KSČ do Moskvy. Prezid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SSR </a:t>
            </a: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Ludvík Svobod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spolu s delegací odletěl 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oskvy, kde žádal, aby se jednání zúčastnil Dubček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statní uvěznění komunističtí předác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07:47:07Z</dcterms:created>
  <dc:creator>Hana Zimová</dc:creator>
  <dc:description/>
  <dc:language>en-US</dc:language>
  <cp:lastModifiedBy>martina</cp:lastModifiedBy>
  <dcterms:modified xsi:type="dcterms:W3CDTF">2013-06-09T07:18:38Z</dcterms:modified>
  <cp:revision>16</cp:revision>
  <dc:subject/>
  <dc:title>  Alexandr Dubček</dc:title>
</cp:coreProperties>
</file>