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729-C383-4CB5-9BE2-41445210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AFB-9DA6-4131-BE4B-679CA1A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605-E58F-430E-9C25-FA15E5C2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420-FF38-4533-8822-8F2F96DD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10E-7C08-4B73-A02F-5C7F80F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5E59-16BF-4120-AB7D-B62D2897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2008-8152-4FD5-B4B3-7DDA0C9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8EB9-7C92-47F6-8C0E-B29AF3B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36A4-1D20-461F-967B-F42F69F0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AC12-E1AA-43D4-9DCB-D272A02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8CC-0187-4BDE-B99E-975AE01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042-7F1A-4732-B25D-270B7D4F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6C5B-1EF5-4235-A859-415EBE4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1CA-7DB1-4721-BE77-E508FED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DF7-0DB8-477D-98F6-39F9B74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AF41-11F1-46FF-BEBE-1075829B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690-1F86-417F-9C44-D309B863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071-A0D2-41A8-8938-1CD3F35B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5B6-1B66-46F2-856C-E7BF85C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B48-136B-458F-B0DA-62BEC55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854-332B-4C3C-AB3A-06F5AE69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DD9-FEB8-4026-B386-0DE1EE0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71C-C859-4DC5-AB13-EF4D7DE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B40-3606-4219-B257-8DE0ED31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ED5F-5388-4134-97DB-6A8E5B9D70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CAB-FE36-4528-A3BE-915731D4EFA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Ange_au_sourire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ccecff"/>
                </a:solidFill>
                <a:latin typeface="Arial"/>
              </a:rPr>
              <a:t>Život lidí v novověku</a:t>
            </a:r>
            <a:endParaRPr b="0" lang="en-US" sz="5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řednáška v Boloni na univerzit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684360" y="1052640"/>
          <a:ext cx="784836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848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Karolinum s historickou kaplí   </a:t>
            </a:r>
            <a:r>
              <a:rPr b="0" lang="cs-CZ" sz="4000" spc="-1" strike="noStrike">
                <a:solidFill>
                  <a:srgbClr val="ffccff"/>
                </a:solidFill>
                <a:latin typeface="Arial"/>
              </a:rPr>
              <a:t>Pečeť Univerzity Karlov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250920" y="1600200"/>
          <a:ext cx="44654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44654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6"/>
          <p:cNvGraphicFramePr/>
          <p:nvPr/>
        </p:nvGraphicFramePr>
        <p:xfrm>
          <a:off x="5219640" y="2276640"/>
          <a:ext cx="352908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76640"/>
                    <a:ext cx="3529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9933"/>
                </a:solidFill>
                <a:latin typeface="Arial"/>
              </a:rPr>
              <a:t>Rozvoj obchodu, výro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Změna názorů na svě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věř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rozumu</a:t>
            </a:r>
            <a:r>
              <a:rPr b="0" lang="cs-CZ" sz="4000" spc="-1" strike="noStrike">
                <a:solidFill>
                  <a:srgbClr val="99ff99"/>
                </a:solidFill>
                <a:latin typeface="Arial"/>
              </a:rPr>
              <a:t> a </a:t>
            </a:r>
            <a:r>
              <a:rPr b="1" lang="cs-CZ" sz="4000" spc="-1" strike="noStrike">
                <a:solidFill>
                  <a:srgbClr val="99ff99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0 - 95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Anděl v Remeš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commons.wikimedia.org/wiki/File:Ange_au_souri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anorama Pražského hradu a Karlova mo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zsky_hrad_karluv_most_panoram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ažský hrad 14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raha_149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náška v Bol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Laurentius_de_Voltolina_00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arolinum – historická ka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Karolinum_ark_DSCN220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niverzitní peče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Pe%C4%8De%C5%A5_Univerzity_Karlovy_v_Praz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5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1752480"/>
          <a:ext cx="8353440" cy="4694400"/>
        </p:xfrm>
        <a:graphic>
          <a:graphicData uri="http://schemas.openxmlformats.org/drawingml/2006/table">
            <a:tbl>
              <a:tblPr/>
              <a:tblGrid>
                <a:gridCol w="2860560"/>
                <a:gridCol w="5492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ivot lidí v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znají rozdíl ve způsobu života v novověku a středověku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znát rozdíly způsobu života společnosti jednotlivých historických etap v kontextu světových děj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Arial"/>
              </a:rPr>
              <a:t>Křesťanské umě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enský vývoj v době středověku, zejmé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měst, výrazně podpořil náhled 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livého člověka, který se nejprve projevu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řesťanském um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áře andělů a světců, dříve vznešené a přísné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od 12. století spíše krásné a někde do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 s úsměvem - například sochy v katedr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emeši ve Franc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50920" y="260280"/>
          <a:ext cx="496872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4968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5940000" y="765000"/>
            <a:ext cx="2746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ndě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 Remeš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Panorama Pražského hradu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 a Karlova mos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0" y="3086280"/>
          <a:ext cx="91440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86280"/>
                    <a:ext cx="9144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Pražský hrad 149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539640" y="2349360"/>
          <a:ext cx="80647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80647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Vznik humanism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umanismus přináší </a:t>
            </a:r>
            <a:r>
              <a:rPr b="1" lang="cs-CZ" sz="3200" spc="-1" strike="noStrike">
                <a:solidFill>
                  <a:srgbClr val="ff99cc"/>
                </a:solidFill>
                <a:latin typeface="Arial"/>
              </a:rPr>
              <a:t>změnu v pohledu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sebe a na vlastní postavení na světě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 není jenom příprava na věčnost, ale má vlastní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by jej mohl odpovědně žít, potřebuje člověk svobo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 však musí skutečnost pečlivě zkou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sa je také v jazyce, kterým mluvíme, zejména v poezii, v umě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ko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 rozvojem řemesel a obchodu začali také měšťané, kupci, řemeslníci pociťova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třebu naučit se číst, psát a především počí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důsledku toho byly zakládány nižší školy u farních kostelů a později také </a:t>
            </a:r>
            <a:r>
              <a:rPr b="1" lang="cs-CZ" sz="3200" spc="-1" strike="noStrike">
                <a:solidFill>
                  <a:srgbClr val="99ff99"/>
                </a:solidFill>
                <a:latin typeface="Arial"/>
              </a:rPr>
              <a:t>městské škol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Vzdělávání v nich se zaměřovalo na praktické znalosti a jejich využi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12. století se objevil nový typ školy,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  univerzit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nejstarší univerzity byly založeny    v Itálii a soustředily se na výuku medicíny (Salerno) a práv (Bologn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alší univerzity v Evropě</a:t>
            </a: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ději vznikla významná vysoká učení v 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Angli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xfor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ambridg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cs-CZ" sz="3200" spc="-1" strike="noStrike">
                <a:solidFill>
                  <a:srgbClr val="ff9933"/>
                </a:solidFill>
                <a:latin typeface="Arial"/>
              </a:rPr>
              <a:t>Paříž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univerzita skládala ze čtyř fakult, ale proslula hlavně svou teologickou fakultou Sorbonn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le jejího vzoru byl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ku 1348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alože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starší univerzita ve střední Evrop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raze – Karlova univerz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vyučování na církevních školách a artistických fakultách (základní fakulta středověké univerzity) bylo sedm svobodných umění, známých již v antickém starově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13:10Z</dcterms:created>
  <dc:creator>Hana Zimová</dc:creator>
  <dc:description/>
  <dc:language>en-US</dc:language>
  <cp:lastModifiedBy>martina</cp:lastModifiedBy>
  <dcterms:modified xsi:type="dcterms:W3CDTF">2013-06-09T07:27:30Z</dcterms:modified>
  <cp:revision>19</cp:revision>
  <dc:subject/>
  <dc:title>Renesance  v našich zemích</dc:title>
</cp:coreProperties>
</file>