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3A1-5EAC-4F13-90C6-7035EB6F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7E8-A6C5-4F8F-A25E-3A19481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E73-E302-437F-B842-2233F3F6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577-2BAA-4352-8004-DAF7AD73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5BE-313E-4038-96E3-2D0EB851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FF4-1DCC-46D6-B755-5A841D09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766-7AB7-4546-8748-DEBD75EE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983-9D70-4C8A-8685-7DBB22D5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FC6-97B6-43A7-A74D-69E4E4D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797-348B-4FCD-8996-CF0C59D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197-CA34-46AA-BAC8-558914A2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EDE-B93D-46B6-923D-ACF75A3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3BB5-8946-4569-9244-E50DACC7385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1" lang="cs-CZ" sz="5400" spc="-1" strike="noStrike">
                <a:solidFill>
                  <a:srgbClr val="e5ffff"/>
                </a:solidFill>
                <a:latin typeface="Tahoma"/>
              </a:rPr>
              <a:t>Tomáš Garrigue Masaryk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5. 10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Jízda na koni patřila 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k jeho velkým zálibá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826920" y="1268280"/>
          <a:ext cx="749016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4901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Ü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Dějepis pro 2. stupeň z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kladn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koly praktick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. 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. 1. vyd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raha : Parta, 2010. ISBN 9788073201241. s. 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7920" y="1407600"/>
            <a:ext cx="89647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šechny uveřejněné odkazy [cit. 2012-10-05] dostupné pod licencí Creative Commons – </a:t>
            </a:r>
            <a:r>
              <a:rPr b="0" lang="cs-CZ" sz="1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máš Garrigue Masary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om%C3%A1%C5%A1_Garrigue_Masaryk_1925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dp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._G._Masaryk_Signature.sv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GM na kon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Bundesarchiv_Bild_102-11965,_Karlsbad,_Pr%C3%A4sident_Thomas_G._Masaryk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GM vystupuje z vlak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GM_Tabor_21.12.1918_3462a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2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máš Garrigue Masar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seznámí s prvním prezidentem - T. G. Masary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mít základní poznatky o vzniku samostatné Československé republ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79280" y="189000"/>
          <a:ext cx="453708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45370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 txBox="1"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TG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rozen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března 1850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donín, Rakouské císař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emřel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4. září 193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87 let) Lány, Č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oť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lotte Garr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dič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osef a Terez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ě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ice, Herbert, Jan, Eleanor, Olg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děl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niverzita Víde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ahoma"/>
              </a:rPr>
              <a:t>Čím byl T. G. Masaryk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kovář, zámečník, učitel, vědec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aměst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olitik, spisovatel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loso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státník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ezident republ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poslanec rakouské říšské ra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univerzitní  profe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99"/>
                </a:solidFill>
                <a:latin typeface="Tahoma"/>
              </a:rPr>
              <a:t>Tomáš Garrigue Masary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1850 - 193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atíček Masaryk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tak ho lidé nazýval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 to prezident osvoboditel, otec li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yjadřovali mu tak velkou úctu i lásk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ccff"/>
                </a:solidFill>
                <a:latin typeface="Tahoma"/>
              </a:rPr>
              <a:t>TGM jako prez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V roce 1918 se st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prvním prezidentem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ffff00"/>
                </a:solidFill>
                <a:latin typeface="Arial"/>
              </a:rPr>
              <a:t>Československa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označen z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ezidenta Osvoboditel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zákon č. 232/1935 Sb. z. a n., z 21. prosince 1935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k 80. narozeninám byl přij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zv. </a:t>
            </a:r>
            <a:r>
              <a:rPr b="1" lang="cs-CZ" sz="2800" spc="-1" strike="noStrike">
                <a:solidFill>
                  <a:srgbClr val="ff9999"/>
                </a:solidFill>
                <a:latin typeface="Arial"/>
              </a:rPr>
              <a:t>Lex Masary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obsahující vět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ffcc00"/>
                </a:solidFill>
                <a:latin typeface="Arial"/>
              </a:rPr>
              <a:t>Tomáš Garrigue Masaryk zasloužil se o stá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. G. Masaryk byl 17x navržen na Nobelovu cenu mír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GM byl moudrým státníkem, spisovate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si ho velmi vážili pro jeho skrom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olné chvíle trávil rád n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rezidentské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zámku v Lánech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edaleko Pra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odil zde po parku, nikdy neměnil směr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asu své vycház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ilně pracoval a uměl si vážit práce druhý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TGM s dcerou Olgou 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ahoma"/>
              </a:rPr>
              <a:t>vystupuje z vlaku v Táboř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2195640" y="1341360"/>
          <a:ext cx="504036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5040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Podpis TG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9" descr="264px-T__G__Masaryk_Signature_svg"/>
          <p:cNvPicPr/>
          <p:nvPr/>
        </p:nvPicPr>
        <p:blipFill>
          <a:blip r:embed="rId1"/>
          <a:stretch/>
        </p:blipFill>
        <p:spPr>
          <a:xfrm>
            <a:off x="468360" y="1916280"/>
            <a:ext cx="82072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30:36Z</dcterms:created>
  <dc:creator>Hana Zimová</dc:creator>
  <dc:description/>
  <dc:language>en-US</dc:language>
  <cp:lastModifiedBy>martina</cp:lastModifiedBy>
  <dcterms:modified xsi:type="dcterms:W3CDTF">2013-06-09T07:33:05Z</dcterms:modified>
  <cp:revision>26</cp:revision>
  <dc:subject/>
  <dc:title>  Tomáš Garrigue Masaryk</dc:title>
</cp:coreProperties>
</file>