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A717-E2D6-424C-9826-2E43AC3D4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77ED-A568-4517-9B38-0A461EE87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8C1A-C02D-41A6-9BAE-283AFFF18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262E-C8DE-4CB2-9DC4-40B32746B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15F2E-3A3B-4AB4-A266-FC0C9790F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3E8DC-7ACA-404D-B0CE-C1098D03D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17EB4-7C4B-428A-840E-4A52B1086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002FC-60A0-49F9-9370-5FD011CF6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9FE3D-868D-4F90-81B7-17252B755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7A245-2DE5-49E5-B4D0-B55820086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AFB01-71E7-477C-8D20-FE26BFF2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FA79-1632-4C3D-9AEF-F14DCBFDA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5B583-2ABC-4578-B065-30FEA1FB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8BA05-B86E-44D7-BE29-E9088CFB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8CED2-6DA9-412A-A536-7033387BA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A510F-95C6-4115-AC7D-7B59905B5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5E1F0-171A-40BE-83C4-09BC1EFD0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84C5-68A4-495E-A9E9-20A9ABD7C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2DB7-0E55-4C4C-AEA7-70AF8D1B0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EFED-1007-4638-B296-C57F3F0DF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88C6-AAB4-4BE6-A4B4-F2142505C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C971-4FBC-4B4C-99C2-A2E3D3E9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5687-9129-46CA-A978-76754E08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5034-EEF9-4349-833D-ECAA8D8E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AF2BC-7AFD-4589-8643-A5D5AB18AF1A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FD1A6-E982-40E0-B726-ED9A25831A6E}" type="slidenum">
              <a:rPr b="0" lang="cs-CZ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ikimedia.org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00000" y="1125360"/>
            <a:ext cx="76312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700"/>
            </a:br>
            <a:br>
              <a:rPr sz="5700"/>
            </a:br>
            <a:r>
              <a:rPr b="0" lang="cs-CZ" sz="5700" spc="-1" strike="noStrike">
                <a:solidFill>
                  <a:srgbClr val="ccecff"/>
                </a:solidFill>
                <a:latin typeface="Arial"/>
              </a:rPr>
              <a:t>Václav Havel</a:t>
            </a:r>
            <a:endParaRPr b="0" lang="en-US" sz="57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0" y="515736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eaeaea"/>
                </a:solidFill>
                <a:latin typeface="Tahoma"/>
              </a:rPr>
              <a:t>Autorem materiálu a všech jeho částí, není-li uvedeno jinak,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eaeaea"/>
                </a:solidFill>
                <a:latin typeface="Tahoma"/>
              </a:rPr>
              <a:t>je Mgr. Hana Zimová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eaeaea"/>
                </a:solidFill>
                <a:latin typeface="Tahoma"/>
              </a:rPr>
              <a:t>Vytvořeno dne 28. 3. 2012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eaeaea"/>
                </a:solidFill>
                <a:latin typeface="Tahoma"/>
              </a:rPr>
              <a:t>Nový začátek (New start) CZ.1.07/1.4.00/21.1409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eaeaea"/>
                </a:solidFill>
                <a:latin typeface="Tahoma"/>
              </a:rPr>
              <a:t>Tento projekt je spolufinancován Evropským sociálním fondem a státním rozpočtem České republiky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4" name="obrázek 2" descr="Logolink_horizontal_zaklad_RGB"/>
          <p:cNvPicPr/>
          <p:nvPr/>
        </p:nvPicPr>
        <p:blipFill>
          <a:blip r:embed="rId1"/>
          <a:stretch/>
        </p:blipFill>
        <p:spPr>
          <a:xfrm>
            <a:off x="1763640" y="404640"/>
            <a:ext cx="57531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78920" y="333360"/>
            <a:ext cx="381636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Václav Havel v roce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2010 při vzpomínkové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akci u pamětní desk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k událostem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17. listopadu 1989 na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Národní třídě v Praz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6" name="Picture 5" descr="VH"/>
          <p:cNvPicPr/>
          <p:nvPr/>
        </p:nvPicPr>
        <p:blipFill>
          <a:blip r:embed="rId1"/>
          <a:stretch/>
        </p:blipFill>
        <p:spPr>
          <a:xfrm>
            <a:off x="4067280" y="333360"/>
            <a:ext cx="5076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Arial"/>
              </a:rPr>
              <a:t>Pietní akce k úmrtí Václava Havl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9" name="Picture 5" descr="Pietní akce"/>
          <p:cNvPicPr/>
          <p:nvPr/>
        </p:nvPicPr>
        <p:blipFill>
          <a:blip r:embed="rId1"/>
          <a:stretch/>
        </p:blipFill>
        <p:spPr>
          <a:xfrm>
            <a:off x="755640" y="1484280"/>
            <a:ext cx="762012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Verdana"/>
              </a:rPr>
              <a:t>Zdroj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eaeaea"/>
                </a:solidFill>
                <a:latin typeface="Verdana"/>
              </a:rPr>
              <a:t>MÜLLER, Oldřich. </a:t>
            </a:r>
            <a:r>
              <a:rPr b="0" i="1" lang="cs-CZ" sz="1600" spc="-1" strike="noStrike">
                <a:solidFill>
                  <a:srgbClr val="eaeaea"/>
                </a:solidFill>
                <a:latin typeface="Verdana"/>
              </a:rPr>
              <a:t>Dějepis pro 2. stupeň základní školy praktické. </a:t>
            </a:r>
            <a:r>
              <a:rPr b="0" lang="cs-CZ" sz="1600" spc="-1" strike="noStrike">
                <a:solidFill>
                  <a:srgbClr val="eaeaea"/>
                </a:solidFill>
                <a:latin typeface="Verdana"/>
              </a:rPr>
              <a:t>4. díl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eaeaea"/>
                </a:solidFill>
                <a:latin typeface="Verdana"/>
              </a:rPr>
              <a:t>1. vydání. Praha : Parta, 2010. ISBN 9788073201241. s. 59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eaeaea"/>
                </a:solidFill>
                <a:latin typeface="Verdana"/>
              </a:rPr>
              <a:t>KOHOUTKOVÁ, H.; KOMSOVÁ, M. </a:t>
            </a:r>
            <a:r>
              <a:rPr b="0" i="1" lang="cs-CZ" sz="1600" spc="-1" strike="noStrike">
                <a:solidFill>
                  <a:srgbClr val="eaeaea"/>
                </a:solidFill>
                <a:latin typeface="Verdana"/>
              </a:rPr>
              <a:t>Dějepis na dlani. 2</a:t>
            </a:r>
            <a:r>
              <a:rPr b="0" lang="cs-CZ" sz="1600" spc="-1" strike="noStrike">
                <a:solidFill>
                  <a:srgbClr val="eaeaea"/>
                </a:solidFill>
                <a:latin typeface="Verdana"/>
              </a:rPr>
              <a:t>. vydání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eaeaea"/>
                </a:solidFill>
                <a:latin typeface="Verdana"/>
              </a:rPr>
              <a:t>Olomouc : Rubico, 2007. ISBN 8073460653. s. 242 - 244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cecff"/>
                </a:solidFill>
                <a:latin typeface="Verdana"/>
              </a:rPr>
              <a:t>Zdroje obrázků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eaeaea"/>
                </a:solidFill>
                <a:latin typeface="Verdana"/>
              </a:rPr>
              <a:t>Všechny uveřejněné odkazy [cit. 2012-03-28] dostupné pod licencí Creative Commons – </a:t>
            </a:r>
            <a:r>
              <a:rPr b="0" lang="cs-CZ" sz="1800" spc="-1" strike="noStrike" u="sng">
                <a:solidFill>
                  <a:srgbClr val="65b2ff"/>
                </a:solidFill>
                <a:uFillTx/>
                <a:latin typeface="Verdana"/>
                <a:hlinkClick r:id="rId1"/>
              </a:rPr>
              <a:t>http://wikimedia.org/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eaeaea"/>
                </a:solidFill>
                <a:latin typeface="Verdana"/>
              </a:rPr>
              <a:t>Václav Have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eaeaea"/>
                </a:solidFill>
                <a:latin typeface="Verdana"/>
              </a:rPr>
              <a:t>http://commons.wikimedia.org/wiki/File:V%C3%A1clav_Havel_cut_out.jpg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eaeaea"/>
                </a:solidFill>
                <a:latin typeface="Verdana"/>
              </a:rPr>
              <a:t>Václav Havel při vzpomínkové akci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eaeaea"/>
                </a:solidFill>
                <a:latin typeface="Verdana"/>
              </a:rPr>
              <a:t>http://commons.wikimedia.org/wiki/File:N%C3%A1rodn%C3%AD_t%C5%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eaeaea"/>
                </a:solidFill>
                <a:latin typeface="Verdana"/>
              </a:rPr>
              <a:t>99%C3%ADda_(2010).jpg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eaeaea"/>
                </a:solidFill>
                <a:latin typeface="Verdana"/>
              </a:rPr>
              <a:t>Pietní akc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eaeaea"/>
                </a:solidFill>
                <a:latin typeface="Verdana"/>
              </a:rPr>
              <a:t>http://commons.wikimedia.org/wiki/File:Pietn%C3%AD_shrom%C3%A1%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eaeaea"/>
                </a:solidFill>
                <a:latin typeface="Verdana"/>
              </a:rPr>
              <a:t>C5%BEd%C4%9Bn%C3%AD_na_V%C3%A1clavsk%C3%A9m_n%C3%A1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eaeaea"/>
                </a:solidFill>
                <a:latin typeface="Verdana"/>
              </a:rPr>
              <a:t>m%C4%9Bst%C3%AD_p%C5%99i_p%C5%99%C3%ADle%C5%BEitosti_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eaeaea"/>
                </a:solidFill>
                <a:latin typeface="Verdana"/>
              </a:rPr>
              <a:t>%C3%BAmrt%C3%AD_V%C3%A1clava_Havla_v_roce_2011_(15).JPG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50560" y="1989000"/>
            <a:ext cx="865080" cy="43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eaeaea"/>
                </a:solidFill>
                <a:latin typeface="Tahoma"/>
              </a:rPr>
              <a:t>č. 7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79280" y="2637000"/>
          <a:ext cx="8785440" cy="4038480"/>
        </p:xfrm>
        <a:graphic>
          <a:graphicData uri="http://schemas.openxmlformats.org/drawingml/2006/table">
            <a:tbl>
              <a:tblPr/>
              <a:tblGrid>
                <a:gridCol w="4238640"/>
                <a:gridCol w="4546800"/>
              </a:tblGrid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Arial Unicode MS"/>
                          <a:ea typeface="Arial Unicode MS"/>
                        </a:rPr>
                        <a:t>název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Václav Havel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Arial Unicode MS"/>
                          <a:ea typeface="Arial Unicode MS"/>
                        </a:rPr>
                        <a:t>anotace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eaeaea"/>
                          </a:solidFill>
                          <a:latin typeface="Arial Unicode MS"/>
                        </a:rPr>
                        <a:t>Žáci </a:t>
                      </a:r>
                      <a:r>
                        <a:rPr b="0" i="1" lang="cs-CZ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znají osobnost Václava Havla</a:t>
                      </a:r>
                      <a:r>
                        <a:rPr b="0" i="1" lang="cs-CZ" sz="2000" spc="-1" strike="noStrike">
                          <a:solidFill>
                            <a:srgbClr val="eaeaea"/>
                          </a:solidFill>
                          <a:latin typeface="Arial Unicode MS"/>
                        </a:rPr>
                        <a:t>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Arial Unicode MS"/>
                          <a:ea typeface="Arial Unicode MS"/>
                        </a:rPr>
                        <a:t>očekávaný výstup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Arial Unicode MS"/>
                          <a:ea typeface="Arial Unicode MS"/>
                        </a:rPr>
                        <a:t>ZV – LMP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Arial Unicode MS"/>
                          <a:ea typeface="Arial Unicode MS"/>
                        </a:rPr>
                        <a:t>Člověk a společnost – 2. stupeň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Arial Unicode MS"/>
                          <a:ea typeface="Arial Unicode MS"/>
                        </a:rPr>
                        <a:t>D – </a:t>
                      </a: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Arial"/>
                          <a:ea typeface="Arial Unicode MS"/>
                        </a:rPr>
                        <a:t>chápat význam událostí v roce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Arial"/>
                          <a:ea typeface="Arial Unicode MS"/>
                        </a:rPr>
                        <a:t>1989 a vítězství demokracie v naší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Arial"/>
                          <a:ea typeface="Arial Unicode MS"/>
                        </a:rPr>
                        <a:t>vlasti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Arial Unicode MS"/>
                          <a:ea typeface="Arial Unicode MS"/>
                        </a:rPr>
                        <a:t>druh učebního materiálu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Arial Unicode MS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Arial Unicode MS"/>
                          <a:ea typeface="Arial Unicode MS"/>
                        </a:rPr>
                        <a:t>druh interaktivity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Výklad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Arial Unicode MS"/>
                          <a:ea typeface="Arial"/>
                        </a:rPr>
                        <a:t>ročník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9</a:t>
                      </a:r>
                      <a:r>
                        <a:rPr b="0" lang="cs-CZ" sz="2000" spc="-1" strike="noStrike">
                          <a:solidFill>
                            <a:srgbClr val="eaeaea"/>
                          </a:solidFill>
                          <a:latin typeface="Arial Unicode MS"/>
                        </a:rPr>
                        <a:t>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400" y="-360"/>
            <a:ext cx="8226360" cy="76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Základní dat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907920"/>
            <a:ext cx="48592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Arial"/>
              </a:rPr>
              <a:t>Narodil se</a:t>
            </a: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00"/>
                </a:solidFill>
                <a:latin typeface="Arial"/>
              </a:rPr>
              <a:t>5. října 1936</a:t>
            </a: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v Praze, </a:t>
            </a:r>
            <a:r>
              <a:rPr b="0" lang="cs-CZ" sz="2400" spc="-1" strike="noStrike">
                <a:solidFill>
                  <a:srgbClr val="66ff33"/>
                </a:solidFill>
                <a:latin typeface="Arial"/>
              </a:rPr>
              <a:t>zemřel 18. prosi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ff33"/>
                </a:solidFill>
                <a:latin typeface="Arial"/>
              </a:rPr>
              <a:t>2011</a:t>
            </a: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 na Hrádečku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9. července 1964 se po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osmileté známosti oženil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s Olgou Šplíchalovou.</a:t>
            </a: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Byl to </a:t>
            </a:r>
            <a:r>
              <a:rPr b="1" lang="cs-CZ" sz="2400" spc="-1" strike="noStrike">
                <a:solidFill>
                  <a:srgbClr val="eaeaea"/>
                </a:solidFill>
                <a:latin typeface="Arial"/>
              </a:rPr>
              <a:t>český </a:t>
            </a:r>
            <a:r>
              <a:rPr b="1" lang="cs-CZ" sz="2400" spc="-1" strike="noStrike">
                <a:solidFill>
                  <a:srgbClr val="ff00ff"/>
                </a:solidFill>
                <a:latin typeface="Arial"/>
              </a:rPr>
              <a:t>dramatik</a:t>
            </a: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, kritik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komunistického režimu a později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politik. Byl devátým a posledním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Arial"/>
              </a:rPr>
              <a:t>prezidentem</a:t>
            </a: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 Československa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(1989–1992) a prvním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prezidentem České republiky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(1993–2003)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645080" y="1598400"/>
            <a:ext cx="403704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0" name="Picture 7" descr="Václav Havel"/>
          <p:cNvPicPr/>
          <p:nvPr/>
        </p:nvPicPr>
        <p:blipFill>
          <a:blip r:embed="rId1"/>
          <a:stretch/>
        </p:blipFill>
        <p:spPr>
          <a:xfrm>
            <a:off x="4500720" y="1052640"/>
            <a:ext cx="464328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000" y="-316080"/>
            <a:ext cx="8226360" cy="115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ff33"/>
                </a:solidFill>
                <a:latin typeface="Arial"/>
              </a:rPr>
              <a:t>Mládí V. Havl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8000" y="691920"/>
            <a:ext cx="9036000" cy="60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Václav Havel se narodil v Praze ve známé pražské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podnikatelské rodině Václava M. Havla a jeho manželk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Boženy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Jeho bratrem je vědec Ivan M. Havel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Byl vnukem československého diplomata Huga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Vavrečky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Po osvobození Československa v roce 1945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navštěvoval </a:t>
            </a:r>
            <a:r>
              <a:rPr b="0" lang="cs-CZ" sz="2800" spc="-1" strike="noStrike">
                <a:solidFill>
                  <a:srgbClr val="ffff00"/>
                </a:solidFill>
                <a:latin typeface="Arial"/>
              </a:rPr>
              <a:t>elitní internátní školu v Poděbradech</a:t>
            </a: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 (spolu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s Milošem Formanem)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Po ukončení základní školní docházky měl Václav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Havel v komunistickém režimu kvůli svému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Arial"/>
              </a:rPr>
              <a:t>"buržoaznímu"</a:t>
            </a: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 původu potíže studovat na střední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škole podle vlastní volby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-360"/>
            <a:ext cx="822636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Arial"/>
              </a:rPr>
              <a:t>Studiu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V roce 1951 nastoupil do učebního oboru jako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chemický laborant </a:t>
            </a: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a na střední škole studoval večerně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Arial"/>
              </a:rPr>
              <a:t>Maturitu na gymnáziu</a:t>
            </a: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 ve Štěpánské ulici v Praze složil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roku </a:t>
            </a:r>
            <a:r>
              <a:rPr b="0" lang="cs-CZ" sz="2800" spc="-1" strike="noStrike">
                <a:solidFill>
                  <a:srgbClr val="ffff00"/>
                </a:solidFill>
                <a:latin typeface="Arial"/>
              </a:rPr>
              <a:t>1954</a:t>
            </a: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Z kádrových důvodů nebyl přijat ani na žádnou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VŠ humanitního zaměření, a proto v letech 1955 – 1957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studoval na </a:t>
            </a:r>
            <a:r>
              <a:rPr b="0" lang="cs-CZ" sz="2800" spc="-1" strike="noStrike">
                <a:solidFill>
                  <a:srgbClr val="66ff33"/>
                </a:solidFill>
                <a:latin typeface="Arial"/>
              </a:rPr>
              <a:t>ekonomické fakultě ČVUT</a:t>
            </a: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Pokusil se přestoupit na filmovou fakultu Akademie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múzických umění, byl však odmítnut a nebyl přijat zpět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na ČVU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Nakonec dálkově vystudoval divadelní fakultu </a:t>
            </a:r>
            <a:r>
              <a:rPr b="0" lang="cs-CZ" sz="2800" spc="-1" strike="noStrike">
                <a:solidFill>
                  <a:srgbClr val="ff00ff"/>
                </a:solidFill>
                <a:latin typeface="Arial"/>
              </a:rPr>
              <a:t>Akademie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ff"/>
                </a:solidFill>
                <a:latin typeface="Arial"/>
              </a:rPr>
              <a:t>múzických umění</a:t>
            </a: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, kterou absolvoval roku 1966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-360"/>
            <a:ext cx="8226360" cy="1197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Divadelní činno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Po skončení základní vojenské služby (1957–1959) Václav Havel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pracoval jako </a:t>
            </a:r>
            <a:r>
              <a:rPr b="1" lang="cs-CZ" sz="2400" spc="-1" strike="noStrike">
                <a:solidFill>
                  <a:srgbClr val="ffff00"/>
                </a:solidFill>
                <a:latin typeface="Arial"/>
              </a:rPr>
              <a:t>jevištní technik</a:t>
            </a: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 nejprve v Divadle ABC a od r. 1960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v Divadle Na zábradlí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V roce 1959 napsal svou první divadelní hru </a:t>
            </a:r>
            <a:r>
              <a:rPr b="1" i="1" lang="cs-CZ" sz="2400" spc="-1" strike="noStrike">
                <a:solidFill>
                  <a:srgbClr val="ffff00"/>
                </a:solidFill>
                <a:latin typeface="Arial"/>
              </a:rPr>
              <a:t>Rodinný večer</a:t>
            </a: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3. prosince 1963 Divadlo Na zábradlí uvedlo jeho druhou hru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00"/>
                </a:solidFill>
                <a:latin typeface="Arial"/>
              </a:rPr>
              <a:t>Zahradní slavnost</a:t>
            </a: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V 60. letech zároveň pracoval jako asistent režie Alfréda Radoka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v Městských divadlech pražských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Po vystudování </a:t>
            </a:r>
            <a:r>
              <a:rPr b="0" lang="cs-CZ" sz="2400" spc="-1" strike="noStrike">
                <a:solidFill>
                  <a:srgbClr val="ff00ff"/>
                </a:solidFill>
                <a:latin typeface="Arial"/>
              </a:rPr>
              <a:t>Akademie múzických umění </a:t>
            </a: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roku 1966 by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Arial"/>
              </a:rPr>
              <a:t>dramaturgem divadla Na zábradlí</a:t>
            </a: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Roku 1965 se stal </a:t>
            </a:r>
            <a:r>
              <a:rPr b="0" lang="cs-CZ" sz="2400" spc="-1" strike="noStrike">
                <a:solidFill>
                  <a:srgbClr val="ffff00"/>
                </a:solidFill>
                <a:latin typeface="Arial"/>
              </a:rPr>
              <a:t>členem redakční rady</a:t>
            </a: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 literárního měsíčníku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Tvář a v Divadle Na zábradlí uvedl hru </a:t>
            </a:r>
            <a:r>
              <a:rPr b="1" i="1" lang="cs-CZ" sz="2400" spc="-1" strike="noStrike">
                <a:solidFill>
                  <a:srgbClr val="ffff00"/>
                </a:solidFill>
                <a:latin typeface="Arial"/>
              </a:rPr>
              <a:t>Vyrozumění</a:t>
            </a: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Roku 1966 vydal </a:t>
            </a:r>
            <a:r>
              <a:rPr b="0" lang="cs-CZ" sz="2400" spc="-1" strike="noStrike">
                <a:solidFill>
                  <a:srgbClr val="ffff00"/>
                </a:solidFill>
                <a:latin typeface="Arial"/>
              </a:rPr>
              <a:t>svou první knihu </a:t>
            </a:r>
            <a:r>
              <a:rPr b="0" i="1" lang="cs-CZ" sz="2400" spc="-1" strike="noStrike">
                <a:solidFill>
                  <a:srgbClr val="ffff00"/>
                </a:solidFill>
                <a:latin typeface="Arial"/>
              </a:rPr>
              <a:t>Protokoly</a:t>
            </a:r>
            <a:r>
              <a:rPr b="0" i="1" lang="cs-CZ" sz="24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5400" y="-360"/>
            <a:ext cx="822636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Disid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0360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V době kolem Pražského jara (1968 – 1969) se Václav Havel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zapojil do politické diskuse, prosazoval zavedení demokratické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společnosti a svobody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Po násilném potlačení demokratických snah a protestů proti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režimu vojenskou invazí států Varšavské smlouvy měl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zákaz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publikovat</a:t>
            </a: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 a stal se jedním z </a:t>
            </a:r>
            <a:r>
              <a:rPr b="1" lang="cs-CZ" sz="2400" spc="-1" strike="noStrike">
                <a:solidFill>
                  <a:srgbClr val="ffff00"/>
                </a:solidFill>
                <a:latin typeface="Arial"/>
              </a:rPr>
              <a:t>disidentů</a:t>
            </a: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, kritiků tehdejšího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normalizačního režimu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Vystupoval na obranu politických vězňů a stal se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spoluzakladatelem a jedním z prvních mluvčích občanské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iniciativy za dodržování lidských práv -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Charta 77</a:t>
            </a: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To sice upevnilo jeho mezinárodní prestiž, ale také mu vyneslo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celkem asi pět let </a:t>
            </a:r>
            <a:r>
              <a:rPr b="0" lang="cs-CZ" sz="2400" spc="-1" strike="noStrike">
                <a:solidFill>
                  <a:srgbClr val="ffff00"/>
                </a:solidFill>
                <a:latin typeface="Arial"/>
              </a:rPr>
              <a:t>věznění</a:t>
            </a: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0"/>
            <a:ext cx="822636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Zákaz divadelní činnost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Po potlačení Pražského jara musel Václav Havel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opustit divadlo a jeho díla se v Československu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přestala vydávat a hrát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Byl však již autorem uznávaným i v zahraničí – již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roku 1968 obdržel </a:t>
            </a:r>
            <a:r>
              <a:rPr b="0" lang="cs-CZ" sz="2800" spc="-1" strike="noStrike">
                <a:solidFill>
                  <a:srgbClr val="ffff00"/>
                </a:solidFill>
                <a:latin typeface="Arial"/>
              </a:rPr>
              <a:t>Velkou rakouskou státní cenu</a:t>
            </a: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 za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evropskou literaturu a dvakrát 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v New Yorku</a:t>
            </a: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 získal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Arial"/>
              </a:rPr>
              <a:t>cenu Obie</a:t>
            </a: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 za hry </a:t>
            </a:r>
            <a:r>
              <a:rPr b="0" i="1" lang="cs-CZ" sz="2800" spc="-1" strike="noStrike">
                <a:solidFill>
                  <a:srgbClr val="eaeaea"/>
                </a:solidFill>
                <a:latin typeface="Arial"/>
              </a:rPr>
              <a:t>Vyrozumění</a:t>
            </a: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 (1969) a </a:t>
            </a:r>
            <a:r>
              <a:rPr b="0" i="1" lang="cs-CZ" sz="2800" spc="-1" strike="noStrike">
                <a:solidFill>
                  <a:srgbClr val="eaeaea"/>
                </a:solidFill>
                <a:latin typeface="Arial"/>
              </a:rPr>
              <a:t>Ztížená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eaeaea"/>
                </a:solidFill>
                <a:latin typeface="Arial"/>
              </a:rPr>
              <a:t>možnost soustředění</a:t>
            </a: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 (1970)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To pro něho v následujících dvaceti letech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normalizace znamenalo jistou finanční nezávislost a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podporu světového veřejného mínění, kdykoli byl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Arial"/>
              </a:rPr>
              <a:t>komunistickým režimem za své názory vězně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0"/>
            <a:ext cx="822636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Václav Havel jako politi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Po vypuknutí Sametové revoluce v listopadu 1989 se Václav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Havel stal jedním ze spoluzakladatelů protikomunistického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hnutí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Občanské fórum</a:t>
            </a: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 a jako jeho kandidát byl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Arial"/>
              </a:rPr>
              <a:t>29. prosince 1989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Arial"/>
              </a:rPr>
              <a:t>zvolen </a:t>
            </a:r>
            <a:r>
              <a:rPr b="1" lang="cs-CZ" sz="2800" spc="-1" strike="noStrike">
                <a:solidFill>
                  <a:srgbClr val="ffff00"/>
                </a:solidFill>
                <a:latin typeface="Arial"/>
              </a:rPr>
              <a:t>prezidentem</a:t>
            </a:r>
            <a:r>
              <a:rPr b="0" lang="cs-CZ" sz="2400" spc="-1" strike="noStrike">
                <a:solidFill>
                  <a:srgbClr val="ffff00"/>
                </a:solidFill>
                <a:latin typeface="Arial"/>
              </a:rPr>
              <a:t> Československa</a:t>
            </a: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V roce 1992 se mu nepodařilo zabránit rozpadu státu na dva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samostatné státy, Českou republiku a Slovenskou republiku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Od roku 1993 byl po dvě funkční období prezidentem České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republiky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Jako prezident vyvedl Československo z Varšavské smlouvy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(1. července 1991) a výrazně přispěl ke vstupu nástupnické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České republiky do Severoatlantické aliance (NATO) v r. 1999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Havel výrazně prosazoval také přijetí České republiky do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Evropské unie, uskutečněné v roce 2004 po jeho odchodu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z funkce prezidenta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8T08:03:47Z</dcterms:created>
  <dc:creator>Sbor</dc:creator>
  <dc:description/>
  <dc:language>en-US</dc:language>
  <cp:lastModifiedBy>martina</cp:lastModifiedBy>
  <dcterms:modified xsi:type="dcterms:W3CDTF">2013-06-09T07:20:18Z</dcterms:modified>
  <cp:revision>15</cp:revision>
  <dc:subject/>
  <dc:title>Václav Havel</dc:title>
</cp:coreProperties>
</file>