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BCF-72DC-481F-9DC4-A91EFF84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2B1-97CE-4FFF-B845-3250C1D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46-3ABF-4BDE-A847-0C872FA9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B2A-5CC9-4D92-B53E-D1C8DFE1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8987-B43F-4795-96D0-138C935E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4C87-ADAC-4CCE-9AC0-C5B61397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1A5-2190-4328-9B46-C6B9A5F3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2C85-6607-4CB6-920F-08FEAEC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65D-450B-4178-8009-857DEB3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FB6-B0B1-49C3-9A2C-871304CB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B72-F939-43C5-ADDE-8C0EB72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6EB-9245-484C-BDAD-EF6C6C6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E86-1677-4A8F-BC0A-4D351D07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4C64-9878-4851-BEF4-7A61BA6D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953-6AA3-43E2-BB68-41EBABC3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B54D-1664-4F7D-A7D0-F2B9C090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59CA-1FD3-4F43-BD50-F85A2910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6D6-93CA-4D3F-B80A-ECE8DF0F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B49-A4B8-4B56-833B-3D876BDE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A53-AEED-4300-9F83-AEA507FB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352-B04E-49E1-BC63-8DED2FD9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E4B-BB1F-42B8-97DF-2E25619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43E-BAC7-40F3-BCA7-B3C4265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0D-6450-4307-8201-FA4440A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9B1-931B-41FA-A270-1AD71824889A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4B9-AA85-493B-B90E-890C0FE96781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br>
              <a:rPr sz="4700"/>
            </a:br>
            <a:r>
              <a:rPr b="0" lang="cs-CZ" sz="47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2. 4. 201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547640" y="40464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4 - 15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2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é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Pietro_Longhi_021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ýrobna alchymistů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Aurora-dragon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lchymis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JosephWright-Alchemist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7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240360"/>
                <a:gridCol w="55450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chy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rozlišují realitu a skutečnost na císařském dvoře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Verdan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Vláda Rudolfa II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ládl v letech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1576 – 161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anování Rudolfa II. je dobou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alchymist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lidé, kteří se snažili vyrobit zlato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elixír život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(tekutinu, která omlazuje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ice zlato ani elixír nevyrobili, ale zat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učinili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mnoho důležitých objevů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Výklad slova 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ALCHYMI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xistuje několik výkladů tohoto slova, ale za nejpravděpodobnější bývají považovány dvě teori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1) Odvození od slov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emi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černá země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tradiční název Egyp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2) Odvození od slova </a:t>
            </a:r>
            <a:r>
              <a:rPr b="0" i="1" lang="cs-CZ" sz="3200" spc="-1" strike="noStrike">
                <a:solidFill>
                  <a:srgbClr val="000000"/>
                </a:solidFill>
                <a:latin typeface="Verdana"/>
              </a:rPr>
              <a:t>ta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ta,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tj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 řečtině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itelné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resp. 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</a:rPr>
              <a:t>chym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éván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“, 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taven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chymist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File:Pietro Longhi 021.jpg"/>
          <p:cNvPicPr/>
          <p:nvPr/>
        </p:nvPicPr>
        <p:blipFill>
          <a:blip r:embed="rId1"/>
          <a:stretch/>
        </p:blipFill>
        <p:spPr>
          <a:xfrm>
            <a:off x="1979640" y="981000"/>
            <a:ext cx="52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Elixír živo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567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rámci alchymistického procesu proměn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ých kovů ve zlato se též označu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Verdana"/>
              </a:rPr>
              <a:t>pitné zlat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lat. aurum potabile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jedné straně má bý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lékem na choro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např. smrtelnou rakovinu) a tím zajisti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druhé straně se řeší problé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ecnéh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odloužení života, nezávisle 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emocech -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generace, omládnut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Alchymie jako předvědecký obo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lchymie je chápána jako předvědeck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bor, který rozvinul pokusné poznává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řírodních dějů a bývá označována jak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tradiční vě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tředověcí alchymisté používali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mezi různými znaky převzatými z živé 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eživé přírody, živly, barvami, tělesný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orgány, znameními zvěrokruhu č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lanet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Výrobna alchymist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File:Aurora-dragon.jpg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cs-CZ" sz="3600" spc="-1" strike="noStrike">
                <a:solidFill>
                  <a:srgbClr val="008000"/>
                </a:solidFill>
                <a:latin typeface="Verdana"/>
              </a:rPr>
              <a:t>Alchymis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File:JosephWright-Alchemist.jpg"/>
          <p:cNvPicPr/>
          <p:nvPr/>
        </p:nvPicPr>
        <p:blipFill>
          <a:blip r:embed="rId2"/>
          <a:stretch/>
        </p:blipFill>
        <p:spPr>
          <a:xfrm>
            <a:off x="395280" y="333360"/>
            <a:ext cx="4608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9:04Z</dcterms:created>
  <dc:creator>Hana Zimová</dc:creator>
  <dc:description/>
  <dc:language>en-US</dc:language>
  <cp:lastModifiedBy>martina</cp:lastModifiedBy>
  <dcterms:modified xsi:type="dcterms:W3CDTF">2013-06-09T07:29:13Z</dcterms:modified>
  <cp:revision>13</cp:revision>
  <dc:subject/>
  <dc:title>  Alchymie</dc:title>
</cp:coreProperties>
</file>