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0B4-4CD2-4156-8CFA-D81E1A6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CE2-5FFE-447B-BE14-52616F4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24A-9365-492E-9D33-2FCBB6D4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452-EEE2-4C6B-9367-2A721433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65D-5FB1-4019-8B41-1189594F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6AB2-88BD-4106-8A0A-C32E9A2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885-D32F-4C91-A793-35E2B18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F021-94ED-46FE-9B02-0F702BF5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AE73-85E2-4965-86F3-1D8B6DC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4E6-6BD6-4B3A-8FE4-8372030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57DD-7572-4B2C-A784-2078AB8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6FA-AF68-4142-BFDE-5DBD1B6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0D1-A1D9-4895-A47D-1E92C5A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31CB-AAD5-4099-B2C6-8C0B8BF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57D-0B25-4E16-BDA1-40F547F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2FC9-B14A-4512-97E0-01C11DA2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785-EE7C-41EA-ACC7-52AFAF67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779-2D76-4855-8D30-FCCE704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B04-3D23-4058-80C2-6072D9ED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6B9-EEA5-4213-B976-9342BD4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437-29DF-4388-AB75-6B3140B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DA4-0347-40FB-9868-02DC5D5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29D-11F0-48EC-95F0-DE42A74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778-106B-4376-AA40-CE73798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E3B-3590-4478-A72E-BEA5217019A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B3D-8EAB-4702-A1D6-F51E2977FE7B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00ff99"/>
                </a:solidFill>
                <a:latin typeface="Arial"/>
              </a:rPr>
              <a:t>Bitva na Bílé hoře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4. 4. 201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2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efenestra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Karel_Svoboda_Defenestrace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obové vyobrazení bitv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Battle_of_White_Mountain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rchol návrší s pamětní mohylo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Wite_Mountain_-_the_tumulus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¨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8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itva na Bílé hoř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, průběh bitvy na Bílé hoř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přehled o zásadních historických událostech v našich zemí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ovstání českých stav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absburští panovníci, kteří vládli po císaři Rudolfu II., stále ví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Verdana"/>
              </a:rPr>
              <a:t>omezovali práva české šlechty a mě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se v Praze sešli a sepsali svoji stížnost a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23. května 16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se ji vydali předat n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ažský hrad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zástupcům krále, který sídlil ve Vídn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Hradě však došlo k bitce, při které šlechtici </a:t>
            </a:r>
            <a:r>
              <a:rPr b="1" lang="cs-CZ" sz="2800" spc="-1" strike="noStrike">
                <a:solidFill>
                  <a:srgbClr val="00ff99"/>
                </a:solidFill>
                <a:latin typeface="Verdana"/>
              </a:rPr>
              <a:t>vyhodili královské zástupce z o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o hradního příkop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cs-CZ" sz="2800" spc="-1" strike="noStrike">
                <a:solidFill>
                  <a:srgbClr val="00ff99"/>
                </a:solidFill>
                <a:latin typeface="Verdana"/>
              </a:rPr>
              <a:t>defenestra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ím začala </a:t>
            </a:r>
            <a:r>
              <a:rPr b="1" i="1" lang="cs-CZ" sz="2800" spc="-1" strike="noStrike">
                <a:solidFill>
                  <a:srgbClr val="ffff66"/>
                </a:solidFill>
                <a:latin typeface="Verdana"/>
              </a:rPr>
              <a:t>válka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 mezi habsburským panovníkem a českými šlechtici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álka se rozšířila do mnoha zem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rvala 30 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ji nazýváme </a:t>
            </a:r>
            <a:r>
              <a:rPr b="1" i="1" lang="cs-CZ" sz="2800" spc="-1" strike="noStrike">
                <a:solidFill>
                  <a:srgbClr val="ccff66"/>
                </a:solidFill>
                <a:latin typeface="Verdana"/>
              </a:rPr>
              <a:t>třicetiletou válko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ražská defenestr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684360" y="1268280"/>
          <a:ext cx="770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70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Bitva na Bílé hoř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poslal do Čech armádu proti armádě českých šlechticů a měšťan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ojska se střetla 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8. listopadu 162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a</a:t>
            </a:r>
            <a:r>
              <a:rPr b="0" lang="cs-CZ" sz="32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Bílé hoř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edaleko Prah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ská vojska se dala brzy na ústup, neměla šanci proti přesile císařských voj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Dobové vyobrazení bitvy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na Bílé hoř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324000" y="1413000"/>
          <a:ext cx="8424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24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Vrchol návrší s pamětní mohylo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250920" y="1125360"/>
          <a:ext cx="864216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Potrestání českých šlechticů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a měšťan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tvrdě potrestal vzbouřené české a moravské pány a měšťany. </a:t>
            </a:r>
            <a:r>
              <a:rPr b="1" lang="cs-CZ" sz="3200" spc="-1" strike="noStrike">
                <a:solidFill>
                  <a:srgbClr val="ff6600"/>
                </a:solidFill>
                <a:latin typeface="Verdana"/>
              </a:rPr>
              <a:t>21. června 1621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al na Staroměstském náměstí postavit lešení a nechal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popravit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 27 vůdců povstá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tatním vzpurným šlechticům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zabavil majetek a vyhnal je ze zem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katolíci museli přestoupit na katolick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íru =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konec náboženské svo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Čechách, kterou zaručil Rudolf I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  <a:ea typeface="Verdana"/>
              </a:rPr>
              <a:t>Dějepis pro 2. stupeň základní školy praktické. 3. díl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6 - 1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7 - 10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6:30Z</dcterms:created>
  <dc:creator>Hana Zimová</dc:creator>
  <dc:description/>
  <dc:language>en-US</dc:language>
  <cp:lastModifiedBy>martina</cp:lastModifiedBy>
  <dcterms:modified xsi:type="dcterms:W3CDTF">2013-06-09T07:29:55Z</dcterms:modified>
  <cp:revision>18</cp:revision>
  <dc:subject/>
  <dc:title>  Bitva na Bílé hoře</dc:title>
</cp:coreProperties>
</file>