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A80E-1CC1-4EE5-8322-5D144F6E6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985D-11FF-4F2E-AA5C-7AA8D1CC8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CBED-772C-49DF-963D-06446BAAB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9DC9-A246-4327-99E1-B160E01B2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6B0E-CF80-470D-B1D1-CCC229F04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9A7E-CF8A-4123-8EC3-65333835D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0F3F-C6A5-497A-8249-0342D318E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EA48-CA29-4ED0-829D-DC011A024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FAD0-EBD3-4DA1-9E3B-70BA0AD2E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F334-5604-4C79-ABA2-BED0CB90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EAF1-C4EE-471A-A214-C44BEEF2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26B8-1B64-4740-8548-4D3D793F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68E82-4083-430F-BC3A-D43F602E54CC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cs.wikipedia.org/wiki/Soubor:Edvard_Bene&#353;_podpis.jpg" TargetMode="External"/><Relationship Id="rId2" Type="http://schemas.openxmlformats.org/officeDocument/2006/relationships/image" Target="../media/image3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1125360"/>
            <a:ext cx="82072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700"/>
            </a:br>
            <a:r>
              <a:rPr b="1" lang="cs-CZ" sz="5400" spc="-1" strike="noStrike">
                <a:solidFill>
                  <a:srgbClr val="e5ffff"/>
                </a:solidFill>
                <a:latin typeface="Tahoma"/>
              </a:rPr>
              <a:t>Edvard Beneš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515736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Autorem materiálu a všech jeho částí, není-li uvedeno jinak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je Mgr. Hana Zimová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Vytvořeno dne 16. 10. 2012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Nový začátek (New start) CZ.1.07/1.4.00/21.1409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Tento projekt je spolufinancován Evropským sociálním fondem a státním rozpočtem České republiky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" name="obrázek 2" descr="Logolink_horizontal_zaklad_RGB"/>
          <p:cNvPicPr/>
          <p:nvPr/>
        </p:nvPicPr>
        <p:blipFill>
          <a:blip r:embed="rId1"/>
          <a:stretch/>
        </p:blipFill>
        <p:spPr>
          <a:xfrm>
            <a:off x="1835280" y="333360"/>
            <a:ext cx="575280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66" name="Object 3"/>
          <p:cNvGraphicFramePr/>
          <p:nvPr/>
        </p:nvGraphicFramePr>
        <p:xfrm>
          <a:off x="324000" y="333360"/>
          <a:ext cx="4968720" cy="626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33360"/>
                    <a:ext cx="4968720" cy="62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 txBox="1"/>
          <p:nvPr/>
        </p:nvSpPr>
        <p:spPr>
          <a:xfrm>
            <a:off x="5580000" y="2349000"/>
            <a:ext cx="3106800" cy="37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Tahoma"/>
              </a:rPr>
              <a:t>E. Beneš během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Tahoma"/>
              </a:rPr>
              <a:t>návštěv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Tahoma"/>
              </a:rPr>
              <a:t>brněnskéh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Tahoma"/>
              </a:rPr>
              <a:t>četnictv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Tahoma"/>
              </a:rPr>
              <a:t>v r. 193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00"/>
                </a:solidFill>
                <a:latin typeface="Arial"/>
              </a:rPr>
              <a:t>Po vál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a jaře 1945 Beneš odcestoval přes Moskvu n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osvobozené území čs. republik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66"/>
                </a:solidFill>
                <a:latin typeface="Tahoma"/>
              </a:rPr>
              <a:t>V dubnu 1945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ve slovenských Košicích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jmenoval 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první poválečnou vládu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16. května přijel do Prah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66"/>
                </a:solidFill>
                <a:latin typeface="Tahoma"/>
              </a:rPr>
              <a:t>28. října 1945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byl potvrzen ve funkc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ff00"/>
                </a:solidFill>
                <a:latin typeface="Tahoma"/>
              </a:rPr>
              <a:t>prezidenta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a následně byl </a:t>
            </a:r>
            <a:r>
              <a:rPr b="0" lang="cs-CZ" sz="3200" spc="-1" strike="noStrike">
                <a:solidFill>
                  <a:srgbClr val="ffcc00"/>
                </a:solidFill>
                <a:latin typeface="Tahoma"/>
              </a:rPr>
              <a:t>znovu zvole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00"/>
                </a:solidFill>
                <a:latin typeface="Tahoma"/>
              </a:rPr>
              <a:t>19. června 1946</a:t>
            </a:r>
            <a:r>
              <a:rPr b="0" lang="cs-CZ" sz="32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cc00"/>
                </a:solidFill>
                <a:latin typeface="Arial"/>
              </a:rPr>
              <a:t>Odstoupení z funkce prezidenta, úmrtí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květnu 1948 se prezident pokusil vzepří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omunistům, když odmítl podepsat novou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československou ústavu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ěsíc poté,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7. června1948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cs-CZ" sz="3200" spc="-1" strike="noStrike">
                <a:solidFill>
                  <a:srgbClr val="00ff00"/>
                </a:solidFill>
                <a:latin typeface="Arial"/>
              </a:rPr>
              <a:t>odstoupil z úřadu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Arial"/>
              </a:rPr>
              <a:t>prezidenta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, jeho nástupcem se pak stal Klemen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Gottwald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anedlouho </a:t>
            </a:r>
            <a:r>
              <a:rPr b="1" lang="cs-CZ" sz="3200" spc="-1" strike="noStrike">
                <a:solidFill>
                  <a:srgbClr val="ff0000"/>
                </a:solidFill>
                <a:latin typeface="Arial"/>
              </a:rPr>
              <a:t>3. září roku 1948</a:t>
            </a: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 Edvard Beneš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zemřel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v Sezimově Ústí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5ffff"/>
                </a:solidFill>
                <a:latin typeface="Verdana"/>
              </a:rPr>
              <a:t>Zdroj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MÜLLER, Oldřich. </a:t>
            </a:r>
            <a:r>
              <a:rPr b="0" i="1" lang="cs-CZ" sz="1800" spc="-1" strike="noStrike">
                <a:solidFill>
                  <a:srgbClr val="ffffff"/>
                </a:solidFill>
                <a:latin typeface="Verdana"/>
              </a:rPr>
              <a:t>Dějepis pro 2. stupeň základní školy praktické. </a:t>
            </a: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4. díl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1. vydání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Praha : Parta, 2010. ISBN 9788073201241. s. 25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5ffff"/>
                </a:solidFill>
                <a:latin typeface="Verdana"/>
              </a:rPr>
              <a:t>Zdroje obrázků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Všechny uveřejněné odkazy [cit. 2012-10-16] dostupné pod licencí Creative Commons – </a:t>
            </a:r>
            <a:r>
              <a:rPr b="0" lang="cs-CZ" sz="1800" spc="-1" strike="noStrike" u="sng">
                <a:solidFill>
                  <a:srgbClr val="ffffff"/>
                </a:solidFill>
                <a:uFillTx/>
                <a:latin typeface="Verdana"/>
              </a:rPr>
              <a:t>http://wikimedia.org/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Edvard Beneš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http://commons.wikimedia.org/wiki/File:Edvard_Bene%C5%A1.jp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Podpi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http://commons.wikimedia.org/wiki/File:Edvard_Bene%C5%A1_podpis.jp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E. Beneš s manželkou 193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http://commons.wikimedia.org/wiki/File:Edvard_Benes_with_his_wife_in_1934.jp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E. Beneš během návštěvy brněnského četnictva 193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http://commons.wikimedia.org/wiki/File:Edvard_Bene%C5%A1_na_n%C3%A1v%C5%A1t%C4%9Bv%C4%9B.JP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560" y="1196640"/>
            <a:ext cx="86508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č. 24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79280" y="1773360"/>
          <a:ext cx="8785440" cy="5157720"/>
        </p:xfrm>
        <a:graphic>
          <a:graphicData uri="http://schemas.openxmlformats.org/drawingml/2006/table">
            <a:tbl>
              <a:tblPr/>
              <a:tblGrid>
                <a:gridCol w="3456000"/>
                <a:gridCol w="53294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náze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. Edvard Bene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ano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Žáci si vybaví základní poznatky o vzniku československého státu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Ž</a:t>
                      </a: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á</a:t>
                      </a: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i ukáží protektorát Čechy a Morava, Slovenský stá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očekávaný výstu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  <a:ea typeface="Arial Unicode MS"/>
                        </a:rPr>
                        <a:t>ZV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–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  <a:ea typeface="Arial Unicode MS"/>
                        </a:rPr>
                        <a:t> LMP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  <a:ea typeface="Arial Unicode MS"/>
                        </a:rPr>
                        <a:t>Člověk a společnost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–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  <a:ea typeface="Arial Unicode MS"/>
                        </a:rPr>
                        <a:t> 2. stupeň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  <a:ea typeface="Arial Unicode MS"/>
                        </a:rPr>
                        <a:t>D - mít základní poznatky o vzniku samostatné Československé republik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  <a:ea typeface="Arial Unicode MS"/>
                        </a:rPr>
                        <a:t>  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  <a:ea typeface="Arial Unicode MS"/>
                        </a:rPr>
                        <a:t>- znát průběh a důsledky 2. světové války a nový  politický a hospodářský vývoj v Evropě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učebního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interaktiv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kl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"/>
                        </a:rPr>
                        <a:t>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00"/>
                </a:solidFill>
                <a:latin typeface="Arial"/>
              </a:rPr>
              <a:t>Dr. Edvard Beneš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79280" y="907920"/>
            <a:ext cx="4680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ff00"/>
                </a:solidFill>
                <a:latin typeface="Arial"/>
              </a:rPr>
              <a:t>Narodil se </a:t>
            </a:r>
            <a:r>
              <a:rPr b="0" lang="cs-CZ" sz="2800" spc="-1" strike="noStrike">
                <a:solidFill>
                  <a:srgbClr val="00ff00"/>
                </a:solidFill>
                <a:latin typeface="Arial"/>
              </a:rPr>
              <a:t>28. 5. 188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Arial"/>
              </a:rPr>
              <a:t>v Kožlanech, Rak. - U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ff00"/>
                </a:solidFill>
                <a:latin typeface="Arial"/>
              </a:rPr>
              <a:t>Zemřel</a:t>
            </a:r>
            <a:r>
              <a:rPr b="0" lang="cs-CZ" sz="2800" spc="-1" strike="noStrike">
                <a:solidFill>
                  <a:srgbClr val="00ff00"/>
                </a:solidFill>
                <a:latin typeface="Arial"/>
              </a:rPr>
              <a:t> 3. září 194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Arial"/>
              </a:rPr>
              <a:t>v Sezimově Ústí, ČS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ff00"/>
                </a:solidFill>
                <a:latin typeface="Arial"/>
              </a:rPr>
              <a:t>Vzdělání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Arial"/>
              </a:rPr>
              <a:t>FF Univerzity Karlov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Arial"/>
              </a:rPr>
              <a:t>Praha, Sorbonna Franc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ccff"/>
                </a:solidFill>
                <a:uFillTx/>
                <a:latin typeface="Arial"/>
                <a:hlinkClick r:id="rId1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" name="Picture 7" descr="Beneš"/>
          <p:cNvPicPr/>
          <p:nvPr/>
        </p:nvPicPr>
        <p:blipFill>
          <a:blip r:embed="rId2"/>
          <a:stretch/>
        </p:blipFill>
        <p:spPr>
          <a:xfrm>
            <a:off x="4500720" y="836640"/>
            <a:ext cx="4467240" cy="5705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Object 8"/>
          <p:cNvGraphicFramePr/>
          <p:nvPr/>
        </p:nvGraphicFramePr>
        <p:xfrm>
          <a:off x="179280" y="4724280"/>
          <a:ext cx="5046840" cy="187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4724280"/>
                    <a:ext cx="5046840" cy="18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"/>
              </a:rPr>
              <a:t>Životopis a studia Edvarda Beneš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Edvard Beneš se narodil v Kožlanech na Rakovnicku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jako Eduard, nejmladší syn (10. dítě) rolníka Matěj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Beneše a jeho manželky Anny Petronily, roz. Benešové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V mládí studoval nejprve na gymnáziu v Praze, p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maturitě na </a:t>
            </a:r>
            <a:r>
              <a:rPr b="1" lang="cs-CZ" sz="2800" spc="-1" strike="noStrike">
                <a:solidFill>
                  <a:srgbClr val="ffff66"/>
                </a:solidFill>
                <a:latin typeface="Arial"/>
              </a:rPr>
              <a:t>Filozofické fakultě pražské Univerzit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Arial"/>
              </a:rPr>
              <a:t>Karlo - Ferdinandovy</a:t>
            </a: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Od roku 1904 studoval ve </a:t>
            </a:r>
            <a:r>
              <a:rPr b="1" lang="cs-CZ" sz="2800" spc="-1" strike="noStrike">
                <a:solidFill>
                  <a:srgbClr val="ffff66"/>
                </a:solidFill>
                <a:latin typeface="Arial"/>
              </a:rPr>
              <a:t>Francii</a:t>
            </a: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 na </a:t>
            </a:r>
            <a:r>
              <a:rPr b="1" lang="cs-CZ" sz="2800" spc="-1" strike="noStrike">
                <a:solidFill>
                  <a:srgbClr val="ffff66"/>
                </a:solidFill>
                <a:latin typeface="Arial"/>
              </a:rPr>
              <a:t>Sorbonně</a:t>
            </a: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 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Arial"/>
              </a:rPr>
              <a:t>Svobodné škole politických nauk</a:t>
            </a: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 (Ecole libre d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sciences politiques), v roce 1907 v </a:t>
            </a:r>
            <a:r>
              <a:rPr b="1" lang="cs-CZ" sz="2800" spc="-1" strike="noStrike">
                <a:solidFill>
                  <a:srgbClr val="ffff66"/>
                </a:solidFill>
                <a:latin typeface="Arial"/>
              </a:rPr>
              <a:t>Berlíně</a:t>
            </a: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V Paříži se r. 1906 zasnoubil se svou pozdější ženou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a změnil si křestní jméno z Eduarda na Edvar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Francouzská studia Edvard Beneš završil roku 1908 n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Arial"/>
              </a:rPr>
              <a:t>Právnické fakultě v Dijonu doktorskou prací</a:t>
            </a: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V roce 1909 pak v Praze složil rigorózní zkoušky 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získal titul </a:t>
            </a:r>
            <a:r>
              <a:rPr b="1" lang="cs-CZ" sz="2800" spc="-1" strike="noStrike">
                <a:solidFill>
                  <a:srgbClr val="ffff66"/>
                </a:solidFill>
                <a:latin typeface="Arial"/>
              </a:rPr>
              <a:t>doktora filosofie</a:t>
            </a: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Tři roky vyučoval na obchodní akademii v Praze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současně zkoušel studovat práva (nejprve na české, pak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na německé právnické fakultě), studia však nedokončil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Od roku 1912 přednášel jako docent na Filozofické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fakultě Univerzity Karlo-Ferdinandovy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56" name="Object 3"/>
          <p:cNvGraphicFramePr/>
          <p:nvPr/>
        </p:nvGraphicFramePr>
        <p:xfrm>
          <a:off x="324000" y="476280"/>
          <a:ext cx="5184720" cy="604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76280"/>
                    <a:ext cx="5184720" cy="60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 txBox="1"/>
          <p:nvPr/>
        </p:nvSpPr>
        <p:spPr>
          <a:xfrm>
            <a:off x="5580000" y="2492280"/>
            <a:ext cx="35640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cs-CZ" sz="2800" spc="-1" strike="noStrike">
                <a:solidFill>
                  <a:srgbClr val="00ff00"/>
                </a:solidFill>
                <a:latin typeface="Arial"/>
              </a:rPr>
              <a:t>Edvard Beneš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ff00"/>
                </a:solidFill>
                <a:latin typeface="Arial"/>
              </a:rPr>
              <a:t>    </a:t>
            </a:r>
            <a:r>
              <a:rPr b="1" lang="cs-CZ" sz="2800" spc="-1" strike="noStrike">
                <a:solidFill>
                  <a:srgbClr val="00ff00"/>
                </a:solidFill>
                <a:latin typeface="Arial"/>
              </a:rPr>
              <a:t>s manželkou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ff00"/>
                </a:solidFill>
                <a:latin typeface="Arial"/>
              </a:rPr>
              <a:t>    </a:t>
            </a:r>
            <a:r>
              <a:rPr b="1" lang="cs-CZ" sz="2800" spc="-1" strike="noStrike">
                <a:solidFill>
                  <a:srgbClr val="00ff00"/>
                </a:solidFill>
                <a:latin typeface="Arial"/>
              </a:rPr>
              <a:t>v roce 193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5ffff"/>
                </a:solidFill>
                <a:latin typeface="Arial"/>
              </a:rPr>
              <a:t>Založení čs. legií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8964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66"/>
                </a:solidFill>
                <a:latin typeface="Arial"/>
              </a:rPr>
              <a:t>Společně se Štefánikem získal souhlas dohodo -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66"/>
                </a:solidFill>
                <a:latin typeface="Arial"/>
              </a:rPr>
              <a:t>vých mocností se zakládáním československých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66"/>
                </a:solidFill>
                <a:latin typeface="Arial"/>
              </a:rPr>
              <a:t>vojenských jednotek a přispěl tak ke vzniku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66"/>
                </a:solidFill>
                <a:latin typeface="Arial"/>
              </a:rPr>
              <a:t>samostatných legií ve Francii, Rusku 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66"/>
                </a:solidFill>
                <a:latin typeface="Arial"/>
              </a:rPr>
              <a:t>Itálii</a:t>
            </a:r>
            <a:r>
              <a:rPr b="0" lang="cs-CZ" sz="3200" spc="-1" strike="noStrike">
                <a:solidFill>
                  <a:srgbClr val="ffff66"/>
                </a:solidFill>
                <a:latin typeface="Arial"/>
              </a:rPr>
              <a:t>, které se úspěšně zapojily do bojů prv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66"/>
                </a:solidFill>
                <a:latin typeface="Arial"/>
              </a:rPr>
              <a:t>světové válk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00"/>
                </a:solidFill>
                <a:latin typeface="Arial"/>
              </a:rPr>
              <a:t>Funk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 vyhlášení svrchovanosti Československé republik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28. října roku 1918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byl jmenován </a:t>
            </a:r>
            <a:r>
              <a:rPr b="1" lang="cs-CZ" sz="2800" spc="-1" strike="noStrike">
                <a:solidFill>
                  <a:srgbClr val="ffff66"/>
                </a:solidFill>
                <a:latin typeface="Arial"/>
              </a:rPr>
              <a:t>ministrem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Arial"/>
              </a:rPr>
              <a:t>zahraničí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e vládě K. Kramář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 letech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1921–1922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zastával Edvard Beneš funkc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Arial"/>
              </a:rPr>
              <a:t>předsedy vlády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, byl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poslancem parlamentu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Byl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členem a místopředsedou Čs. strany národně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socialistické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a významně ovlivňoval její politiku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 odstoupení T. G. Masaryka byl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zvolen 18. prosinc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1935 </a:t>
            </a:r>
            <a:r>
              <a:rPr b="1" lang="cs-CZ" sz="2800" spc="-1" strike="noStrike">
                <a:solidFill>
                  <a:srgbClr val="00ff00"/>
                </a:solidFill>
                <a:latin typeface="Arial"/>
              </a:rPr>
              <a:t>prezidentem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5ffff"/>
                </a:solidFill>
                <a:latin typeface="Arial"/>
              </a:rPr>
              <a:t>Po Mnichovu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893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Po přijetí mnichovského diktátu 5. října 1938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odstoupil a </a:t>
            </a:r>
            <a:r>
              <a:rPr b="1" lang="cs-CZ" sz="2800" spc="-1" strike="noStrike">
                <a:solidFill>
                  <a:srgbClr val="ffff66"/>
                </a:solidFill>
                <a:latin typeface="Arial"/>
              </a:rPr>
              <a:t>22. října 1938</a:t>
            </a: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 odletěl nejdříve do Velké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Británie, později do Spojených států amerických, kd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přednášel na univerzitě v Chicagu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Arial"/>
              </a:rPr>
              <a:t>Po okupaci Československa</a:t>
            </a: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 a vyhlášení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Arial"/>
              </a:rPr>
              <a:t>Slovenského státu</a:t>
            </a: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 v březnu 1939 přesídlil d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Londýna a zaslal protest proti německé okupaci Čech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a Moravy vládám hlavních světových mocností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Stal se </a:t>
            </a:r>
            <a:r>
              <a:rPr b="1" lang="cs-CZ" sz="2800" spc="-1" strike="noStrike">
                <a:solidFill>
                  <a:srgbClr val="00ff00"/>
                </a:solidFill>
                <a:latin typeface="Arial"/>
              </a:rPr>
              <a:t>vůdčím představitelem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ff00"/>
                </a:solidFill>
                <a:latin typeface="Arial"/>
              </a:rPr>
              <a:t>čs. zahraničního odboj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7T10:52:06Z</dcterms:created>
  <dc:creator>Hana Zimová</dc:creator>
  <dc:description/>
  <dc:language>en-US</dc:language>
  <cp:lastModifiedBy>martina</cp:lastModifiedBy>
  <dcterms:modified xsi:type="dcterms:W3CDTF">2013-06-09T07:34:37Z</dcterms:modified>
  <cp:revision>25</cp:revision>
  <dc:subject/>
  <dc:title> Edvard Beneš</dc:title>
</cp:coreProperties>
</file>