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C8C-27CC-4B5B-99EB-2A1FE471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D72-09F7-4E07-B04B-AFF91856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2A1-C0D4-4744-B287-031091AE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7B9-9082-4583-86D7-5EB8CED9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5D86-4DAF-4E1F-902C-151C97F4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4209-E335-4F75-B63E-27E6F9BB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BCD8-5A99-48D5-AEE2-6E5EA802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BEB8-FBE0-4379-9BAD-48DEA7B9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3CA9-BF69-4101-8956-D32204CA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C57D-452A-46D3-B68D-06CDEABA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F977-4D3A-4FF1-B9EA-1A388069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6EC-AF65-4742-8E32-D5527DF1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028A-B86F-49A9-BF63-EA5A7149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7C0E-6697-480C-805A-50AA85E3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A196-18BA-4C02-A972-DF0917BF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4AFA-3505-4B70-9275-D61E1A6B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F12B-D3F5-4B69-B149-8873DE82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84C-3B9D-4E29-86BA-931A63BF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5AC-9E07-4718-A647-F7E2AF40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6D4-E0E6-4E0D-BB30-6874A2E2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120-6B4D-4C80-A465-08A2BF27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269-DDF1-44DD-B8C0-678CB7A1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AE9-216E-4E16-8B60-289DC117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FDB-E3CD-495C-872F-9A79221B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F253-12C5-4B58-9199-033063E41A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9CB2-2022-494E-B059-958374CCF0B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cs-CZ" sz="5800" spc="-1" strike="noStrike">
                <a:solidFill>
                  <a:srgbClr val="feec94"/>
                </a:solidFill>
                <a:latin typeface="Arial"/>
              </a:rPr>
              <a:t>Rok 1989 – sametová revoluce</a:t>
            </a:r>
            <a:endParaRPr b="1" lang="en-US" sz="5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27. 3. 201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547640" y="260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Konec komunism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láda komunistů byla u konce, protestní ak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rostly v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átní převra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ý byl nazvá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ff00"/>
                </a:solidFill>
                <a:latin typeface="Times New Roman"/>
              </a:rPr>
              <a:t>„</a:t>
            </a:r>
            <a:r>
              <a:rPr b="1" lang="cs-CZ" sz="4000" spc="-1" strike="noStrike">
                <a:solidFill>
                  <a:srgbClr val="00ff00"/>
                </a:solidFill>
                <a:latin typeface="Times New Roman"/>
              </a:rPr>
              <a:t>sametová“ nebo „něžná“ revolu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svůj nenásilný průbě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Pamětní deska na Albertově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539640" y="1484280"/>
          <a:ext cx="806472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06472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Politické změn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1. listopadu 1989 byla zahájena jednání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tehdejší vlád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7. prosince musela vláda podat demi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Prezid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Gustáv Husák odstoupil a na jeho místo byl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9. prosin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volen doma i v zahraničí uznávaný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áclav Havel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dsedou FS se stal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lexandr Dubče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eec94"/>
                </a:solidFill>
                <a:latin typeface="Times New Roman"/>
              </a:rPr>
              <a:t>Václav Havel k 20. výročí revoluc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5" descr="Václav Havel k 20"/>
          <p:cNvPicPr/>
          <p:nvPr/>
        </p:nvPicPr>
        <p:blipFill>
          <a:blip r:embed="rId1"/>
          <a:stretch/>
        </p:blipFill>
        <p:spPr>
          <a:xfrm>
            <a:off x="324000" y="1197000"/>
            <a:ext cx="849600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ZEMĚ PO 20 LETECH OPĚT VYKROČILA NA CESTU </a:t>
            </a:r>
            <a:r>
              <a:rPr b="0" lang="cs-CZ" sz="5400" spc="-1" strike="noStrike">
                <a:solidFill>
                  <a:srgbClr val="00ff00"/>
                </a:solidFill>
                <a:latin typeface="Times New Roman"/>
              </a:rPr>
              <a:t>SVOBOD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4. díl. 1. vydání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10. ISBN 9788073201241. s. 60 - 6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242 - 24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eec94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3-27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Tribuna na Václavském náměst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Prague_November89_-_Wenceslas_Monument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Demonstranti na Staroměstském náměst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Prague_November_1989_-_Old_Town_Square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amětní deska na Albertov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Albertov_deska_(01)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Václav Havel k 20. výročí revolu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V%C3%A1clav_Havel_na_V%C3%A1clavsk%C3%A9m_n%C3%A1m%C4%9Bst%C3%AD_17._listopadu_2009c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6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2637000"/>
          <a:ext cx="8785440" cy="3551040"/>
        </p:xfrm>
        <a:graphic>
          <a:graphicData uri="http://schemas.openxmlformats.org/drawingml/2006/table">
            <a:tbl>
              <a:tblPr/>
              <a:tblGrid>
                <a:gridCol w="3745080"/>
                <a:gridCol w="504036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Rok 1989 – sametová revolu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chápou události roku 198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chápat význam událostí v roce 19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 vítězství demokracie v naší vla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eec94"/>
                </a:solidFill>
                <a:latin typeface="Times New Roman"/>
              </a:rPr>
              <a:t>Charta 77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ětšina československých občanů odsuzovala sovětskou okupac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nesouhlasila s totalitním režimem u ná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álokdo však našel odvahu vystoupit proti ně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roce 1977 vydala skupina občanů prohlášení tz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Chartu 1977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žadovali svobodu a spravedlnost pro všechny, dodržování lidských prá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nou z hlavních postav byl 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Václav Havel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Situace před rokem 1989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ílem Charty bylo poukazovat na bezpráví, i na problémy v hospodářství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noho z chartistů bylo pronásledováno a vězně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vůj odpor k režimu vyjadřovali také písničkáři na koncertech, herci v divadlech, byly tajně vydávány knihy zakázaných spisovatel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le více lidí se scházelo a protestovalo proti režimu při různých příležitostech, jako např. okupace sovětskými vojsky, upálení Jana Palach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monstrace byly potlačovány sil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Pád komunistického režim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červnu 1989 Václav Havel a jeho přátelé zorganizovali petici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Několik vě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de požadovali svobodu  a demokracii. Podepsalo ji 40 tisíc l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srpnu 1989 proběhly demonstrace k 21. výročí okupace, komunisté si již s odporem občanů nevěděli rad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vrdě zasáhli proti studentské manifestaci k výročí úmrt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na Opletal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v roce 1939 byl postřelen nacisty) dne 17. listopadu 1989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Sametová revol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pomínkové shromáždění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7. listopad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řerostlo v </a:t>
            </a:r>
            <a:r>
              <a:rPr b="1" i="1" lang="cs-CZ" sz="3200" spc="-1" strike="noStrike">
                <a:solidFill>
                  <a:srgbClr val="00ff00"/>
                </a:solidFill>
                <a:latin typeface="Times New Roman"/>
              </a:rPr>
              <a:t>mohutnou demonstr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oti komunistickému reži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8. listopad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spojili pražští vysokoškoláci s herci a vyhlás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otestní stáv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nně se konaly demonstrace na Václavském náměstí, k lidem promlouvalo mnoho řečníků, jako Václav Havel, Alexandr Dubček a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Tribuna na Václavském náměstí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324000" y="1557360"/>
          <a:ext cx="842472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84247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eec94"/>
                </a:solidFill>
                <a:latin typeface="Times New Roman"/>
              </a:rPr>
              <a:t>Demonstranti na Staroměstském náměstí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539640" y="1628640"/>
          <a:ext cx="8064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8064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Občanské fór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Praze bylo ustanove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OBČANSKÉ FÓRUM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(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čele  s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áclavem Hav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cílem by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vržení komunistickéh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režim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 Československ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astolení demokrac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51:28Z</dcterms:created>
  <dc:creator>Hana Zimová</dc:creator>
  <dc:description/>
  <dc:language>en-US</dc:language>
  <cp:lastModifiedBy>martina</cp:lastModifiedBy>
  <dcterms:modified xsi:type="dcterms:W3CDTF">2013-06-09T07:19:32Z</dcterms:modified>
  <cp:revision>25</cp:revision>
  <dc:subject/>
  <dc:title>Rok 1989 – sametová revoluce</dc:title>
</cp:coreProperties>
</file>