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94EF-CC31-45CA-B9C2-4EDB0D27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CF19-4C23-47CB-AEC7-11CA312F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5BD5-3549-4FFF-92A0-9EADCECF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85E6-7C20-4529-AAF7-DE90771A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2E7F-8BD4-4FE4-9BF2-FE8451E9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D2D4-A598-4D2A-8D83-7F844EA8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C09C-BA0D-42AC-AD77-CC67C0E0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592F-BDA4-4CF3-B9B2-E7B35783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C958-4D02-44FA-A74F-2F32CFD5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58AB-FD66-4072-9E25-CD392C21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F7AA-C0A4-402D-A87A-E80BA48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6F8C-DE99-4DE5-A245-5C7CD31D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4AF8-9E27-4177-BE8F-B891859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4B94-C59F-4A5C-80B0-BF54FFE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21BE-3753-4D95-B340-95C38EA4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904F-E49F-4BA2-86E9-DB396B68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58AC-FCBD-4AC0-9F0E-16048820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2276-3ABF-4F0F-8797-6A9856D2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F8EB-8308-40F8-905A-966A1C8A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B600-1039-42EB-A5C4-F3DBA62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8DAD-65A9-44B1-B3C7-59B684E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FA63-654C-4D77-B143-16EE4052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9559-B983-431D-8846-9CDEBFA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54F6-C0EA-496B-B358-DE41FEE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D101-3B9F-49FE-80F4-1123C3C499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D855-6AD2-49F1-AEA9-45AF946E247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6600" spc="-1" strike="noStrike">
                <a:solidFill>
                  <a:srgbClr val="dfdef6"/>
                </a:solidFill>
                <a:latin typeface="Tahoma"/>
              </a:rPr>
              <a:t>Vznik </a:t>
            </a:r>
            <a:br>
              <a:rPr sz="6600"/>
            </a:br>
            <a:r>
              <a:rPr b="1" lang="cs-CZ" sz="6600" spc="-1" strike="noStrike">
                <a:solidFill>
                  <a:srgbClr val="dfdef6"/>
                </a:solidFill>
                <a:latin typeface="Tahoma"/>
              </a:rPr>
              <a:t>samostatné ČSR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Vytvořeno dne 15. 10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Znak republik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9" name="Object 3"/>
          <p:cNvGraphicFramePr/>
          <p:nvPr/>
        </p:nvGraphicFramePr>
        <p:xfrm>
          <a:off x="539640" y="1268280"/>
          <a:ext cx="813600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1360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Ü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Dějepis pro 2. stupeň z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š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oly praktick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. 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. 1. vy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aha : Parta, 2010. ISBN 9788073201241. s. 13 - 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uveřejněné odkazy [cit. 2012-10-15] dostupné pod licencí Creative Commons – </a:t>
            </a:r>
            <a:r>
              <a:rPr b="0" lang="cs-CZ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amalovávání symbol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Kratky,_Frantisek_- Kolin,_postovni_schranka_(28.10._1918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ilan Rastislav Štefán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Milan_Rastislav_%C5%A0tef%C3%A1nik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Československo 1920 -193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Czechoslovakia1920-38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Czechoslovakia_COA_large.sv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3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nik samostatné ČS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vybavují základní poznatky o vzniku československého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66"/>
                </a:solidFill>
                <a:latin typeface="Arial"/>
              </a:rPr>
              <a:t>Život v Rakousko - Uhersku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álce strádá i civilní obyvatelstvo. Šíří se nemoci a hlad. Mnoho lidí, hlavně dětí, umírá na podvýživu, protože je nedostatek léků a potrav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se začali bouřit proti drahotě a hladu. Rakouské úřady proti demonstrujícím vyslaly četníky, kteří na koních najížděli do lidí a rozháněli je šavlemi a obušky, někdy použili i střelné zbran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66ff"/>
                </a:solidFill>
                <a:latin typeface="Arial"/>
              </a:rPr>
              <a:t>Konec  Rakousko – Uherska </a:t>
            </a:r>
            <a:br>
              <a:rPr sz="4000"/>
            </a:br>
            <a:r>
              <a:rPr b="1" lang="cs-CZ" sz="4000" spc="-1" strike="noStrike">
                <a:solidFill>
                  <a:srgbClr val="ff66ff"/>
                </a:solidFill>
                <a:latin typeface="Arial"/>
              </a:rPr>
              <a:t>a vznik Československé republik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podzim r. 1918 bylo Rakousko – Uhersk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raženo ve válce, hladoví lidé se začali bouř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hávali německé nápisy, pálili znaky rakousko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herské monarchie a portréty císaře. V ulicí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rála hudba, lidé slavili a tanči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 velkého nadšení byl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28. října 191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yhlášen svobodný stát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00"/>
                </a:solidFill>
                <a:latin typeface="Arial"/>
              </a:rPr>
              <a:t>Československá republik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ento den dodnes slavíme státní svátek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Zamalovávání symbolů monarchie na poštovní schránce v Kolíně </a:t>
            </a:r>
            <a:br>
              <a:rPr sz="4000"/>
            </a:b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28. 10. 1918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4" name="Object 3"/>
          <p:cNvGraphicFramePr/>
          <p:nvPr/>
        </p:nvGraphicFramePr>
        <p:xfrm>
          <a:off x="1042920" y="1773360"/>
          <a:ext cx="70581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70581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Nová vláda a prezi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ezidentem nového státu byl zvol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66ff"/>
                </a:solidFill>
                <a:latin typeface="Arial"/>
              </a:rPr>
              <a:t>Tomáš Garrigue Masary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ději byla ustanovena i nová vlá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bližšími spolupracovníky prezidenta by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ý politik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Edvard Bene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slovenský generál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Milan Rastislav Štefáni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Edvard Beneš a Milan R. Štefánik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6"/>
          <p:cNvGraphicFramePr/>
          <p:nvPr/>
        </p:nvGraphicFramePr>
        <p:xfrm>
          <a:off x="4859280" y="1484280"/>
          <a:ext cx="396072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484280"/>
                    <a:ext cx="3960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2" name="Picture 8" descr="Beneš"/>
          <p:cNvPicPr/>
          <p:nvPr/>
        </p:nvPicPr>
        <p:blipFill>
          <a:blip r:embed="rId4"/>
          <a:stretch/>
        </p:blipFill>
        <p:spPr>
          <a:xfrm>
            <a:off x="250920" y="1484280"/>
            <a:ext cx="410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Sloučení zem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svobodný stát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eskoslovensko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l sloučení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ří územ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cs-CZ" sz="3600" spc="-1" strike="noStrike">
                <a:solidFill>
                  <a:srgbClr val="ff66ff"/>
                </a:solidFill>
                <a:latin typeface="Arial"/>
              </a:rPr>
              <a:t>českých zemí, Slovenska a Podkarpatské Rus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bírání moci nebylo jednoduché. Žily zde národnostní menšiny, které měly strach, že ztratí své politické a hospodářské výh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i to především Němci, Maďaři a Rusíni. Někde museli být vytlačeni českými legionář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legionáři = příslušníci našich zahraničních legií, byli základem československé armá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Československo 1920 - 193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6" name="Object 3"/>
          <p:cNvGraphicFramePr/>
          <p:nvPr/>
        </p:nvGraphicFramePr>
        <p:xfrm>
          <a:off x="0" y="1557360"/>
          <a:ext cx="9144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36:25Z</dcterms:created>
  <dc:creator>Hana Zimová</dc:creator>
  <dc:description/>
  <dc:language>en-US</dc:language>
  <cp:lastModifiedBy>martina</cp:lastModifiedBy>
  <dcterms:modified xsi:type="dcterms:W3CDTF">2013-06-09T07:33:52Z</dcterms:modified>
  <cp:revision>17</cp:revision>
  <dc:subject/>
  <dc:title>  Vznik  samostatné ČSR</dc:title>
</cp:coreProperties>
</file>