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FAA-2F79-4AAB-AAC3-32B3FBCB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5A5-A482-4DBC-9189-3EA57FA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73B-F809-475B-8AAF-7CD39F0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B5F-3677-4141-8F36-E445D5A5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83A6-AC11-4B5B-A758-9D13B3E4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2AFD-3E93-4771-A67B-69E1F2A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EE5-1199-4D52-89B1-64DC89DD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4C84-2D74-4E80-B629-9F94BECF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8390-121E-4F11-A563-147595D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2FA8-1F07-4E2A-ADD7-969E016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963-9416-43D1-978A-7CA68E8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BEF-147F-4733-9018-ABED63D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166C-9112-4B46-8A61-437EB6D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615F-7F96-43F3-9274-D06A457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FC9-0158-4ABC-8DBD-61FAF11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FAF0-7BDA-4274-BE57-BB7929B3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1F61-5BD8-4ECD-A8B3-9CFEDB6E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F2D-B2A2-42DA-BF3F-AD96597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847-38FC-474A-99F2-46DC467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68F-0C11-4ADB-9203-0492ABCC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C9E-4A02-482B-820C-A053E545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B1B-E766-4A79-825F-84B1FD2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0D3-F67F-443C-95FB-AFABBA77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91A-D31E-42D4-8A58-16C1FC2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3B84-F6D7-4019-9F0F-DAA6D8D512B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D7AC-A9F5-4E20-BDDE-E20EDE1A31A7}" type="slidenum">
              <a:rPr b="0" lang="cs-CZ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vropsk&#225;_rada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br>
              <a:rPr sz="6100"/>
            </a:br>
            <a:r>
              <a:rPr b="0" lang="cs-CZ" sz="6100" spc="-1" strike="noStrike">
                <a:solidFill>
                  <a:srgbClr val="ffffcc"/>
                </a:solidFill>
                <a:latin typeface="Arial"/>
              </a:rPr>
              <a:t>Evropská unie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Vytvořeno dne 29. 3. 201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Jednací sál Evropského parlament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539640" y="1600200"/>
          <a:ext cx="80647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0647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(anglicky: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European Council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jeden z vrcholných orgán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Evropské uni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mi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členy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jsou hlavy stát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b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ředsedové vlád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členských zemí Evropské uni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zasedání se účastní předseda Evropské komis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ůsobnost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schází s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zpravidla </a:t>
            </a: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čtyřikrát ročně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na řádném zasedá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dává Unii nezbytné podněty pro její rozvoj a vymezuje její obecné politické směry a priority“ (čl. 15 SEU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V minulosti přijímala tak zásadní politická rozhodnutí, jakým bylo např. přijetí jednotné měny eura, či východní rozšíření Evropské uni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Evropská rada nevykonává legislativní funk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enové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iz webová strán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s.wikipedia.org/wiki/Evropsk%C3%A1_ra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ff"/>
                </a:solidFill>
                <a:latin typeface="Arial"/>
              </a:rPr>
              <a:t>Rada Evropské u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tupuje zájmy členských států na evropské úrov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 hlavní pravomocí je společně s Evropským parlamentem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přijímání legislati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každý půlrok předsedá Radě jiná zem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komi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ledu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zájmy Evropské unie jako celk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dohlíží na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održování zakládacích smluv 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ypracovává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návrh rozpočtu EU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a provádí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ontrolu jeho plně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aždá země jednoho komisař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 současnosti je jich tedy 2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komise 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Durão Barroso =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emiér Portugals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ídlo má v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Brusel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Evropské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kom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urão Barros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Barroso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alší institu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Soudní dvůr Evropské un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dbá nad jednotným výkladem evropského prá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má sídlo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Evropská centrální ban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ídlí ve Frankfurtu nad Mohan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polu s národními centrálními bankami tvoří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Evropský systém centrálních ba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e měnovou bankou pro Eurozón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Evropský účetní dvů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ntroluje hospodaření Unie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Hospodářský a sociální výbor a Výbor regionů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sou poradní a konzultativní orgány Evropské unie - -- jsou nápomocny Evropskému parlamentu, Radě 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mis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ídlo Evropského účetního dvo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5" descr="sídlo evrop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stup České republiky do EU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Žádost o vstup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do Evropské unie podala vláda České republik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7. ledna 1996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dílnou součástí této žádosti byl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memorandum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 V něm vláda České republiky pod vedením svého předsedy Václava Klause deklarovala (mimo jiné), že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si uvědomuje prospěšnost a nezvratnost procesu evropské integrace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“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vropská uni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romažďují poznatky o EU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1989 a vítězství demokraci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 naší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mlouva o přistoupen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Smlouva o přistoupen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byla podepsá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6. dubna 2003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ténách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 účasti prezidenta Václava Klau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premiéra Vladimíra Špid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mlouva byla dále podepsána národními parlamenty patnácti starých členských zemí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Smlouva vstoupila v platnost o rok později </a:t>
            </a:r>
            <a:r>
              <a:rPr b="1" lang="cs-CZ" sz="4000" spc="-1" strike="noStrike">
                <a:solidFill>
                  <a:srgbClr val="ff66cc"/>
                </a:solidFill>
                <a:latin typeface="Verdana"/>
              </a:rPr>
              <a:t>1. května 2004</a:t>
            </a: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olný pohyb oso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Mnoho starých členských zemí stále neumožnilo volný vstup nových členských států na svůj pracovní trh -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občané ČR mohli již od vstupu do EU bez omezení pracovat pouze ve Velké Británii, Irsku a Švédsk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Od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1. května 2006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se otevřela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možnost práce v zemích jako je Řecko, Portugalsko, Finsko a Španělsko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Zejména Německo, Rakousko stále svůj pracovní trh neotevřely. Francie tak učinila až v létě 2008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Česká republika se stala </a:t>
            </a: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22. prosince 2007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 také součástí </a:t>
            </a:r>
            <a:r>
              <a:rPr b="1" i="1" lang="cs-CZ" sz="2400" spc="-1" strike="noStrike">
                <a:solidFill>
                  <a:srgbClr val="ff66cc"/>
                </a:solidFill>
                <a:latin typeface="Verdana"/>
              </a:rPr>
              <a:t>Schengenského prostoru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, který odstraňuje kontroly na hranicích s ostatními zeměmi E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olečná mě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řijetí eura se očekává nejdří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 roce 2020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ím se usnadní platební styk a cestování zeměmi Evropské měnové uni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Symbol Eur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050920" y="1197000"/>
          <a:ext cx="51850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97000"/>
                    <a:ext cx="5185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Praha : Parta, 2010. ISBN 9788073201241. s. 63 - 67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Encyklopedie historie lidstva. 1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české vydání. Praha : Ottovo nakladatelství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2001. ISBN 8071815675. s. 434, 442 - 443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Všechny uveřejněné odkazy [cit. 2012-03-29] dostupné pod licencí Creative Commons – </a:t>
            </a: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lajka E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Flag_of_Europe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Země v EU globu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_Globe_No_Borders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ednací sál E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ean-parliament-brussels-inside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osé Manuel Barro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Jos%C3%A9_Manuel_Barroso_MEDEF_2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ídlo evropského účetního dvor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%C3%A4ischer_Rechnungshof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ymbol Eu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_symbol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700" spc="-1" strike="noStrike">
                <a:solidFill>
                  <a:srgbClr val="ffffcc"/>
                </a:solidFill>
                <a:latin typeface="Arial"/>
              </a:rPr>
              <a:t>Vlajka EU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44400" y="1413000"/>
          <a:ext cx="7783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413000"/>
                    <a:ext cx="7783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Země v EU glob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19280" y="1341360"/>
          <a:ext cx="5689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5689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VROPSKÁ  UNIE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U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lang="cs-CZ" sz="3600" spc="-1" strike="noStrike">
                <a:solidFill>
                  <a:srgbClr val="33ccff"/>
                </a:solidFill>
                <a:latin typeface="Verdana"/>
              </a:rPr>
              <a:t>politická a ekonomická unie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kterou tvoří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27 evropských států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s 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500 miliony obyvatel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EU vznikla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v </a:t>
            </a: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roce </a:t>
            </a: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1993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na základě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Smlouvy o Evropské unii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Cíl  E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Cílem EU j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tvoření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společného trh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hospodářské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měnové unie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dpor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rozvoje a růst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hospodářství,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zaměstnanosti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zlepšování životní úrovn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kvality životního prostřed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 zabezpečení těchto cíl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louží čtyři základní svobod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nitřního trhu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volný pohyb zboží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oso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služe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kapitál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cc"/>
                </a:solidFill>
                <a:latin typeface="Arial"/>
              </a:rPr>
              <a:t>Institu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ý parla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rad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Rada Evropské uni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komis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66cc"/>
                </a:solidFill>
                <a:latin typeface="Arial"/>
              </a:rPr>
              <a:t>Evropský parla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konává - společně s Radou -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legislativní a rozpočtovou funkc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kládá se z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zástupců občanů Un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jvyšší možný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očet členů EP je 751,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počítaje předsed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členové EP jsou voleni n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ětileté volební období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edání Evropského parlamentu se konají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Brusel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a v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Štrasburk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0:23Z</dcterms:created>
  <dc:creator>Hana Zimová</dc:creator>
  <dc:description/>
  <dc:language>en-US</dc:language>
  <cp:lastModifiedBy>martina</cp:lastModifiedBy>
  <dcterms:modified xsi:type="dcterms:W3CDTF">2013-06-09T07:21:46Z</dcterms:modified>
  <cp:revision>24</cp:revision>
  <dc:subject/>
  <dc:title>Evropská unie</dc:title>
</cp:coreProperties>
</file>