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39FD-C34D-48FB-93B9-2F1688038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FDB4-711F-4388-9B4B-2BE7D340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6857-9782-44BF-9DB4-E8C6D2F29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94BC-33E9-4708-AC07-385CB0FA0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B007-1E07-486E-A0E7-9BB638CD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B0BD-7BB0-4689-8C6A-4CB8150E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4488-EBE4-45B3-9A46-4EDCA43F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CEBB-0BA1-4725-9098-94CBA39E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A6D4-F716-40C2-B00E-306D7E0D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B081-44C2-4A42-AF49-C7D09470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FCC3-FA28-4065-A385-37337DA6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887C-5375-43DE-B8A8-4145E524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8380-D882-4879-9D8D-4E5321362A89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ikimedia.org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700"/>
            </a:br>
            <a:br>
              <a:rPr sz="4700"/>
            </a:br>
            <a:r>
              <a:rPr b="1" lang="cs-CZ" sz="5400" spc="-1" strike="noStrike">
                <a:solidFill>
                  <a:srgbClr val="e5ffff"/>
                </a:solidFill>
                <a:latin typeface="Tahoma"/>
              </a:rPr>
              <a:t>Tomáš Garrigue Masaryk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5. 10. 2012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763640" y="18900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ahoma"/>
              </a:rPr>
              <a:t>Jízda na koni patřila </a:t>
            </a:r>
            <a:br>
              <a:rPr sz="4000"/>
            </a:br>
            <a:r>
              <a:rPr b="0" lang="cs-CZ" sz="4000" spc="-1" strike="noStrike">
                <a:solidFill>
                  <a:srgbClr val="ffff00"/>
                </a:solidFill>
                <a:latin typeface="Tahoma"/>
              </a:rPr>
              <a:t>k jeho velkým zálibám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65" name="Object 3"/>
          <p:cNvGraphicFramePr/>
          <p:nvPr/>
        </p:nvGraphicFramePr>
        <p:xfrm>
          <a:off x="826920" y="1268280"/>
          <a:ext cx="7490160" cy="532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68280"/>
                    <a:ext cx="749016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5ffff"/>
                </a:solidFill>
                <a:latin typeface="Verdana"/>
              </a:rPr>
              <a:t>Zdroj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Ü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Dějepis pro 2. stupeň z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á</a:t>
            </a: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kladn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š</a:t>
            </a: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koly praktick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4. d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l. 1. vyd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á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Praha : Parta, 2010. ISBN 9788073201241. s. 6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ffff"/>
                </a:solidFill>
                <a:latin typeface="Verdana"/>
              </a:rPr>
              <a:t>Zdroje obrázků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7920" y="1407600"/>
            <a:ext cx="896472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šechny uveřejněné odkazy [cit. 2012-10-05] dostupné pod licencí Creative Commons – </a:t>
            </a:r>
            <a:r>
              <a:rPr b="0" lang="cs-CZ" sz="16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http://wikimedia.org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Tomáš Garrigue Masary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http://commons.wikimedia.org/wiki/File:Tom%C3%A1%C5%A1_Garrigue_Masaryk_1925.P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Podpi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http://commons.wikimedia.org/wiki/File:T._G._Masaryk_Signature.sv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TGM na koni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http://commons.wikimedia.org/wiki/File:Bundesarchiv_Bild_102-11965,_Karlsbad,_Pr%C3%A4sident_Thomas_G._Masaryk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TGM vystupuje z vlak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http://commons.wikimedia.org/wiki/File:TGM_Tabor_21.12.1918_3462a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650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č. 22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79280" y="2637000"/>
          <a:ext cx="8785440" cy="3722400"/>
        </p:xfrm>
        <a:graphic>
          <a:graphicData uri="http://schemas.openxmlformats.org/drawingml/2006/table">
            <a:tbl>
              <a:tblPr/>
              <a:tblGrid>
                <a:gridCol w="4238640"/>
                <a:gridCol w="4546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máš Garrigue Masary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 seznámí s prvním prezidentem - T. G. Masaryk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  <a:ea typeface="Arial Unicode MS"/>
                        </a:rPr>
                        <a:t>mít základní poznatky o vzniku samostatné Československé republik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9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7" name="Object 3"/>
          <p:cNvGraphicFramePr/>
          <p:nvPr/>
        </p:nvGraphicFramePr>
        <p:xfrm>
          <a:off x="179280" y="189000"/>
          <a:ext cx="4537080" cy="64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9000"/>
                    <a:ext cx="4537080" cy="64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 txBox="1"/>
          <p:nvPr/>
        </p:nvSpPr>
        <p:spPr>
          <a:xfrm>
            <a:off x="464832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TG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Narozen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7. března 1850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odonín, Rakouské císařstv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Zemřel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14. září 1937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(87 let) Lány, ČS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Choť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harlotte Garrig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odiče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osef a Terezi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Dě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lice, Herbert, Jan, Eleanor, Olg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zděl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Univerzita Vídeň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Tahoma"/>
              </a:rPr>
              <a:t>Čím byl T. G. Masaryk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rofe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kovář, zámečník, učitel, vědec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aměstn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politik, spisovatel,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filosof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státník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rezident republi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poslanec rakouské říšské rad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 univerzitní  profes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56908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9999"/>
                </a:solidFill>
                <a:latin typeface="Tahoma"/>
              </a:rPr>
              <a:t>Tomáš Garrigue Masary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56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1850 - 1937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Tatíček Masaryk“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tak ho lidé nazývali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byl to prezident osvoboditel, otec lid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vyjadřovali mu tak velkou úctu i lásk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ccff"/>
                </a:solidFill>
                <a:latin typeface="Tahoma"/>
              </a:rPr>
              <a:t>TGM jako prezid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V roce 1918 se st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Arial"/>
              </a:rPr>
              <a:t>prvním prezidentem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cs-CZ" sz="3200" spc="-1" strike="noStrike">
                <a:solidFill>
                  <a:srgbClr val="ffff00"/>
                </a:solidFill>
                <a:latin typeface="Arial"/>
              </a:rPr>
              <a:t>Československa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yl označen za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rezidenta Osvoboditele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(zákon č. 232/1935 Sb. z. a n., z 21. prosince 1935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 k 80. narozeninám byl přija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zv. </a:t>
            </a:r>
            <a:r>
              <a:rPr b="1" lang="cs-CZ" sz="2800" spc="-1" strike="noStrike">
                <a:solidFill>
                  <a:srgbClr val="ff9999"/>
                </a:solidFill>
                <a:latin typeface="Arial"/>
              </a:rPr>
              <a:t>Lex Masaryk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obsahující větu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cc00"/>
                </a:solidFill>
                <a:latin typeface="Arial"/>
              </a:rPr>
              <a:t>„</a:t>
            </a:r>
            <a:r>
              <a:rPr b="1" i="1" lang="cs-CZ" sz="2800" spc="-1" strike="noStrike">
                <a:solidFill>
                  <a:srgbClr val="ffcc00"/>
                </a:solidFill>
                <a:latin typeface="Arial"/>
              </a:rPr>
              <a:t>Tomáš Garrigue Masaryk zasloužil se o stát.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. G. Masaryk byl 17x navržen na Nobelovu cenu mír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260280"/>
            <a:ext cx="8713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GM byl moudrým státníkem, spisovatelem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Lidé si ho velmi vážili pro jeho skromno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olné chvíle trávil rád na 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prezidentské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zámku v Lánech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nedaleko Prah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hodil zde po parku, nikdy neměnil směr 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rasu své vycházk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ilně pracoval a uměl si vážit práce druhýc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ahoma"/>
              </a:rPr>
              <a:t>TGM s dcerou Olgou </a:t>
            </a:r>
            <a:br>
              <a:rPr sz="4000"/>
            </a:br>
            <a:r>
              <a:rPr b="0" lang="cs-CZ" sz="4000" spc="-1" strike="noStrike">
                <a:solidFill>
                  <a:srgbClr val="ffff00"/>
                </a:solidFill>
                <a:latin typeface="Tahoma"/>
              </a:rPr>
              <a:t>vystupuje z vlaku v Táboř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59" name="Object 3"/>
          <p:cNvGraphicFramePr/>
          <p:nvPr/>
        </p:nvGraphicFramePr>
        <p:xfrm>
          <a:off x="2195640" y="1341360"/>
          <a:ext cx="5040360" cy="511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341360"/>
                    <a:ext cx="5040360" cy="51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ahoma"/>
              </a:rPr>
              <a:t>Podpis TG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9" descr="264px-T__G__Masaryk_Signature_svg"/>
          <p:cNvPicPr/>
          <p:nvPr/>
        </p:nvPicPr>
        <p:blipFill>
          <a:blip r:embed="rId1"/>
          <a:stretch/>
        </p:blipFill>
        <p:spPr>
          <a:xfrm>
            <a:off x="468360" y="1916280"/>
            <a:ext cx="820728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09:30:36Z</dcterms:created>
  <dc:creator>Hana Zimová</dc:creator>
  <dc:description/>
  <dc:language>en-US</dc:language>
  <cp:lastModifiedBy>martina</cp:lastModifiedBy>
  <dcterms:modified xsi:type="dcterms:W3CDTF">2013-06-09T07:33:05Z</dcterms:modified>
  <cp:revision>26</cp:revision>
  <dc:subject/>
  <dc:title>  Tomáš Garrigue Masaryk</dc:title>
</cp:coreProperties>
</file>