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7AD7-E2BA-43C7-9647-FF4BE35D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0EA8-8CFC-4789-8FFE-1F82ED3E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DBCB-D63F-4BA6-A755-A9F7829A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5B1C-46AB-435C-9969-8AD44686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F91F-8507-4B1F-AD6F-501420FB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04E0-CEC6-45E8-A3B2-30F52F2C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F166-2FD9-4C15-8CB0-DBE9FA56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17EC-C819-4D64-8901-314A7415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89E2-0F7D-4236-B1AF-F60C2E29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518F-F6EB-4189-AC31-6154D85C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2F56-0C68-4B98-8E13-34E13B3E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CEA5-0492-4CF2-B926-6B1E095D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5587-C6F3-4A54-A761-D4613E34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3626-298E-4BEE-B9C3-EB96CFDB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A1E0-5B83-44E7-9789-B0889EA6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86A0-5F28-49E0-AB36-AA650CFD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3B4B-20B5-4964-815E-E9AA1AD5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5B09-3E46-47AF-BDB4-85167450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D53E-B65B-4C4E-9587-3FB2589B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1C09-3057-4AB2-8FEE-CBF79486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854-6887-43AD-9895-8844D1C0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5E04-852E-4AC8-99E6-36A190AF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4073-F399-4CB5-8411-C5F5BE3D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6A14-9D64-4FB3-92E7-6CDF0199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15F9-2D48-48A5-93EB-EE794DC1F3C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16D3-7C17-41A3-A308-C62934278B54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hyperlink" Target="http://commons.wikimedia.org/wiki/File:Ange_au_sourire.jp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0" lang="cs-CZ" sz="5800" spc="-1" strike="noStrike">
                <a:solidFill>
                  <a:srgbClr val="ccecff"/>
                </a:solidFill>
                <a:latin typeface="Arial"/>
              </a:rPr>
              <a:t>Život lidí v novověku</a:t>
            </a:r>
            <a:endParaRPr b="0" lang="en-US" sz="5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10. 4. 201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33336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"/>
              </a:rPr>
              <a:t>Přednáška v Boloni na univerzitě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5" name="Object 3"/>
          <p:cNvGraphicFramePr/>
          <p:nvPr/>
        </p:nvGraphicFramePr>
        <p:xfrm>
          <a:off x="684360" y="1052640"/>
          <a:ext cx="784836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52640"/>
                    <a:ext cx="784836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"/>
              </a:rPr>
              <a:t>Karolinum s historickou kaplí   </a:t>
            </a:r>
            <a:r>
              <a:rPr b="0" lang="cs-CZ" sz="4000" spc="-1" strike="noStrike">
                <a:solidFill>
                  <a:srgbClr val="ffccff"/>
                </a:solidFill>
                <a:latin typeface="Arial"/>
              </a:rPr>
              <a:t>Pečeť Univerzity Karlov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250920" y="1600200"/>
          <a:ext cx="446544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00200"/>
                    <a:ext cx="446544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6"/>
          <p:cNvGraphicFramePr/>
          <p:nvPr/>
        </p:nvGraphicFramePr>
        <p:xfrm>
          <a:off x="5219640" y="2276640"/>
          <a:ext cx="3529080" cy="36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2276640"/>
                    <a:ext cx="352908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9933"/>
                </a:solidFill>
                <a:latin typeface="Arial"/>
              </a:rPr>
              <a:t>Rozvoj obchodu, výrob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Evropě se rozvíjel </a:t>
            </a:r>
            <a:r>
              <a:rPr b="1" lang="cs-CZ" sz="3200" spc="-1" strike="noStrike">
                <a:solidFill>
                  <a:srgbClr val="99ff99"/>
                </a:solidFill>
                <a:latin typeface="Arial"/>
              </a:rPr>
              <a:t>námořní obchod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řemeslná výrob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především v </a:t>
            </a:r>
            <a:r>
              <a:rPr b="0" lang="cs-CZ" sz="3200" spc="-1" strike="noStrike">
                <a:solidFill>
                  <a:srgbClr val="ff99ff"/>
                </a:solidFill>
                <a:latin typeface="Arial"/>
              </a:rPr>
              <a:t>Itáli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boží z Benátek, Florencie a Janova 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dávalo až v daleké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Indi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naopa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lké bohatství italských měst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ěni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ejich život i názor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Změna názorů na svě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estováním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se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ěnily i představy lid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 světě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nechtěli se již podřizovat jediném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ázoru církve, chtěli žít podle svéh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vojem </a:t>
            </a:r>
            <a:r>
              <a:rPr b="1" lang="cs-CZ" sz="3200" spc="-1" strike="noStrike">
                <a:solidFill>
                  <a:srgbClr val="ff99ff"/>
                </a:solidFill>
                <a:latin typeface="Arial"/>
              </a:rPr>
              <a:t>řemesel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obchod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se mění 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hled lidí na pozemský živo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ačali více věř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ff99"/>
                </a:solidFill>
                <a:latin typeface="Arial"/>
              </a:rPr>
              <a:t>rozumu</a:t>
            </a:r>
            <a:r>
              <a:rPr b="0" lang="cs-CZ" sz="4000" spc="-1" strike="noStrike">
                <a:solidFill>
                  <a:srgbClr val="99ff99"/>
                </a:solidFill>
                <a:latin typeface="Arial"/>
              </a:rPr>
              <a:t> a </a:t>
            </a:r>
            <a:r>
              <a:rPr b="1" lang="cs-CZ" sz="4000" spc="-1" strike="noStrike">
                <a:solidFill>
                  <a:srgbClr val="99ff99"/>
                </a:solidFill>
                <a:latin typeface="Arial"/>
              </a:rPr>
              <a:t>vědeckému zkoumá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ecff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ALENTA, Mila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;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stupeň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 základní školy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praktické. 3. dí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1. vydání. Praha : Parta, 2009. ISBN 9788073201234. s. 6 - 1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90 - 95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ecff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4-10] dostupné pod licencí Creative Commons – </a:t>
            </a:r>
            <a:r>
              <a:rPr b="0" lang="cs-CZ" sz="1600" spc="-1" strike="noStrike" u="sng">
                <a:solidFill>
                  <a:srgbClr val="99ff99"/>
                </a:solidFill>
                <a:uFillTx/>
                <a:latin typeface="Verdana"/>
                <a:hlinkClick r:id="rId1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Anděl v Remeš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commons.wikimedia.org/wiki/File:Ange_au_sourire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anorama Pražského hradu a Karlova mos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Prazsky_hrad_karluv_most_panorama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ažský hrad 149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Praha_1493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řednáška v Bolo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Laurentius_de_Voltolina_001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arolinum – historická ka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Karolinum_ark_DSCN2206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Univerzitní peče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Pe%C4%8De%C5%A5_Univerzity_Karlovy_v_Praze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15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24000" y="1752480"/>
          <a:ext cx="8353440" cy="4694400"/>
        </p:xfrm>
        <a:graphic>
          <a:graphicData uri="http://schemas.openxmlformats.org/drawingml/2006/table">
            <a:tbl>
              <a:tblPr/>
              <a:tblGrid>
                <a:gridCol w="2860560"/>
                <a:gridCol w="549288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Život lidí v novově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oznají rozdíl ve způsobu života v novověku a středověku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znát rozdíly způsobu života společnosti jednotlivých historických etap v kontextu světových děj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40720" cy="8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Arial"/>
              </a:rPr>
              <a:t>Křesťanské umění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0" y="105228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polečenský vývoj v době středověku, zejmé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zvoj měst, výrazně podpořil náhled 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dnotlivého člověka, který se nejprve projevuj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řesťanském umě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váře andělů a světců, dříve vznešené a přísné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sou od 12. století spíše krásné a někde doko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 s úsměvem - například sochy v katedrá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Remeši ve Franci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9" name="Object 3"/>
          <p:cNvGraphicFramePr/>
          <p:nvPr/>
        </p:nvGraphicFramePr>
        <p:xfrm>
          <a:off x="250920" y="260280"/>
          <a:ext cx="4968720" cy="64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496872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 txBox="1"/>
          <p:nvPr/>
        </p:nvSpPr>
        <p:spPr>
          <a:xfrm>
            <a:off x="5940000" y="765000"/>
            <a:ext cx="2746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Andě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 Remeš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"/>
              </a:rPr>
              <a:t>Panorama Pražského hradu</a:t>
            </a:r>
            <a:br>
              <a:rPr sz="4000"/>
            </a:br>
            <a:r>
              <a:rPr b="0" lang="cs-CZ" sz="4000" spc="-1" strike="noStrike">
                <a:solidFill>
                  <a:srgbClr val="ffff00"/>
                </a:solidFill>
                <a:latin typeface="Arial"/>
              </a:rPr>
              <a:t> a Karlova most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3" name="Object 3"/>
          <p:cNvGraphicFramePr/>
          <p:nvPr/>
        </p:nvGraphicFramePr>
        <p:xfrm>
          <a:off x="0" y="3086280"/>
          <a:ext cx="9144000" cy="34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86280"/>
                    <a:ext cx="9144000" cy="34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Pražský hrad 149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Object 3"/>
          <p:cNvGraphicFramePr/>
          <p:nvPr/>
        </p:nvGraphicFramePr>
        <p:xfrm>
          <a:off x="539640" y="2349360"/>
          <a:ext cx="806472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349360"/>
                    <a:ext cx="806472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Vznik humanism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umanismus přináší </a:t>
            </a:r>
            <a:r>
              <a:rPr b="1" lang="cs-CZ" sz="3200" spc="-1" strike="noStrike">
                <a:solidFill>
                  <a:srgbClr val="ff99cc"/>
                </a:solidFill>
                <a:latin typeface="Arial"/>
              </a:rPr>
              <a:t>změnu v pohledu člověk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sebe a na vlastní postavení na světě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život není jenom příprava na věčnost, ale má vlastní ce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by jej mohl odpovědně žít, potřebuje člověk svobo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lověk však musí skutečnost pečlivě zkoum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rása je také v jazyce, kterým mluvíme, zejména v poezii, v umě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Škol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 rozvojem řemesel a obchodu začali také měšťané, kupci, řemeslníci pociťovat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otřebu naučit se číst, psát a především počítat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 důsledku toho byly zakládány nižší školy u farních kostelů a později také </a:t>
            </a:r>
            <a:r>
              <a:rPr b="1" lang="cs-CZ" sz="3200" spc="-1" strike="noStrike">
                <a:solidFill>
                  <a:srgbClr val="99ff99"/>
                </a:solidFill>
                <a:latin typeface="Arial"/>
              </a:rPr>
              <a:t>městské škol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Vzdělávání v nich se zaměřovalo na praktické znalosti a jejich využit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 12. století se objevil nový typ školy,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  univerzit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- nejstarší univerzity byly založeny    v Itálii a soustředily se na výuku medicíny (Salerno) a práv (Bologn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Další univerzity v Evropě</a:t>
            </a: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zději vznikla významná vysoká učení v 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Anglii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xford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ambridg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cs-CZ" sz="3200" spc="-1" strike="noStrike">
                <a:solidFill>
                  <a:srgbClr val="ff9933"/>
                </a:solidFill>
                <a:latin typeface="Arial"/>
              </a:rPr>
              <a:t>Paříž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se univerzita skládala ze čtyř fakult, ale proslula hlavně svou teologickou fakultou Sorbonnou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dle jejího vzoru byla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ku 1348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založena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ejstarší univerzita ve střední Evropě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Praze – Karlova univerzit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ákladem vyučování na církevních školách a artistických fakultách (základní fakulta středověké univerzity) bylo sedm svobodných umění, známých již v antickém starověk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13:10Z</dcterms:created>
  <dc:creator>Hana Zimová</dc:creator>
  <dc:description/>
  <dc:language>en-US</dc:language>
  <cp:lastModifiedBy>martina</cp:lastModifiedBy>
  <dcterms:modified xsi:type="dcterms:W3CDTF">2013-06-09T07:27:30Z</dcterms:modified>
  <cp:revision>19</cp:revision>
  <dc:subject/>
  <dc:title>Renesance  v našich zemích</dc:title>
</cp:coreProperties>
</file>