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F0C-FA67-41AC-9264-80CEFE4D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BB7-9709-4FEB-AECA-52CFA16F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790-DC58-422E-832D-1363E1EA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8AA-E1BF-40C6-A170-5CD4DF3E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EF9-F791-4569-B9E2-25586A61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6438-8C67-41E7-A0E3-BEEC5E23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9DF8-433A-41AB-8897-7F9CDE16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245-CA0C-4D41-B74C-A4F9F73F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AB84-FD8B-42BE-AE7E-B8F8BE34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CCDF-987D-4EEE-A614-350D3385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7637-402D-462A-9456-5FD26C65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6A7-9EF9-4681-ACBA-55BD64FB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291C-89EE-4FCB-A929-AB273FF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742A-E0E6-4FBA-9FEC-37927F5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F3C-F910-4851-AB7C-C35CB27C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49D0-8B2D-4893-B081-D533E826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DD25-09FB-4790-A5D6-9680323B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529-8184-4131-B514-01F980D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ED4-C9CC-4839-93FC-5326A02D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7DC-5223-4716-8907-AD7DDFC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5D0-1C30-49E2-8271-91324427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DA6-84AF-4F8E-84D4-E43A6A3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00B-7353-437E-9903-891755C4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5F4-D9FC-4259-8C19-6612695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808F-9BBC-4B14-A297-AC65D848AF82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657-B6C6-4929-8574-05F486BE3FA9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1" lang="cs-CZ" sz="5400" spc="-1" strike="noStrike">
                <a:solidFill>
                  <a:srgbClr val="ffff99"/>
                </a:solidFill>
                <a:latin typeface="Tahoma"/>
              </a:rPr>
              <a:t>1. světová válk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09. 09. 201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Bojové letadlo Rakouska-Uherska </a:t>
            </a:r>
            <a:br>
              <a:rPr sz="2800"/>
            </a:b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Hansa-Brandenburg B.I, vyráběné i po válce</a:t>
            </a:r>
            <a:r>
              <a:rPr b="0" lang="cs-CZ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395280" y="1773360"/>
          <a:ext cx="83534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534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Blíží se konec 1. světové vál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1918 v Evropě zuřila válka již pátý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kem. Byla to válka velmi ničivá, bylo do 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pojeno 70 milionů lidí ze 35 států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ese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ilionů lidí se z ní nevrátilo a 20 milionů lid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ylo zmrzačených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osledním roce války se projevovala převah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hody (Velká Británie, Francie a Rusko)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mecká a rakouskou – uherská vojska by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labena velkými ztrátami a ustupovala ze svý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i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áci u děl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395280" y="1125360"/>
          <a:ext cx="84247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4247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Čeští a slovenští vojác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eští a slovenští vojáci odmítali válčit 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izí zájmy – za císaře a Rakousko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Uhersko. V armádě začala upadat bojov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rálka, množil se počet útěků z vál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vojenští zběhové) nebo přeběhů do zajetí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i, kterým se nedařilo utéct, se sa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raňovali, aby byli posláni do pol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mocnice = polního lazaretu a z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ůstávali co nejdéle, aby se vyhnuli bojů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enské vzpour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V první polovině r. 1918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nespokojenost voják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rcholila odmítnutím poslušnosti císaři 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lších bojů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jvětší vzpoury: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 Kotorské, Kragujevci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Rimavské Sobotě a Rumburk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é úřady je sice potlačily, ale armáda 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stupně rozpadal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lní soudy tuto neposlušnost velmi tvrd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estaly, v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Rumburku bylo zastřeleno 10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ojáků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kamžitě po rozsudku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Rumburská poprav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539640" y="1052640"/>
          <a:ext cx="8064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064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Konec první světové vál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 podzim roku 1918 byl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akousko – Uhersko poražen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 první světová válka skončil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řinesla s sebou </a:t>
            </a:r>
            <a:r>
              <a:rPr b="1" lang="cs-CZ" sz="2800" spc="-1" strike="noStrike">
                <a:solidFill>
                  <a:srgbClr val="00ffff"/>
                </a:solidFill>
                <a:latin typeface="Arial"/>
              </a:rPr>
              <a:t>10 milionů obě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800" spc="-1" strike="noStrike">
                <a:solidFill>
                  <a:srgbClr val="00ccff"/>
                </a:solidFill>
                <a:latin typeface="Arial"/>
              </a:rPr>
              <a:t>20 milionů navždy zmrzačených lidí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válečné škody přesáhly několik miliard dolarů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Fronta hladových dětí čekající </a:t>
            </a:r>
            <a:br>
              <a:rPr sz="4000"/>
            </a:b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na polévku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50920" y="1484280"/>
          <a:ext cx="86421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7 - 1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9-09] dostupné pod licencí Creative Commons – </a:t>
            </a:r>
            <a:r>
              <a:rPr b="0" lang="cs-CZ" sz="16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František Ferdin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ranzferdinand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vouplošní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Aero_Ae-0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ojáci u děl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Turkish_howitzer_10.5cm_leFH_98_09_LOC_0012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ojáci za tank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anadian_tank_and_soldiers_Vimy_1917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Fronta hladových dět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ronta_hladov%C3%BDch_d%C4%9Bt%C3%AD_%C4%8Dekaj%C3%ADc%C3%AD_na_pol%C3%A9vku_1_WW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Rumburská poprav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Rumbursk%C3%A1_vzpoura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 světov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válk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uvádí příčiny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a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sledky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1. světové válk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být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eznámen s příčinami a politickými,  sociálními a kulturními důsledky 1. světové válk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Atentát na následníka trůn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minkou k rozpoutání 1. světové války se stal </a:t>
            </a:r>
            <a:r>
              <a:rPr b="1" lang="cs-CZ" sz="3600" spc="-1" strike="noStrike">
                <a:solidFill>
                  <a:srgbClr val="0099cc"/>
                </a:solidFill>
                <a:latin typeface="Arial"/>
              </a:rPr>
              <a:t>atentát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v </a:t>
            </a:r>
            <a:r>
              <a:rPr b="1" lang="cs-CZ" sz="3600" spc="-1" strike="noStrike">
                <a:solidFill>
                  <a:srgbClr val="cc3300"/>
                </a:solidFill>
                <a:latin typeface="Arial"/>
              </a:rPr>
              <a:t>Sarajevu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na rakouského následníka trůnu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cc"/>
                </a:solidFill>
                <a:latin typeface="Arial"/>
              </a:rPr>
              <a:t>Františka Ferdinan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lo se to </a:t>
            </a:r>
            <a:r>
              <a:rPr b="1" lang="cs-CZ" sz="3600" spc="-1" strike="noStrike">
                <a:solidFill>
                  <a:srgbClr val="00cc99"/>
                </a:solidFill>
                <a:latin typeface="Arial"/>
              </a:rPr>
              <a:t>24. června roku 1914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utečným důvodem rozpoutání války však bylo nepřátelství mezi nejsilnějšími evropskými státy – Německem, Francií a Anglií. Tyto státy se nemohly dohodnout na rozdělení světových kolonií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František Ferdinand s rodinou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2340000" y="1052640"/>
          <a:ext cx="4464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052640"/>
                    <a:ext cx="446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58760"/>
            <a:ext cx="87854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Mým národům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ěmito slovy začíná prohlášení rakouského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ísaře Františka Josef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e dne </a:t>
            </a:r>
            <a:r>
              <a:rPr b="1" lang="cs-CZ" sz="3600" spc="-1" strike="noStrike">
                <a:solidFill>
                  <a:srgbClr val="00cc99"/>
                </a:solidFill>
                <a:latin typeface="Arial"/>
              </a:rPr>
              <a:t>28. července 1914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ísař oznamuje vyhlášení války Srbsk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o byl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99cc"/>
                </a:solidFill>
                <a:latin typeface="Arial"/>
              </a:rPr>
              <a:t>začátek 1. světové války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Nepřátelské tábor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Do války se brzy zapojily i ostatní stát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Rozdělily se do dvou táborů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ffff"/>
                </a:solidFill>
                <a:latin typeface="Arial"/>
              </a:rPr>
              <a:t>1. Trojspolek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– Německo, Rakousko – Uhersko, Itálie (ta ale pak přestoupila na stranu Dohody) a další (Bulharsko aj.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ff"/>
                </a:solidFill>
                <a:latin typeface="Arial"/>
              </a:rPr>
              <a:t>2. Dohoda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– Anglie, Francie, Rusk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Průběh 1. světové vál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93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očátku se věřilo, že válka bude trvat jen pá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ýdnů, ale vždy, když jedna armáda vyrazi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útoku, byla za obrovských ztrát zahnána zpě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álka se tak nečekaně protáhla na ro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y používány </a:t>
            </a:r>
            <a:r>
              <a:rPr b="1" lang="cs-CZ" sz="3200" spc="-1" strike="noStrike">
                <a:solidFill>
                  <a:srgbClr val="00ffff"/>
                </a:solidFill>
                <a:latin typeface="Arial"/>
              </a:rPr>
              <a:t>nové typy zbra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Němci jak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vní zaútoči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travnými ply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ými vyřadi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 boje tisíce anglických vojáků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Pokračování bojů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ěmci používali i </a:t>
            </a: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ponor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é byly velmi obávano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braní. Potápěli všechny lodě plující pod cizí vlajkou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větnu 191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topili Němci </a:t>
            </a:r>
            <a:r>
              <a:rPr b="1" lang="cs-CZ" sz="2800" spc="-1" strike="noStrike">
                <a:solidFill>
                  <a:srgbClr val="00cc99"/>
                </a:solidFill>
                <a:latin typeface="Arial"/>
              </a:rPr>
              <a:t>parník Lusitani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m bylo mnoho bohatých Američanů – USA 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pojily k válce na stranu Dohod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gličané vynalezli </a:t>
            </a:r>
            <a:r>
              <a:rPr b="1" lang="cs-CZ" sz="2800" spc="-1" strike="noStrike">
                <a:solidFill>
                  <a:srgbClr val="00ffff"/>
                </a:solidFill>
                <a:latin typeface="Arial"/>
              </a:rPr>
              <a:t>pancéřový tank</a:t>
            </a: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le častěji byla používána 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bojová letadl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nejdřív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 průzkumu, později i k bombardování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álečným pilotům se říkalo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„rytíři nebe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áci za tankem během bitv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95280" y="1052640"/>
          <a:ext cx="835344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52640"/>
                    <a:ext cx="835344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17:51Z</dcterms:created>
  <dc:creator>Hana Zimová</dc:creator>
  <dc:description/>
  <dc:language>en-US</dc:language>
  <cp:lastModifiedBy>martina</cp:lastModifiedBy>
  <dcterms:modified xsi:type="dcterms:W3CDTF">2013-06-09T07:32:17Z</dcterms:modified>
  <cp:revision>33</cp:revision>
  <dc:subject/>
  <dc:title>  1. světová válka</dc:title>
</cp:coreProperties>
</file>