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104-13E8-49BC-879B-3877CF0E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7D8-FBB8-4E6D-8B78-71B0495E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6A5-1401-4641-95DD-97E4D11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707-BF9D-4785-B543-D19F0415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05FC-21EF-4EAC-861F-C7B6E788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3ADE-79A6-4471-8852-28DBF946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60CC-FB60-4F4B-87BA-F77DE46D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7437-0A2B-48E9-A9AF-ED6D8E7A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602-CFCF-45CE-9D5A-FF2B6EA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9A18-93B9-46F0-B912-9DB976DA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86A-1DD6-4884-89F3-8FD7DB4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471-7BB3-4AF6-A474-026448A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8390-CDEA-4260-A7EC-312A798A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5C64-831A-428C-ABCE-FE53377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B4D-5938-464A-9E69-AE7C3CDA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6B2B-FBDA-43CA-9AF5-1A2BFBC9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F9CE-7FD9-4585-8A69-22F253E9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7FE-DFD4-4E89-B129-C5FD47AC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B5D-BD6C-4A4F-841C-29CEACE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586-1C80-4B3C-A927-3363974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D95-0863-47A5-B051-1B08E8A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BCC-D72F-43EA-80B3-B6F7C81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D1F-F841-41A7-B1A1-560C40C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257-2167-4E92-82F4-B8D7449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3472-A5D7-4BBE-B205-56553AD91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D42D-D3ED-499B-9286-ED6609DBC36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eec94"/>
                </a:solidFill>
                <a:latin typeface="Arial"/>
              </a:rPr>
              <a:t>Kryštof Kolumbus</a:t>
            </a:r>
            <a:endParaRPr b="1" lang="en-US" sz="5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ryštof Kolum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hristopher_Columbus.P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apa výpra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Viajes_de_colon_cs.sv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lumbus v Novém světě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olumbus_Taking_Possession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lumbův náhrob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Tumba_de_Colon-Sevilla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3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yštof Kolumb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chápou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nam Kryštofa Kolumba pro Evropu a svět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eec94"/>
                </a:solidFill>
                <a:latin typeface="Arial"/>
              </a:rPr>
              <a:t>Objevení Amerik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88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. srpna 1492 vyplul </a:t>
            </a:r>
            <a:r>
              <a:rPr b="1" lang="cs-CZ" sz="3200" spc="-1" strike="noStrike">
                <a:solidFill>
                  <a:srgbClr val="66ff66"/>
                </a:solidFill>
                <a:latin typeface="Arial"/>
              </a:rPr>
              <a:t>Kryštof Kolumb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 španělských břehů směrem ke Kanárský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rovům, měl 3 malé plachetn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iňa, Pinta a Santa Mari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odě se plavily Atlantským oceánem na západ. Cesta jim trvala 33 dn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12. října 1492 přistály u Karib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ostrovech námořníci objevi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morodé obyvatele, zlato a nové druhy rostl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716360" y="260280"/>
          <a:ext cx="442764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0280"/>
                    <a:ext cx="44276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-360" y="260280"/>
            <a:ext cx="4506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ryštof Kolumbu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si 31. října 1451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0. května 1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řeplavec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olonizá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 službách Katolický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álů Španělska uskutečn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tyři plavby př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tlantský oceá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 Evropě probudily záj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 nový kontinent, pozděj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zvaný Ameri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umbus nevěděl, že objevil nový kontin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obyvatele nazval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Indio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španělský výraz p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y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umbus chtěl pro sebe a své dědice výhody 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panělského královského dvora. Nakonec se m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ařilo prosadit jen některé z nic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mřel r. 1506 ve Valladolidu a jeho ostatky js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s umístěny v katedrále Panny Marie v Sevi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Mapa 4 Kolumbových výprav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50920" y="1125360"/>
          <a:ext cx="86421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Kolumbus v Novém světě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95280" y="1341360"/>
          <a:ext cx="83534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353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feec94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4572000" y="260280"/>
          <a:ext cx="43210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0280"/>
                    <a:ext cx="43210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 txBox="1"/>
          <p:nvPr/>
        </p:nvSpPr>
        <p:spPr>
          <a:xfrm>
            <a:off x="324000" y="333000"/>
            <a:ext cx="4254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lumbův náhrob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 Katedrále Pan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rie v Sevi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umbu nes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ové Kastili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eónu, Aragonie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va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3. díl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8 - 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5 – 9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7:16Z</dcterms:created>
  <dc:creator>Hana Zimová</dc:creator>
  <dc:description/>
  <dc:language>en-US</dc:language>
  <cp:lastModifiedBy>martina</cp:lastModifiedBy>
  <dcterms:modified xsi:type="dcterms:W3CDTF">2013-06-09T07:25:39Z</dcterms:modified>
  <cp:revision>17</cp:revision>
  <dc:subject/>
  <dc:title>Kryštof Kolumbus</dc:title>
</cp:coreProperties>
</file>