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6BF9-8BEF-4EEC-AB6C-3BD08D8B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A6F8-1B88-4184-B7FE-0CECF646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7A38-E08A-4D55-B8C1-0703E56F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1CFC-FA7B-4CC0-83F1-080F0A10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8198-13FC-428D-B977-9E394CD0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BE7A-6A08-4A1B-B399-4A275EF7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466B-9D0D-4164-8243-D059E5AA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22AB-E44D-461B-841C-2DCE0E19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A8CE-C800-4240-B2D6-EEB88DB3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E909-B6F7-4D5B-94F3-852F02E5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8D14-727C-4BE0-ABEF-870BDE60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0589-44EE-4DB2-962C-2D522F37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3785-7253-4856-9653-806DB31C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4FC5-365D-41D4-90B0-4748ADE9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F9C6-51E3-4743-9EA1-236B9027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3BFA-8438-40C3-9FD5-2CB4B4AD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0590-C85A-4E3C-96FA-9B3717D0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DC76-DFF0-4A48-9945-384DACF7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4CE0-A135-4DAE-8C10-BCC893DD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7756-5CB4-43FA-8423-2ADA3EB5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0535-9E2F-47DB-A013-714E73E3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4A4E-54E1-4C93-AABE-7E488CE7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6FB0-24A2-4616-B8F0-8B4A26E3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C0AB-5899-40BE-AC9F-1F3E64DF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529F-BC47-4CFD-9A51-DC201D44B1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0D05-E815-4EEF-91A6-CB444D06BAF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ffff00"/>
                </a:solidFill>
                <a:latin typeface="Arial"/>
              </a:rPr>
              <a:t>Doba temna, Komenský</a:t>
            </a:r>
            <a:endParaRPr b="0" lang="en-US" sz="5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9. 5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835280" y="260280"/>
            <a:ext cx="57528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Jan Ámos Komensk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28. 3. 1592 – 15. 11. 16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 bitvě na Bílé hoře musel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katoličtí šlechtici 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ěšťané opustit domov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 odejít do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VYHNANSTV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ezi vyhnanci byl tak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něz a učit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Jan Ámos Komenský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atří mezi nejslavnějš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sobnosti českých i evropských děj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7" descr="Johan_amos_comenius_1592-1671"/>
          <p:cNvPicPr/>
          <p:nvPr/>
        </p:nvPicPr>
        <p:blipFill>
          <a:blip r:embed="rId1"/>
          <a:stretch/>
        </p:blipFill>
        <p:spPr>
          <a:xfrm>
            <a:off x="5153040" y="1125360"/>
            <a:ext cx="3990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Činnost Komenskéh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 vyhnání ze země procestoval mnoho zemí, kde pomáhal s výchovou a vzděláváním dětí ve školác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to je nazývá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učitelem národ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den jeho narození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28. březn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slaví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ezinárodní den učitel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šel celou Evropu, Anglii, Holandsko, Polsko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Švédsko, Maďarsko aj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konci svého života žil v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msterdam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v Holandsku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de také zemř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am byla vydána polovina z celého Komenského díl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příklad soubor 43 spisů pod názvem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Opera didact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omnia (Veškeré spisy didaktické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ševýchov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a 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Všemluv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vzdory usilovné práci a pomoci syna Daniela zůstala mnohá díla více či méně nedokonče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emřel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o dlouhodobých zdravotních problémech, 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lečnosti své ženy Jany, syna Daniel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tele a lékaře Mikuláše Tulpa,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15. listopadu 1670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 pohřben v kostelíku v Naarden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Jeho knih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. A. Komenský napsal mnoho knih a učebni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známější se jmenuj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Svět v obrazech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to učebnice latinského jazyka, který byl v té době jazykem vzdělanců a učenců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asto se ho musely učit už malé děti a to se Komenskému nelíbil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 počáteční vyučování prosazov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mateřský jazy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79280" y="476280"/>
            <a:ext cx="4464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jstarší dochovan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ukopis J. A. Komenské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 roku 1611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ást textu česky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V mladosti má člově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pamatovati, kterak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dobře živ byl, a v starost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kterak by dobře umř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5" descr="File:Oldest manuscript of Comenius.jpg"/>
          <p:cNvPicPr/>
          <p:nvPr/>
        </p:nvPicPr>
        <p:blipFill>
          <a:blip r:embed="rId2"/>
          <a:stretch/>
        </p:blipFill>
        <p:spPr>
          <a:xfrm>
            <a:off x="5003640" y="333360"/>
            <a:ext cx="39610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Další požadavky Komenskéh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ále požadoval, aby do šk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ohly chodit i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děti z chudých rodi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té době většinou chodili do škol jen chlapc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 bohatších vrste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nažil o to, aby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škol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byla pro dě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zábavou a hro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Škola hro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e jmenuje další z jeho slavných učebn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Hlavní pedagogické názor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soce si cenil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ýznamu výchov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Podle něj by žádné dítě nemělo být vyloučeno z výchovy, protože i to nejméně nadané dítě lze vychov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Výchova dítěte má podle něj </a:t>
            </a: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tři hlavní cíl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poznat sebe a svě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vzdělání ve vědách, uměních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 řemesle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ovládnout seb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výchova m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povznést se k Boh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výchova náboženská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lade důraz na význam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ázně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 ukončení vzdělávání by měl člověk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estova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Zdůrazňoval, že vzdělávání nikdy nekonč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Školní ro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prvé definoval pojem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školní rok, školn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ázdniny a školní týde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 třídách by měli být žáci stejného věk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 stejné úrovně znalostí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kud je ve třídě větší počet žáků, doporučuj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 učitele pomocníka (ve třídách bývalo 80 a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00 žáků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aždá třída by měla mít svou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ístnos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 výuku, každý rok by měla mít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čebni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fdef6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stupeň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 základní školy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praktické. 3. dí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18 - 2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108 - 11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fdef6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5-09] dostupné pod licencí Creative Commons – 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Slet čaroděj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Hexensabbat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arodějnický 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WitchcraftAtSalemVillage.p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n Ámos Komensk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Johan_amos_comenius_1592-1671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is Komenské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Oldest_manuscript_of_Comenius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19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79280" y="2637000"/>
          <a:ext cx="8785440" cy="3657600"/>
        </p:xfrm>
        <a:graphic>
          <a:graphicData uri="http://schemas.openxmlformats.org/drawingml/2006/table">
            <a:tbl>
              <a:tblPr/>
              <a:tblGrid>
                <a:gridCol w="3672000"/>
                <a:gridCol w="511344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ba temna, J. A. Komensk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poznají život lidí v pobělohorské době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znají význam J. A. Komenskéh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oznat význačné osobnosti našich děj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Arial"/>
              </a:rPr>
              <a:t>Doba pobělohorská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108000" y="1413000"/>
            <a:ext cx="9036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období po bitvě na Bílé hoře r. 162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 skončení třicetileté války byla města rozbitá a venkovské usedlosti opuštěné. Scházelo mnoho pracovních sil, protože za války zahynulo velké množství lid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írkev nutila poddané k přestupu na katolickou víru, nutila je k účasti na bohoslužbách a zakázala jim odchod ze země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Spalování kni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9280" y="1314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 době po bitvě na Bílé hoře by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66cc"/>
                </a:solidFill>
                <a:latin typeface="Verdana"/>
              </a:rPr>
              <a:t>spalovány </a:t>
            </a:r>
            <a:r>
              <a:rPr b="1" lang="cs-CZ" sz="3200" spc="-1" strike="noStrike">
                <a:solidFill>
                  <a:srgbClr val="ff66cc"/>
                </a:solidFill>
                <a:latin typeface="Verdana"/>
              </a:rPr>
              <a:t>knihy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, které vyprávě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 minulosti národa, hlavně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 době husitsk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i, kteří tyto knihy vlastnili, byli tvrdě potrestán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Upalování lid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romě zakázaných knih byli upalováni 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lidé, hlavně za </a:t>
            </a:r>
            <a:r>
              <a:rPr b="1" i="1" lang="cs-CZ" sz="3200" spc="-1" strike="noStrike">
                <a:solidFill>
                  <a:srgbClr val="ffffff"/>
                </a:solidFill>
                <a:latin typeface="Verdana"/>
              </a:rPr>
              <a:t>čarodějnictv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írkev věřila, že mezi lidmi se ukrývaj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uctívači ďábla – </a:t>
            </a:r>
            <a:r>
              <a:rPr b="0" lang="cs-CZ" sz="3200" spc="-1" strike="noStrike">
                <a:solidFill>
                  <a:srgbClr val="ffff00"/>
                </a:solidFill>
                <a:latin typeface="Verdana"/>
              </a:rPr>
              <a:t>ČARODĚJNÍC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vrdila, že ti způsobují uhynutí dobytka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kodu na majetku, nemoci, sm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 další nesmys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Slet čarodějnic vedených ďáblem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56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Čarodějnický pro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5" descr="File:WitchcraftAtSalemVillage.png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Útlak ze strany vrchnost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romě útlaku ze strany církve byli lidé utlačován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lechtou. Ta mluvila převážně německy, pro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eština začala postupně mizet z veřejného živo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daní také museli císaři museli posílat sv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yny do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služby k císařskému vojs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ato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lužba trvala až 18 le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romě toho však museli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dvádě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šlechtě velk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část své úrody či výděl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také </a:t>
            </a: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pracov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(robotovat = zadarmo pracovat) na panský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polí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Nevolnictv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ez povolení vrchnosti se poddaní nesměl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ěhovat, ženit či vdávat ani posílat své dě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 učen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danství se změnil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NEVOLNICTV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Život nevolníků byl velmi těžký. Téměř nic mu nezbylo pro vlastní potřebu, rodiny trpěly velkou nouz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9:34Z</dcterms:created>
  <dc:creator>Hana Zimová</dc:creator>
  <dc:description/>
  <dc:language>en-US</dc:language>
  <cp:lastModifiedBy>martina</cp:lastModifiedBy>
  <dcterms:modified xsi:type="dcterms:W3CDTF">2013-06-09T07:30:37Z</dcterms:modified>
  <cp:revision>30</cp:revision>
  <dc:subject/>
  <dc:title>  Doba temna</dc:title>
</cp:coreProperties>
</file>