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8F8-647F-45BE-8374-FE84C41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B8D-C26B-49EC-8B3F-D93B884E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F16-D3C0-4460-AC4F-061219BC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298-8059-43F9-B510-43230F52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0AD-5815-4B57-BF07-62D72DE4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FF4-0D00-48E3-912E-B05CB41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5A74-C509-45E7-953F-62E4BFC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2BCB-EE31-4CDA-B399-A1B70F63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124-0E8E-4174-A4BA-91CA7B6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1A01-5145-4896-83EF-C3C1BA8B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5629-7283-4AA1-B2B3-4A079F5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91D-10A4-4AD9-8303-4440B9BE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6ED3-03E8-4B41-887A-96C9D0E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DF55-902F-43F2-BCB3-445C94F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FA4-DF3B-4BFD-9934-48317194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6471-4E58-411F-ACC0-2511C7A4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6E57-B4FE-41F8-8CE8-5C24792E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039-9374-492A-ACA9-4F67A6AC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297-A958-44EF-B8B1-A51E57E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810-3986-41A5-A9DB-551487FA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6BA-1013-4142-9324-A59FE76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FE7-A1C3-4E8D-9805-086163A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F26-CCB9-48FD-8276-2322FD8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0ED-E718-40E0-92F5-43C25E8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D4EF-F146-45D5-B35D-F5CF90A7E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324-3143-41F2-8ECB-CD154B446D1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Flag_of_the_Czech_Republic.sv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13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1" lang="cs-CZ" sz="5700" spc="-1" strike="noStrike">
                <a:solidFill>
                  <a:srgbClr val="feec94"/>
                </a:solidFill>
                <a:latin typeface="Arial"/>
              </a:rPr>
              <a:t>Vznik ČR</a:t>
            </a:r>
            <a:endParaRPr b="1" lang="en-US" sz="57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8. 3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Státní znak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File:Coat of arms of the Czech Republic.svg"/>
          <p:cNvPicPr/>
          <p:nvPr/>
        </p:nvPicPr>
        <p:blipFill>
          <a:blip r:embed="rId1"/>
          <a:stretch/>
        </p:blipFill>
        <p:spPr>
          <a:xfrm>
            <a:off x="1979640" y="1143000"/>
            <a:ext cx="475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Vlajka Slovenské republik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79280" y="2349360"/>
          <a:ext cx="431964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31964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4854600" y="1600200"/>
          <a:ext cx="362412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1600200"/>
                    <a:ext cx="3624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Mapa ČR a znaky historických zemí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File:Czech Rep. - Bohemia, Moravia and Silesia III.png"/>
          <p:cNvPicPr/>
          <p:nvPr/>
        </p:nvPicPr>
        <p:blipFill>
          <a:blip r:embed="rId1"/>
          <a:stretch/>
        </p:blipFill>
        <p:spPr>
          <a:xfrm>
            <a:off x="179280" y="1989000"/>
            <a:ext cx="864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Opětovné zvolení Václava Havla,</a:t>
            </a:r>
            <a:br>
              <a:rPr sz="4000"/>
            </a:b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NA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áclav Havel byl českým prezident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letech 1993 –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jaře 1999 vstoupila ČR do NATO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veroatlantický pa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64 - 6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243 - 2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šechny uveřejněné odkazy [cit. 2012-03-28] dostupné pod licencí Creative Commons – 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lajka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commons.wikimedia.org/wiki/File:Flag_of_the_Czech_Republic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nak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oat_of_arms_of_the_Czech_Republic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lajka S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Flag_of_Slovakia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nak S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oat_of_Arms_of_Slovakia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zech_Rep._-_Bohemia,_Moravia_and_Silesia_III.p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Československa 1969 –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%C4%8CSSR-mapa.p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8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znik Č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píší dobu vzniku Č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chápat význam událostí v ro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1989 a vítězství demokracie v naš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Zánik Českoslovens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nik Československa se udá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vakrá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ff"/>
                </a:solidFill>
                <a:latin typeface="Arial"/>
              </a:rPr>
              <a:t>poprv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4.–15. března 193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cs-CZ" sz="3200" spc="-1" strike="noStrike">
                <a:solidFill>
                  <a:srgbClr val="0099ff"/>
                </a:solidFill>
                <a:latin typeface="Arial"/>
              </a:rPr>
              <a:t>podruh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definitivně 31. prosince 1992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 Česká a Slovenská Federativní Republika zanik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dosavadní národní republik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Česká republika i Slovenská republika)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 </a:t>
            </a: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1. ledna 1993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samostatni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staly subjekty mezinárodního prá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Politické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9. prosince 1989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 zvolen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ezident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a i v zahraničí uznávaný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sedou Federálního shromáždění se s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Komunistický režim definitivně pad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66ff33"/>
                </a:solidFill>
                <a:latin typeface="Arial"/>
              </a:rPr>
              <a:t>červnu 199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uskutečnily </a:t>
            </a: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první svobodn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volby do parlament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Další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1. února 1990 byl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rušena Státní bezp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březnu byl přijat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zákon o rehabilita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lid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íhaných komunistickým režim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byl přijat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restituční zák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avracející soukrom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ek zabavený po únoru 1948 je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vodním vlastník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březnu 1990 by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měněn náze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ČSSR 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Českou a Slovenskou federativní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Zahraniční pol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oslovensko se rychle zbavovalo závisl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ovětském svazu a chystala se začlen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ezi evropské demokratické stá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 největší úspěch se považuje doho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 odchodu sovětských vojsk z našeho územ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20 let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Arial"/>
              </a:rPr>
              <a:t>Rozdělení československé republik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844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. ledna 1993 došlo k rozdělení Československa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va samostatné stát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Českou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0099ff"/>
                </a:solidFill>
                <a:latin typeface="Arial"/>
              </a:rPr>
              <a:t>Slovenskou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4 se naše republika sta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enskou zemí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Evropské uni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Mapa Československa 1969 - 199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ile:ČSSR-mapa.png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Vlajka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1:27Z</dcterms:created>
  <dc:creator>Sbor</dc:creator>
  <dc:description/>
  <dc:language>en-US</dc:language>
  <cp:lastModifiedBy>martina</cp:lastModifiedBy>
  <dcterms:modified xsi:type="dcterms:W3CDTF">2013-06-09T07:21:02Z</dcterms:modified>
  <cp:revision>17</cp:revision>
  <dc:subject/>
  <dc:title>Vznik ČR</dc:title>
</cp:coreProperties>
</file>