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0A1-E929-4BB2-98C8-D8ADC60F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03C4-8B13-4758-8D10-E3EA6127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517-3B22-4FBD-B717-C887E0A4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183-EC6E-4DD1-A642-FE63B6CB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8B63-BC53-4601-A3C8-B235AC7B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F466-8DCD-456B-AD49-59724232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8CBC-FAF7-45E9-A068-7B541B5D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386E-7722-47BE-A19E-9F9E65AE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191F-F2C9-4DEF-B6D5-5EEE5E75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6BF7-BBBA-49DD-886F-3B8E983A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9769-E3FF-49F9-9125-51C4D3CF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9B9-72CB-447B-9C07-C5A68B09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4E13-9DA1-47ED-8325-2E26B3EB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93BD-EF49-470B-AFA4-5057D205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67AC-D663-4258-AC89-D25FD0C9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ED87-9341-4121-9908-53EAFFDF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B8BF-8CF2-4A18-8D76-E1E33EEB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80B-25E0-45CA-A6C1-83B83488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377A-CE78-44B5-A919-5CCFC5D6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B86-4089-4C18-AC34-402DDEE8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378-1247-45C6-A99C-5D594FDF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433-8738-409E-9ACB-383E0906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304-190A-4853-9F7C-E0B5E6A0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046-FB30-44EE-AE17-B6601D1C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2BC7-0436-4E34-AC90-BFD6BD45B24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EABB-E3C8-47FF-8984-98EAC087B23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Brno,_kostel_(10)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66"/>
                </a:solidFill>
                <a:latin typeface="Arial"/>
              </a:rPr>
              <a:t>Baroko,</a:t>
            </a:r>
            <a:br>
              <a:rPr sz="5800"/>
            </a:br>
            <a:r>
              <a:rPr b="0" lang="cs-CZ" sz="5800" spc="-1" strike="noStrike">
                <a:solidFill>
                  <a:srgbClr val="ffff66"/>
                </a:solidFill>
                <a:latin typeface="Arial"/>
              </a:rPr>
              <a:t> prvky baroka</a:t>
            </a:r>
            <a:endParaRPr b="0" lang="en-US" sz="5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7. 5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18900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Rytířský sál s kazetovým stropem </a:t>
            </a:r>
            <a:br>
              <a:rPr sz="4000"/>
            </a:b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v Častolovicí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324000" y="1600200"/>
          <a:ext cx="84960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00200"/>
                    <a:ext cx="84960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bbd71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24 - 25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110 - 111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bbd71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5-17] dostupné pod licencí Creative Commons – </a:t>
            </a:r>
            <a:r>
              <a:rPr b="0" lang="cs-CZ" sz="1600" spc="-1" strike="noStrike" u="sng">
                <a:solidFill>
                  <a:srgbClr val="ffcc66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ýzdoba kostela v Brně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commons.wikimedia.org/wiki/File:Brno,_kostel_(10)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Kostel sv. Mikuláše Prah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commons.wikimedia.org/wiki/File:Chram_sv_Mikulase_z_upati_Petrina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Výzdoba kostel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commons.wikimedia.org/wiki/File:Chram_sv_Mikulase_interier_kopule2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ocha Jana Nepomuckého na Karlově most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commons.wikimedia.org/wiki/File:Jan_Nepomucky_na_Karlove_moste_detail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ámek v Častolovicí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commons.wikimedia.org/wiki/File:%C4%8Castolovice6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Rytířský sá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commons.wikimedia.org/wiki/File:Rytirak2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20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2637000"/>
          <a:ext cx="8785440" cy="3855960"/>
        </p:xfrm>
        <a:graphic>
          <a:graphicData uri="http://schemas.openxmlformats.org/drawingml/2006/table">
            <a:tbl>
              <a:tblPr/>
              <a:tblGrid>
                <a:gridCol w="3384720"/>
                <a:gridCol w="540072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oko, prvky baro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poznávají barokní kultur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znát rozdíly způsobu života společnosti jednotlivých historických etap v kontextu světových děj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66"/>
                </a:solidFill>
                <a:latin typeface="Arial"/>
              </a:rPr>
              <a:t>Rozvoj baroka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928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 skončení třicetileté války (po Bílé hoř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 českých zemích nastává rozma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barokního umě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ový umělecký styl se projevuje ve </a:t>
            </a:r>
            <a:r>
              <a:rPr b="1" lang="cs-CZ" sz="2800" spc="-1" strike="noStrike">
                <a:solidFill>
                  <a:srgbClr val="00ff00"/>
                </a:solidFill>
                <a:latin typeface="Verdana"/>
              </a:rPr>
              <a:t>stavitelství, módě, malířství, sochařství, hudbě i literatuř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Cílem baroka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bylo odpoutat pozornost člověka od běžných starostí a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obrátit je k boh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 ke katolické víř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Arial"/>
              </a:rPr>
              <a:t>Stavitelstv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28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jvýrazněji se vliv baroka projevi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 stavitelstv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avěly se </a:t>
            </a:r>
            <a:r>
              <a:rPr b="1" lang="cs-CZ" sz="3200" spc="-1" strike="noStrike">
                <a:solidFill>
                  <a:srgbClr val="ff99ff"/>
                </a:solidFill>
                <a:latin typeface="Verdana"/>
              </a:rPr>
              <a:t>chrámy, paláce a zámky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teré udivovaly a udivují dodnes svou </a:t>
            </a: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mohutností a kráso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yly velmi </a:t>
            </a: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bohatě zdobené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zvenku i zevnitř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 výzdobě patřilo i velké množstv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Verdana"/>
              </a:rPr>
              <a:t>soch a velkých obrazů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 zlacených rámec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hrámy zastřešovala </a:t>
            </a: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velká kopul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Bohatá barokní výzdoba v kostele Svatých Janů v Brně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File:Brno, kostel (10).jpg"/>
          <p:cNvPicPr/>
          <p:nvPr/>
        </p:nvPicPr>
        <p:blipFill>
          <a:blip r:embed="rId1"/>
          <a:stretch/>
        </p:blipFill>
        <p:spPr>
          <a:xfrm>
            <a:off x="755640" y="1268280"/>
            <a:ext cx="762012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Kostel sv. Mikuláše na Malé Straně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File:Chram sv Mikulase z upati Petrina.jpg"/>
          <p:cNvPicPr/>
          <p:nvPr/>
        </p:nvPicPr>
        <p:blipFill>
          <a:blip r:embed="rId1"/>
          <a:stretch/>
        </p:blipFill>
        <p:spPr>
          <a:xfrm>
            <a:off x="684360" y="1268280"/>
            <a:ext cx="76197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Malířská výzdoba v kopuli Kostela sv. Mikuláš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File:Chram sv Mikulase interier kopule2.jpg"/>
          <p:cNvPicPr/>
          <p:nvPr/>
        </p:nvPicPr>
        <p:blipFill>
          <a:blip r:embed="rId1"/>
          <a:stretch/>
        </p:blipFill>
        <p:spPr>
          <a:xfrm>
            <a:off x="97164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333360"/>
            <a:ext cx="396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ocha sv. Ja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pomuckého 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arlově mostě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 Pra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File:Jan Nepomucky na Karlove moste detail.jpg"/>
          <p:cNvPicPr/>
          <p:nvPr/>
        </p:nvPicPr>
        <p:blipFill>
          <a:blip r:embed="rId1"/>
          <a:stretch/>
        </p:blipFill>
        <p:spPr>
          <a:xfrm>
            <a:off x="4500720" y="115920"/>
            <a:ext cx="446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Zámek v Častolovicích</a:t>
            </a:r>
            <a:br>
              <a:rPr sz="4000"/>
            </a:b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ve východních Čechá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800PX-~1 častolovice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41:40Z</dcterms:created>
  <dc:creator>Hana Zimová</dc:creator>
  <dc:description/>
  <dc:language>en-US</dc:language>
  <cp:lastModifiedBy>martina</cp:lastModifiedBy>
  <dcterms:modified xsi:type="dcterms:W3CDTF">2013-06-09T07:31:38Z</dcterms:modified>
  <cp:revision>25</cp:revision>
  <dc:subject/>
  <dc:title>  Baroko,  prvky baroka</dc:title>
</cp:coreProperties>
</file>