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5A9A-B190-405A-9A4A-5D116154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88CE-C83B-4EE8-8458-659DC42D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061D-5496-4A99-B197-69DB7865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9CFD-A0EB-440B-BE87-57E77CC1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FF9D-289A-4563-A66E-1C36FC0D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3DF0-640A-4F0C-AF30-89134547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0204-DF48-4B32-9907-69DF9919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3090-3470-4CB0-8E2D-B27906BC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1112-D68F-412B-887D-383AC8D7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5052-36F4-40F3-AF89-3D3C0CD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D346-4F30-4557-AEA3-AD6576A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CF0A-1A68-40A5-A66F-3041CF8E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C55A-33C3-4A44-A1AE-AE18A0D2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AF48-59FD-4DEE-ACBF-2A18EF6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927F-87C2-46C1-B500-791FCB58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C2C3-8100-4D56-B15D-A6F4F28A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0D1B-A103-4E14-B663-B24797DC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095D-28A2-4688-803A-8232248F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7EA9-512A-47A4-8D7E-8B6EBE76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0AE6-C641-4CC6-858B-A0869A51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74A3-BAA2-4E04-9A1F-F918903A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0999-6F47-4C57-A207-73CA3B6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9DA5-6B5E-4B3B-81BF-D34A816C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6892-399C-4DD8-9396-94D30C93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1F7-8C0A-43D9-83AE-4B0A61004A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DF65-0EFF-4C4A-AEB3-5197D7501FC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Únor 1948 - převrat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5. 2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Ekonomická a politická kri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cs-CZ" sz="3200" spc="-1" strike="noStrike">
                <a:solidFill>
                  <a:srgbClr val="66ff99"/>
                </a:solidFill>
                <a:latin typeface="Arial"/>
              </a:rPr>
              <a:t>politickým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lémům se přidaly i problémy 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ekonomick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Republika měla málo surovin, pracovních sil, ceny rostly, klesla zemědělská výroba, průmysl zaostá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ši ekonomové proto přijali pozvání na konferenci do Paříže v červenci 1947, kde se jednalo  o americké pomoci Evropě – tzv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arshallův plá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l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šak naší republice tut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moc zakáza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ČSR jeho nátlaku podleh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Ohrožená demokra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blížícím se rokem 1948 ostatní strany pochopily, že KSČ chce převzít veškerou moc ve státě, protože všechna důležitá místa byla postupně obsazena komunisty oddaných Gottwaldov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sté využili nepokojů proti ostatním politickým stranám a přesvědčily většinu lidí, že když se stát zbaví továrníků a statkářů, bude se jim žít lé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věřili heslu: „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dyž bude vše patřit dělníkům a rolníkům, nebude bíd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Únor 194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ezident Beneš ustoupil tlaku komunistů, aby zabránil krveprolití, a </a:t>
            </a:r>
            <a:r>
              <a:rPr b="1" lang="cs-CZ" sz="3600" spc="-1" strike="noStrike">
                <a:solidFill>
                  <a:srgbClr val="ffff66"/>
                </a:solidFill>
                <a:latin typeface="Arial"/>
              </a:rPr>
              <a:t>25. února 1948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přijal demisi nekomunistických minist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ak byla v Československu </a:t>
            </a:r>
            <a:r>
              <a:rPr b="1" i="1" lang="cs-CZ" sz="3600" spc="-1" strike="noStrike">
                <a:solidFill>
                  <a:srgbClr val="66ff99"/>
                </a:solidFill>
                <a:latin typeface="Arial"/>
              </a:rPr>
              <a:t>nastolena TOTALI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= nedemokratická 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mise = odstoupení ze svého úř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Edvard Beneš </a:t>
            </a:r>
            <a:br>
              <a:rPr sz="4000"/>
            </a:br>
            <a:r>
              <a:rPr b="0" lang="cs-CZ" sz="2800" spc="-1" strike="noStrike">
                <a:solidFill>
                  <a:srgbClr val="dfdef6"/>
                </a:solidFill>
                <a:latin typeface="Arial"/>
              </a:rPr>
              <a:t>(28. května 1884 – 3. září 1948) a s manželkou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2" name="Object 3"/>
          <p:cNvGraphicFramePr/>
          <p:nvPr/>
        </p:nvGraphicFramePr>
        <p:xfrm>
          <a:off x="4643280" y="1341360"/>
          <a:ext cx="42498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341360"/>
                    <a:ext cx="42498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7"/>
          <p:cNvGraphicFramePr/>
          <p:nvPr/>
        </p:nvGraphicFramePr>
        <p:xfrm>
          <a:off x="423720" y="1557360"/>
          <a:ext cx="354996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720" y="1557360"/>
                    <a:ext cx="35499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Slovníče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66"/>
                </a:solidFill>
                <a:latin typeface="Arial"/>
              </a:rPr>
              <a:t>Co znamená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Znárodně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Dem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Totali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Odpověď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Znárodně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edení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ukromého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jetku do státního vlastnictv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Demise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odstoupení ze svého úř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Totali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= nedemokratická moc nastolená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¨                        komuni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226 - 23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šechny uveřejněné odkazy [cit. 2012-02-15] dostupné pod licencí Creative Commons –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http://wikim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imberský 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Nuremberg-1-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ůvod Maďarsk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Bundesarchiv_Bild_183-R90009,_Budapest,_II._Weltfestspiele,_Festumzug,_tschechische_Delegation_(cropped)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dvard Bene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Edvard_Bene%C5%A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dvard Beneš s manželk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Edvard_Benes_with_his_wife_in_1934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65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3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1700280"/>
          <a:ext cx="8785440" cy="40608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nor 1948 - převr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návaj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í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oválečný vývoj státu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průběh a důsledky 2. světové války a nový politický a hospodářský vývoj 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66"/>
                </a:solidFill>
                <a:latin typeface="Arial"/>
              </a:rPr>
              <a:t>Situace po 2. SV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2. světové válce Čechy i Slováky nejvíce zajímala jejich společná budoucnost. Během druhé světové války zemřely tisíce lidí, i škody na majetku byly obrovské. Vedle toho bylo nutné vyřešit státní uspořádání a politický systé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íhala „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očis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“, která měla zajistit potrestání nacistických zločinců, zrádců a spolupracovníků s fašisty, byly rozděleny pozemky a majetky odsunutých Němců a zrádc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Norimberský proces</a:t>
            </a: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– potrestání válečných zločinců 1945 - 1946 </a:t>
            </a:r>
            <a:br>
              <a:rPr sz="4000"/>
            </a:br>
            <a:r>
              <a:rPr b="0" lang="cs-CZ" sz="3600" spc="-1" strike="noStrike">
                <a:solidFill>
                  <a:srgbClr val="dfdef6"/>
                </a:solidFill>
                <a:latin typeface="Arial"/>
              </a:rPr>
              <a:t>tresty: od 10 let až do doživotí a trest smrti</a:t>
            </a:r>
            <a:br>
              <a:rPr sz="3600"/>
            </a:br>
            <a:r>
              <a:rPr b="0" lang="cs-CZ" sz="3600" spc="-1" strike="noStrike">
                <a:solidFill>
                  <a:srgbClr val="dfdef6"/>
                </a:solidFill>
                <a:latin typeface="Arial"/>
              </a:rPr>
              <a:t>(Göring, Hess a další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755640" y="2421000"/>
          <a:ext cx="763272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21000"/>
                    <a:ext cx="763272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Národní fron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9396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veškerém dění v poválečném Československ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 podílely politické strany, které byly sdružen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i="1" lang="cs-CZ" sz="3200" spc="-1" strike="noStrike">
                <a:solidFill>
                  <a:srgbClr val="ff0066"/>
                </a:solidFill>
                <a:latin typeface="Arial"/>
              </a:rPr>
              <a:t>Národní frontě Čechů a Slováků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Mimo 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byly povoleny žádné jiné politické stran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cs-CZ" sz="3600" spc="-1" strike="noStrike">
                <a:solidFill>
                  <a:srgbClr val="33cc33"/>
                </a:solidFill>
                <a:latin typeface="Arial"/>
              </a:rPr>
              <a:t>Strany v Národní front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66"/>
                </a:solidFill>
                <a:latin typeface="Arial"/>
              </a:rPr>
              <a:t>Komunistická strana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Nár.socialistická st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ociálně demokratická strana  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Lidová st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cs-CZ" sz="3200" spc="-1" strike="noStrike">
                <a:solidFill>
                  <a:srgbClr val="ff3399"/>
                </a:solidFill>
                <a:latin typeface="Arial"/>
              </a:rPr>
              <a:t>Slovenská demokratická st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Poválečné hospodářs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99"/>
                </a:solidFill>
                <a:latin typeface="Arial"/>
              </a:rPr>
              <a:t>Znárodn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jetek (půda, domy …) Němců, zrádců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laborantů, dále soukromý hospodářský majet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 převeden do státního vlastnictv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byl </a:t>
            </a:r>
            <a:r>
              <a:rPr b="1" i="1" lang="cs-CZ" sz="3600" spc="-1" strike="noStrike">
                <a:solidFill>
                  <a:srgbClr val="ffffff"/>
                </a:solidFill>
                <a:latin typeface="Arial"/>
              </a:rPr>
              <a:t>znárodně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cc33"/>
                </a:solidFill>
                <a:latin typeface="Arial"/>
              </a:rPr>
              <a:t>Systém plánovaného hospodářst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ěl vést k rychlé obnově válkou zničené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spodářství, nadále existovaly i soukromý sek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řemeslná výrob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Volby 194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květnu 1946 proběhly v ČSR 1. demokratick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lamentní volby, kterých se účastnily všech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any Národní fron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vítězila v nich </a:t>
            </a:r>
            <a:r>
              <a:rPr b="1" lang="cs-CZ" sz="3200" spc="-1" strike="noStrike">
                <a:solidFill>
                  <a:srgbClr val="ff0066"/>
                </a:solidFill>
                <a:latin typeface="Arial"/>
              </a:rPr>
              <a:t>Komunistická stra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66"/>
                </a:solidFill>
                <a:latin typeface="Arial"/>
              </a:rPr>
              <a:t>Českoslovens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získala 38 % hlas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Prezident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byl opět zvolen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Edvard Bene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stavením vlády byl pověřen nově zvolen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předseda vlá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Klement Gottwal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Průvod v Maďarsku - portréty Gottwalda a Stalina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1" name="Object 3"/>
          <p:cNvGraphicFramePr/>
          <p:nvPr/>
        </p:nvGraphicFramePr>
        <p:xfrm>
          <a:off x="468360" y="1600200"/>
          <a:ext cx="8136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136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Vliv Sovětského svaz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Československu po volbách 1946 začala síl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c KSČ a s ní i vliv Stalina, který čím dál tí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íc ovlivňoval dění v zemích osvobozený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. svazem na konci 2. SV. Chtěl, a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ěchto zemích byla nastolena vláda bolševik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oupalo napětí mezi politickými stranami v N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y pochopily, že KSČ chce převzít vešker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c, začaly se proto bouř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38:01Z</dcterms:created>
  <dc:creator>Hana Zimová</dc:creator>
  <dc:description/>
  <dc:language>en-US</dc:language>
  <cp:lastModifiedBy>martina</cp:lastModifiedBy>
  <dcterms:modified xsi:type="dcterms:W3CDTF">2013-06-09T07:16:30Z</dcterms:modified>
  <cp:revision>10</cp:revision>
  <dc:subject/>
  <dc:title>  Únor 1948 - převrat</dc:title>
</cp:coreProperties>
</file>