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391-DEE8-4822-8135-6B70564C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C2E-D328-4A96-818D-1C34215F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792-8AA4-48B0-9D4C-E8CC527C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620-C448-4906-9D38-5A18EB44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F907-B511-4AAD-96A9-AC5D5334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C6B4-506C-469C-9F81-BEAB3C09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F5A3-8D94-4351-A2D7-66D02757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730F-5868-4574-874C-4ED83A43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44C1-8B5B-4F96-949B-B8F15103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BF3A-ABA9-4E7C-9BD2-EFFD40B6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D39B-DD29-4F80-AA07-9D29BED3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DBE-BDF2-4508-90AB-0DA69863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B539-EC83-48ED-9127-64AC754E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ACCF-DC92-440B-A825-B15447B8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7B90-7E35-4744-BE36-2CA11C60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D4B1-92BF-4AFC-BA69-14BF8C17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A5D6-DEDC-4A75-99F1-3E468ECB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620-7076-42B2-A16D-E3C41D83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979-3173-4312-ABFE-558E3686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5B5-2A13-4B3F-9733-A164B394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8C8-321B-432A-8078-DEA43514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016-8CFD-40F0-AFB6-BE3D7C0D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4AA-974D-4C4D-BC98-E8E68272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A1E-27A3-484B-854A-5F92B328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BF1A-25AD-4A17-BB1D-21FBE5A124FF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FDA4-6CFB-4151-AD5D-128A0ACFFF76}" type="slidenum">
              <a:rPr b="0" lang="cs-CZ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br>
              <a:rPr sz="5700"/>
            </a:br>
            <a:r>
              <a:rPr b="0" lang="cs-CZ" sz="5700" spc="-1" strike="noStrike">
                <a:solidFill>
                  <a:srgbClr val="ccecff"/>
                </a:solidFill>
                <a:latin typeface="Arial"/>
              </a:rPr>
              <a:t>Václav Havel</a:t>
            </a:r>
            <a:endParaRPr b="0" lang="en-US" sz="5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Vytvořeno dne 28. 3. 2012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40464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8920" y="333360"/>
            <a:ext cx="3816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áclav Havel v roc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2010 při vzpomínkové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akci u pamětní desk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k událostem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17. listopadu 1989 n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árodní třídě v Praz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VH"/>
          <p:cNvPicPr/>
          <p:nvPr/>
        </p:nvPicPr>
        <p:blipFill>
          <a:blip r:embed="rId1"/>
          <a:stretch/>
        </p:blipFill>
        <p:spPr>
          <a:xfrm>
            <a:off x="4067280" y="333360"/>
            <a:ext cx="507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Pietní akce k úmrtí Václava Havl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Pietní akce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4. díl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1. vydání. Praha : Parta, 2010. ISBN 9788073201241. s. 59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. vydání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lomouc : Rubico, 2007. ISBN 8073460653. s. 242 - 244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šechny uveřejněné odkazy [cit. 2012-03-28] dostupné pod licencí Creative Commons – </a:t>
            </a:r>
            <a:r>
              <a:rPr b="0" lang="cs-CZ" sz="1800" spc="-1" strike="noStrike" u="sng">
                <a:solidFill>
                  <a:srgbClr val="65b2ff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áclav Hav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V%C3%A1clav_Havel_cut_out.jp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áclav Havel při vzpomínkové akc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N%C3%A1rodn%C3%AD_t%C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99%C3%ADda_(2010).jp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Pietní ak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Pietn%C3%AD_shrom%C3%A1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C5%BEd%C4%9Bn%C3%AD_na_V%C3%A1clavsk%C3%A9m_n%C3%A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m%C4%9Bst%C3%AD_p%C5%99i_p%C5%99%C3%ADle%C5%BEitosti_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%C3%BAmrt%C3%AD_V%C3%A1clava_Havla_v_roce_2011_(15).JP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aeaea"/>
                </a:solidFill>
                <a:latin typeface="Tahoma"/>
              </a:rPr>
              <a:t>č. 7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9280" y="2637000"/>
          <a:ext cx="8785440" cy="403848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áclav Have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znají osobnost Václava Havla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 Unicode MS"/>
                        </a:rPr>
                        <a:t>chápat význam událostí v roc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 Unicode MS"/>
                        </a:rPr>
                        <a:t>1989 a vítězství demokracie v naší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 Unicode MS"/>
                        </a:rPr>
                        <a:t>vlast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Základní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907920"/>
            <a:ext cx="4859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Narodil se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5. října 1936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Praze, </a:t>
            </a:r>
            <a:r>
              <a:rPr b="0" lang="cs-CZ" sz="2400" spc="-1" strike="noStrike">
                <a:solidFill>
                  <a:srgbClr val="66ff33"/>
                </a:solidFill>
                <a:latin typeface="Arial"/>
              </a:rPr>
              <a:t>zemřel 18. prosi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Arial"/>
              </a:rPr>
              <a:t>2011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na Hrádečku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9. července 1964 se p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osmileté známosti oženi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 Olgou Šplíchalovou.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Byl to </a:t>
            </a:r>
            <a:r>
              <a:rPr b="1" lang="cs-CZ" sz="2400" spc="-1" strike="noStrike">
                <a:solidFill>
                  <a:srgbClr val="eaeaea"/>
                </a:solidFill>
                <a:latin typeface="Arial"/>
              </a:rPr>
              <a:t>český </a:t>
            </a:r>
            <a:r>
              <a:rPr b="1" lang="cs-CZ" sz="2400" spc="-1" strike="noStrike">
                <a:solidFill>
                  <a:srgbClr val="ff00ff"/>
                </a:solidFill>
                <a:latin typeface="Arial"/>
              </a:rPr>
              <a:t>dramatik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, kritik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komunistického režimu a pozděj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litik. Byl devátým a poslední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prezidentem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Československ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(1989–1992) a první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rezidentem České republik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(1993–2003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5080" y="1598400"/>
            <a:ext cx="403704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Picture 7" descr="Václav Havel"/>
          <p:cNvPicPr/>
          <p:nvPr/>
        </p:nvPicPr>
        <p:blipFill>
          <a:blip r:embed="rId1"/>
          <a:stretch/>
        </p:blipFill>
        <p:spPr>
          <a:xfrm>
            <a:off x="4500720" y="1052640"/>
            <a:ext cx="464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-316080"/>
            <a:ext cx="822636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ff33"/>
                </a:solidFill>
                <a:latin typeface="Arial"/>
              </a:rPr>
              <a:t>Mládí V. Hav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90360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áclav Havel se narodil v Praze ve známé pražské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dnikatelské rodině Václava M. Havla a jeho manželk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Božen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Jeho bratrem je vědec Ivan M. Have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Byl vnukem československého diplomata Hug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avrečk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 osvobození Československa v roce 1945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avštěvoval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elitní internátní školu v Poděbradech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(spol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s Milošem Formanem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 ukončení základní školní docházky měl Václav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Havel v komunistickém režimu kvůli svém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Arial"/>
              </a:rPr>
              <a:t>"buržoaznímu"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původu potíže studovat na střední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škole podle vlastní volb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Studi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 roce 1951 nastoupil do učebního oboru jak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emický laborant 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a na střední škole studoval večerně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Maturitu na gymnáziu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ve Štěpánské ulici v Praze složi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roku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1954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Z kádrových důvodů nebyl přijat ani na žádno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Š humanitního zaměření, a proto v letech 1955 – 1957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studoval na </a:t>
            </a:r>
            <a:r>
              <a:rPr b="0" lang="cs-CZ" sz="2800" spc="-1" strike="noStrike">
                <a:solidFill>
                  <a:srgbClr val="66ff33"/>
                </a:solidFill>
                <a:latin typeface="Arial"/>
              </a:rPr>
              <a:t>ekonomické fakultě ČVUT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kusil se přestoupit na filmovou fakultu Akademi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múzických umění, byl však odmítnut a nebyl přijat zpě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a ČV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akonec dálkově vystudoval divadelní fakultu </a:t>
            </a:r>
            <a:r>
              <a:rPr b="0" lang="cs-CZ" sz="2800" spc="-1" strike="noStrike">
                <a:solidFill>
                  <a:srgbClr val="ff00ff"/>
                </a:solidFill>
                <a:latin typeface="Arial"/>
              </a:rPr>
              <a:t>Akademi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ff"/>
                </a:solidFill>
                <a:latin typeface="Arial"/>
              </a:rPr>
              <a:t>múzických umění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, kterou absolvoval roku 1966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Divadelní činno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skončení základní vojenské služby (1957–1959) Václav Have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racoval jako </a:t>
            </a: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jevištní technik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nejprve v Divadle ABC a od r. 1960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Divadle Na zábradlí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roce 1959 napsal svou první divadelní hru </a:t>
            </a: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Rodinný večer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3. prosince 1963 Divadlo Na zábradlí uvedlo jeho druhou hru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Zahradní slavnost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60. letech zároveň pracoval jako asistent režie Alfréda Radok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Městských divadlech pražských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vystudování </a:t>
            </a:r>
            <a:r>
              <a:rPr b="0" lang="cs-CZ" sz="2400" spc="-1" strike="noStrike">
                <a:solidFill>
                  <a:srgbClr val="ff00ff"/>
                </a:solidFill>
                <a:latin typeface="Arial"/>
              </a:rPr>
              <a:t>Akademie múzických umění 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oku 1966 by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dramaturgem divadla Na zábradlí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oku 1965 se stal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členem redakční rady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literárního měsíčníku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Tvář a v Divadle Na zábradlí uvedl hru </a:t>
            </a: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Vyrozumění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oku 1966 vydal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svou první knihu 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Protokoly</a:t>
            </a:r>
            <a:r>
              <a:rPr b="0" i="1" lang="cs-C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Disid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036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době kolem Pražského jara (1968 – 1969) se Václav Have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zapojil do politické diskuse, prosazoval zavedení demokratic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polečnosti a svobody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násilném potlačení demokratických snah a protestů prot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ežimu vojenskou invazí států Varšavské smlouvy měl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zákaz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ublikovat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a stal se jedním z </a:t>
            </a: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disidentů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, kritiků tehdejšíh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normalizačního režimu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ystupoval na obranu politických vězňů a stal s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poluzakladatelem a jedním z prvních mluvčích občans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iniciativy za dodržování lidských práv -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harta 77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To sice upevnilo jeho mezinárodní prestiž, ale také mu vynesl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celkem asi pět let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věznění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Zákaz divadelní čin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 potlačení Pražského jara musel Václav Have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opustit divadlo a jeho díla se v Československ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řestala vydávat a hrát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Byl však již autorem uznávaným i v zahraničí – ji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roku 1968 obdržel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Velkou rakouskou státní cenu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z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evropskou literaturu a dvakrát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 New Yorku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získa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cenu Obie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za hry </a:t>
            </a:r>
            <a:r>
              <a:rPr b="0" i="1" lang="cs-CZ" sz="2800" spc="-1" strike="noStrike">
                <a:solidFill>
                  <a:srgbClr val="eaeaea"/>
                </a:solidFill>
                <a:latin typeface="Arial"/>
              </a:rPr>
              <a:t>Vyrozumění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(1969) a </a:t>
            </a:r>
            <a:r>
              <a:rPr b="0" i="1" lang="cs-CZ" sz="2800" spc="-1" strike="noStrike">
                <a:solidFill>
                  <a:srgbClr val="eaeaea"/>
                </a:solidFill>
                <a:latin typeface="Arial"/>
              </a:rPr>
              <a:t>Ztížená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eaeaea"/>
                </a:solidFill>
                <a:latin typeface="Arial"/>
              </a:rPr>
              <a:t>možnost soustředění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(1970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To pro něho v následujících dvaceti letech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ormalizace znamenalo jistou finanční nezávislost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dporu světového veřejného mínění, kdykoli by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komunistickým režimem za své názory vězně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áclav Havel jako politi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vypuknutí Sametové revoluce v listopadu 1989 se Václav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Havel stal jedním ze spoluzakladatelů protikomunistickéh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hnutí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Občanské fórum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a jako jeho kandidát by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29. prosince 1989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zvolen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prezidentem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 Československa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roce 1992 se mu nepodařilo zabránit rozpadu státu na dv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amostatné státy, Českou republiku a Slovenskou republiku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Od roku 1993 byl po dvě funkční období prezidentem Čes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epubliky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Jako prezident vyvedl Československo z Varšavské smlouv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(1. července 1991) a výrazně přispěl ke vstupu nástupnic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České republiky do Severoatlantické aliance (NATO) v r. 1999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Havel výrazně prosazoval také přijetí České republiky d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Evropské unie, uskutečněné v roce 2004 po jeho odchodu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z funkce preziden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8:03:47Z</dcterms:created>
  <dc:creator>Sbor</dc:creator>
  <dc:description/>
  <dc:language>en-US</dc:language>
  <cp:lastModifiedBy>martina</cp:lastModifiedBy>
  <dcterms:modified xsi:type="dcterms:W3CDTF">2013-06-09T07:20:18Z</dcterms:modified>
  <cp:revision>15</cp:revision>
  <dc:subject/>
  <dc:title>Václav Havel</dc:title>
</cp:coreProperties>
</file>