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FE1-1565-4F10-B89D-90FF99F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DA4-70F5-4F73-9A5D-0772CA8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336-3AA6-490F-9CDA-2F4051AD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637-A4C0-4B3F-8AA4-F3187056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1DA-38D7-430D-A17F-4D2061A8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0403-74F3-4A16-A8F1-F64AB48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EF8-746A-47EC-82B1-F3272C4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4030-A179-4B6B-A853-33E2BFE1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B56-693E-4A3E-A67D-D08B399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BCE-C9D6-42AE-98E1-5893EA4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A012-955B-4AED-BE22-ED3FBA4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54E-E38E-43AE-9D89-9E5A1C23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5D58-C9DA-4AB4-885A-59D4A57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A1C-25B5-42C2-811A-C63833F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1F86-E4A4-4A36-A2F0-05B2ED6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F0C-601E-4736-B04F-C9482741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AE04-151C-4865-818F-3694780E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89F-9934-4377-9F31-236F997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05D-8843-499C-953E-7C66ACA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652-4028-4506-9708-8527C60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082-7749-49A8-893C-212E7B39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61-02ED-4125-8707-723C6FC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F32-5CA1-40AC-AED7-F6B06E8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A81-3EBF-4940-9352-A888BD8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A701-A813-4A59-94C0-AF65F75D91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6BA2-525E-404A-AEDA-9C6EA927707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Dubcek.jpg" TargetMode="External"/><Relationship Id="rId3" Type="http://schemas.openxmlformats.org/officeDocument/2006/relationships/hyperlink" Target="http://commons.wikimedia.org/wiki/File:Teodor_Banik_busta_Alexandra_Dubceka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2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Pokračování srpna 196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i propustili jen některé včetně Dubčeka, které z vězení „v lesích“ dopravili do Moskvy 24. srpna. Poté propustili i další delegáty, ale tajemník ÚV KSSS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ris Ponomarjo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im prý řekl, že se budou moci vrátit domů jen po podpisu Sověty připraveného protokolu, ať už to bude trvat i měsí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27. srp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propuštění v čele s Dubčekem směli vrátit do Prahy, až když po vyčerpávajícím nátlaku a vyhrožování (Dubček několikrát omdlel) podepsali všech patnáct sověty diktovaných podmínek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Moskevského protokol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znamenalo přijetí „bratrské pomoci SSSR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Ztráta politické mo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 srpnu 1968, Dubček ustupoval sovětskému tlaku a postupně odvolával z funkcí reformní komunis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ne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17. dubna 1969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ze zvolil ÚV KSČ nové předsednictvo. Alexandra Dubčeka ve funkci prvního tajemníka vystřídal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Gustáv Husá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dubna do října 1969 působil Dubček jako předseda Federálního shromáždění a v této funkci podepsal takzvaný 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</a:rPr>
              <a:t>pendrekový zákon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který umožnil brutální zásah proti demonstrantům po 21. srpnu 1969. Tím jeho popularita v Českých zemích silně kles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k krátce působil jako velvyslanec v Turecku a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 roce 1970 byl vyloučen z KSS i KS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letech 1970 – 1985 pracoval Dubček pro podnik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adoslovenské státní les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bratislavsk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rasňan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ako mechanizá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Rok 198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květnu 1989 poskytl maďarské televizi rozhovor, v němž mluvil hlavně o roku 19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yž během Sametové revoluce 22. listopadu 1989 poprvé veřejně vystoupil v Bratislavě a o dva dny později na balkóně na Václavském náměstí v Praze vedle Václava Havla, byl nadšeně uvítán jako signál vítězství i česko-slovenské vzájemnos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vážným kandidátem na funkci prezidenta republiky, ale nakonec došlo k dohodě a 28. prosince 1989 byl zvolen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ředsedou Federálního shromáždě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Tuto funkci vykonával až do roku 199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Tragická sm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 cestě na zasedání FS dne 1. září 1992 kolem 9. hodiny utrpěl Dubček vážnou dopravní nehodu na dálnici D1 u Humpolce, když jeho služební automobil ve vysoké rychlosti za hustého deště dostal smyk a vyletěl z dálnice. Dubček, který seděl nepřipoután na zadním sedadle, vypadl z voz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nehodě byl v bezvědomí hospitalizován v praž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mocnici Na Homol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e na následky zraně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7. listopadu 1992 zemřel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pochován v Bratislav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služební řidič, který jej vezl na zasedání Federálního shromáždění z Bratislavy do Prahy, byl později odsouzen na 1 rok nepodmíněn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572000" y="189000"/>
          <a:ext cx="424800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9000"/>
                    <a:ext cx="4248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0" y="1699920"/>
            <a:ext cx="406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xandra Dubče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53 - 5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35 - 23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2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Dubcek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sta Alexandra Dubče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commons.wikimedia.org/wiki/File:Teodor_Banik_busta_Alexandra_Dubcek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5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341360"/>
          <a:ext cx="8785440" cy="48150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xandr Dubč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po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ají osobnosti v souvislosti s rokem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1341000"/>
            <a:ext cx="54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7. listopa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21 v Uhrovci na Sloven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zemřel tragi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listopadu 1992 v Pra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to československý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enský polit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osobnost Pražského jara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5219640" y="1413000"/>
          <a:ext cx="3745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413000"/>
                    <a:ext cx="3745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b7"/>
                </a:solidFill>
                <a:latin typeface="Arial"/>
              </a:rPr>
              <a:t>Životop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 roku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1921 v Uhrovc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Slovens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otec Štefan Dubček byl vyučený tesař, který několik let pracoval v USA, kde se stal přesvědčeným pacifistou a komunist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25 odjel malý Alexander se svými rodiči do města Frunze (dnešní Biškek) v sovět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yrgyzi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ději se Dubčekovi přestěhovali do měst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orki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 roce 1938 se vrátili 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lovensk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otože podle nových směrnic by museli přijmout ruské občanství jako jedin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exander Dubček se vyučil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strojním zámečník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acoval v Dubnici nad Váhom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 ro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1939 vstoupil do tehdy ilegální Komunistické strany Slovens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li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44 se zúčastnil Slovensk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rodního povstání, v němž byl zraněn a je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ratr Július pad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působil v různých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politických funkc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renčíně a Banské Bystric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že z dětství velmi dobře ovládal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rusk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jazyk, byl vyslán d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Mosk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v let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55-1958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oval politické vě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oučas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Michailem Gorbačov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čátek politické kari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stranickým tajemníkem v Bratislavě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členem Ústředního výboru KS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V této funkci se poprvé střetl s tehdejším prezidentem Antonínem Novotným kvůli připravované změně Ústavy, s níž Dubček nesouhlasil. Roku 1959 se stal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tajemníkem ÚV KSČ pro průmys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3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prvním tajemníkem ÚV K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7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dostali někteří členové ÚV KSČ do ostré kontroverze s tehdejším prezidentem a 1. tajemníkem ÚV KSČ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ntonínem Novotný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si v prosinci pozval na pomoc sovětského vůdce Leonida Brežněva; ten pozvání sice okamžitě přijal, Novotného ale nepodpoř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, kteří se s Dubčekem setkali, hovořili o něm jako o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nekonfliktním, přátelském a vlídné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lově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rvním tajemníkem stra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3. a 5. lednem 1968 se ÚV KSČ rozhodlo oddělit funkce prvního tajemníka ÚV KSČ a prezidenta republiky a zbavilo Antonína Novotného funkce prvního tajemníka ÚV KSČ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eho nástupci se však předsednictvo nemohlo dohodnout a navrhlo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ubček vnesl do československé politiky zcela odlišnou politickou kulturu. Tím umožnil významný společenský a politický proces, který dostal název </a:t>
            </a: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Pražské jaro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a z reforem Dubčekova vedení přinesla úplnou </a:t>
            </a:r>
            <a:r>
              <a:rPr b="1" i="1" lang="cs-CZ" sz="2800" spc="-1" strike="noStrike">
                <a:solidFill>
                  <a:srgbClr val="006699"/>
                </a:solidFill>
                <a:latin typeface="Arial"/>
              </a:rPr>
              <a:t>svobodu tis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takto uvolněné atmosféře se však začnou požadavky lidu více stupňovat. Dubček tak musí čelit kritice uvnitř KSČ a hlavně ze strany sovětského vede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Sovětský vli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kontroloval „uvolňování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onid Brežněv (vedoucí představitel SSS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3300"/>
                </a:solidFill>
                <a:latin typeface="Arial"/>
              </a:rPr>
              <a:t>Srpen 1968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 zdánlivé uklidnění v republice vtrhla v n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20. na 21. srpna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ojska pěti států Varšavs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mlou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ez vypovězení války do ČSSR, obsad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zemí a zmocnila se postupně kontroly nad celý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ští vojáci zatkli a odvlekli Alexandra Dubčeka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vedoucí představitele KSČ do Moskvy. Prez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SSR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polu s delegací odletěl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skvy, kde žádal, aby se jednání zúčastnil Dubček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uvěznění komunističtí před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7:07Z</dcterms:created>
  <dc:creator>Hana Zimová</dc:creator>
  <dc:description/>
  <dc:language>en-US</dc:language>
  <cp:lastModifiedBy>martina</cp:lastModifiedBy>
  <dcterms:modified xsi:type="dcterms:W3CDTF">2013-06-09T07:18:38Z</dcterms:modified>
  <cp:revision>16</cp:revision>
  <dc:subject/>
  <dc:title>  Alexandr Dubček</dc:title>
</cp:coreProperties>
</file>