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DC0-803A-4470-B685-D61BF0E0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288-5159-4008-92E5-EE6E525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421-1C9E-4969-9120-C2735B9E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107-7D1D-4C56-A538-379AC46D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FACF-E4DA-408A-99CE-28347EA9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4330-A6C8-4FE3-83F6-8331401E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971-B104-4535-AB58-136EBAB5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8988-7664-4968-9D85-96D220B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6540-0179-4EB9-94C3-F84A8788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1CF3-D242-4086-8F65-BDA0F517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82E-9046-4456-AC7F-0A996297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DB7-0130-4FAE-B230-B156CFE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6AC-EA96-4973-97E3-4E7B001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8048-4710-4C53-BED8-ED96B56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75A-9577-40A8-9858-9D813D4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EBA3-0796-4ED3-BFBA-43CAA462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B14C-140C-4D3A-96E4-323B84E1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BCC-AD12-4A2F-A76A-49B564D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EA7-B05C-4C66-A23C-D49E30E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C1F-1282-4440-8A04-A02424A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ACB-0724-40F0-9CF4-E60C8F3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32E-839E-4101-A480-5F541DE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5BA-D890-4F6C-A8D7-A80C2C0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DCB-83F6-4979-8687-48FEAC7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8DF-A7FB-4004-84A9-166DC0A9829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96F0-ED9F-4F66-94F2-2E041E11ACB3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9/Kepler-solar-system-1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Kanuni.jpg" TargetMode="External"/><Relationship Id="rId3" Type="http://schemas.openxmlformats.org/officeDocument/2006/relationships/hyperlink" Target="http://commons.wikimedia.org/wiki/File:Moh&#225;cs_Historical_Monumen_(5).jpg" TargetMode="External"/><Relationship Id="rId4" Type="http://schemas.openxmlformats.org/officeDocument/2006/relationships/hyperlink" Target="http://commons.wikimedia.org/wiki/File:Louis2.jpg" TargetMode="External"/><Relationship Id="rId5" Type="http://schemas.openxmlformats.org/officeDocument/2006/relationships/hyperlink" Target="http://commons.wikimedia.org/wiki/File:Hans_Bocksberger_der_Aeltere_001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0/Hans_Bocksberger_der_Aeltere_00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upload.wikimedia.org/wikipedia/commons/4/49/The_Emperor_Ferdinand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cc"/>
                </a:solidFill>
                <a:latin typeface="Arial"/>
              </a:rPr>
              <a:t>Císařský dvůr </a:t>
            </a:r>
            <a:br>
              <a:rPr sz="5800"/>
            </a:br>
            <a:r>
              <a:rPr b="0" lang="cs-CZ" sz="5800" spc="-1" strike="noStrike">
                <a:solidFill>
                  <a:srgbClr val="ffffcc"/>
                </a:solidFill>
                <a:latin typeface="Arial"/>
              </a:rPr>
              <a:t>Rudolfa II.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1. 4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Tahoma"/>
              </a:rPr>
              <a:t>Vláda Rudolfa I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l v letech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1576 – 1611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nování Rudolfa II. je dobou </a:t>
            </a:r>
            <a:r>
              <a:rPr b="1" lang="cs-CZ" sz="3200" spc="-1" strike="noStrike">
                <a:solidFill>
                  <a:srgbClr val="ff00ff"/>
                </a:solidFill>
                <a:latin typeface="Tahoma"/>
              </a:rPr>
              <a:t>alchymis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idé, kteří se snažili vyrobit zlato a elixí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život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tekutinu, která omlazuje). Sice zlato a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xír nevyrobili, ale zato učinili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no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důležitých objev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yla to také doba </a:t>
            </a:r>
            <a:r>
              <a:rPr b="1" lang="cs-CZ" sz="3200" spc="-1" strike="noStrike">
                <a:solidFill>
                  <a:srgbClr val="00ccff"/>
                </a:solidFill>
                <a:latin typeface="Tahoma"/>
              </a:rPr>
              <a:t>hvězdopravců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astrologové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teří z hvězdného nebe hádali osud lidí. Věřili, ž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mohou svůj osud vyčíst z postav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beských těles jako jsou Slunce a Měsí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udolf II. v Pra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jediný Habsburk přesídlil Rudolf II. se sv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vorem z Vídně do Prahy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na Pražský hrad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l obklopen alchymisty a také mnohým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vodníky, ale i různými učenci. Mezi nimi byli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nikající </a:t>
            </a:r>
            <a:r>
              <a:rPr b="1" i="1" lang="cs-CZ" sz="2800" spc="-1" strike="noStrike">
                <a:solidFill>
                  <a:srgbClr val="ffffff"/>
                </a:solidFill>
                <a:latin typeface="Tahoma"/>
              </a:rPr>
              <a:t>hvězdář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cs-CZ" sz="2800" spc="-1" strike="noStrike">
                <a:solidFill>
                  <a:srgbClr val="00ff00"/>
                </a:solidFill>
                <a:latin typeface="Tahoma"/>
              </a:rPr>
              <a:t>Jan Kepler a Tycho de Brah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 vlády Rudolfa II. se z Prahy stalo důležité kultur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ntrum Evropy, především díky vzácným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bírká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Tahoma"/>
              </a:rPr>
              <a:t>obrazů, zbraní, knih, skla a drahokam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Rudolfa II. byla podle pověstí i městem tajemný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jevení, jako např. </a:t>
            </a:r>
            <a:r>
              <a:rPr b="1" i="1" lang="cs-CZ" sz="2800" spc="-1" strike="noStrike">
                <a:solidFill>
                  <a:srgbClr val="ffffff"/>
                </a:solidFill>
                <a:latin typeface="Tahoma"/>
              </a:rPr>
              <a:t>Golem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Model sluneční soustavy J. Keplera (1596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5" descr="File:Kepler-solar-system-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341360"/>
            <a:ext cx="5191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ycho de Brah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196640"/>
            <a:ext cx="60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4. prosince 1546,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nudstru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ánsko – 24. října 1601, Pra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ůvodním jménem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Tyge Ottes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Brah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nesprávně uváděný jak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Tycho de Bra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yl to význačný dánský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stronom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strolog a alchymist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považován za nejlepšího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přesnějšího pozorovatele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hvězdn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obloh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jenž byl překonán až šedesát l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 vynalezení dalekohle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File:Tycho Brahe.JPG"/>
          <p:cNvPicPr/>
          <p:nvPr/>
        </p:nvPicPr>
        <p:blipFill>
          <a:blip r:embed="rId1"/>
          <a:stretch/>
        </p:blipFill>
        <p:spPr>
          <a:xfrm>
            <a:off x="5724360" y="1197000"/>
            <a:ext cx="331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476280"/>
            <a:ext cx="536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Golem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hebrejsky: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הגולם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v židovské mystice člověke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živená soch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ovo </a:t>
            </a:r>
            <a:r>
              <a:rPr b="1" i="1" lang="cs-CZ" sz="2400" spc="-1" strike="noStrike">
                <a:solidFill>
                  <a:srgbClr val="ffffff"/>
                </a:solidFill>
                <a:latin typeface="Tahoma"/>
              </a:rPr>
              <a:t>golem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amená v hebrejštině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úplnost, nedokonalost a takto by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aké tato oživená bytost pojímá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měla vlastní myšlenky ani vlast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ůli, obvykle nemohla hovořit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ze plnila příkazy svého pá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jetí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šém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který golemy oživoval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chází z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aba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což je dru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ystiky, tzn. že mystik (kabalista)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cela oddává službě Boh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5" descr="File:Clay-golem.jpg"/>
          <p:cNvPicPr/>
          <p:nvPr/>
        </p:nvPicPr>
        <p:blipFill>
          <a:blip r:embed="rId1"/>
          <a:stretch/>
        </p:blipFill>
        <p:spPr>
          <a:xfrm>
            <a:off x="5148360" y="836640"/>
            <a:ext cx="3995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2 - 15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6 - 107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1] dostupné pod licencí Creative Commons – </a:t>
            </a:r>
            <a:r>
              <a:rPr b="0" lang="cs-CZ" sz="1600" spc="-1" strike="noStrike" u="sng">
                <a:solidFill>
                  <a:srgbClr val="a3c145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ultán Sulejm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commons.wikimedia.org/wiki/File:Kanuni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Bitva u Moháč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commons.wikimedia.org/wiki/File:Moh%C3%A1cs_Historical_Monumen_(5)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udvík Jagellonsk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commons.wikimedia.org/wiki/File:Louis2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erdinand I. Habsbursk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commons.wikimedia.org/wiki/File:Hans_Bocksberger_der_Aeltere_00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erdinand v r. 1531 při jeho zvolení římskoněmeckým krá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he_Emperor_Ferdinand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udolf I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Hans_von_Aachen_003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OLAR1600_AV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odel sluneční soustavy J. Kepl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Kepler-solar-system-1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ycho de Bra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ycho_Brahe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Go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Clay-golem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6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3168720"/>
                <a:gridCol w="56167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ísařský dvůr Rudolfa 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se seznámí se životem lidí v době vlády Rudolfa 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98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ff00"/>
                </a:solidFill>
                <a:latin typeface="Tahoma"/>
              </a:rPr>
              <a:t>Bitva proti Turkům u Moháč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eck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sultán Sulejman I.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yzbrojil velkou armádu, se kterou míří do Evropy pokořit celý křesťanský svět. Kradou a zapalují domy, pobíjejí muže, ženy s dětmi odvlékají do zaj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v Království českém mají velké obavy o své životy a majetky, proto </a:t>
            </a:r>
            <a:r>
              <a:rPr b="0" lang="cs-CZ" sz="3200" spc="-1" strike="noStrike">
                <a:solidFill>
                  <a:srgbClr val="ff00ff"/>
                </a:solidFill>
                <a:latin typeface="Tahoma"/>
              </a:rPr>
              <a:t>český král </a:t>
            </a:r>
            <a:r>
              <a:rPr b="1" lang="cs-CZ" sz="3200" spc="-1" strike="noStrike">
                <a:solidFill>
                  <a:srgbClr val="ff00ff"/>
                </a:solidFill>
                <a:latin typeface="Tahoma"/>
              </a:rPr>
              <a:t>Ludvík Jagellonský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. 152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se svým vojskem postavil proti Turkům poblíž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ěsta Moháče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Maďarsk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itva to byla ukrutná, Turci použili desítky děl, která rozhodla o </a:t>
            </a:r>
            <a:r>
              <a:rPr b="1" lang="cs-CZ" sz="3200" spc="-1" strike="noStrike">
                <a:solidFill>
                  <a:srgbClr val="00ccff"/>
                </a:solidFill>
                <a:latin typeface="Tahoma"/>
              </a:rPr>
              <a:t>porážce vojsk krále Ludví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rál utekl z boje, ale utopil se v močá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Sultán Sulejman I.       Ludvík Jagellonský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504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Louis2"/>
          <p:cNvPicPr/>
          <p:nvPr/>
        </p:nvPicPr>
        <p:blipFill>
          <a:blip r:embed="rId2"/>
          <a:stretch/>
        </p:blipFill>
        <p:spPr>
          <a:xfrm>
            <a:off x="5219640" y="1484280"/>
            <a:ext cx="302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Bitva u Moháče v Maďarsk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Vznik habsburské říš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 smrti krále Ludvíka Jagellonského česká šlech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ela zvolit nového panovníka, kterým se s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akouský vévo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Ferdinand I. Habsburský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šlo ke spojení českých zemí a Uher s Rakousk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la nová říše – </a:t>
            </a:r>
            <a:r>
              <a:rPr b="1" lang="cs-CZ" sz="2800" spc="-1" strike="noStrike">
                <a:solidFill>
                  <a:srgbClr val="ff00ff"/>
                </a:solidFill>
                <a:latin typeface="Tahoma"/>
              </a:rPr>
              <a:t>habsburská říš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erdinand I. sídlil ve Vídni, v Čechách nech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očátku vládnout českou šlechtu, ale po čase zač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ovat její vliv a pravomoci, zřídil vlastní úřady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řídil velké daně a moc ve městech vložil moc do ru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diného královského úředníka –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rychtář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Ferdinand I. Habsbursk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40000" y="1052640"/>
            <a:ext cx="482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erdinand v r. 1531 při je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volení římskoněmeck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rá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7" descr="File:Hans Bocksberger der Aelter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981000"/>
            <a:ext cx="2886120" cy="569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File:The Emperor Ferdin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2349360"/>
            <a:ext cx="2520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Tahoma"/>
              </a:rPr>
              <a:t>Doba Rudolfa I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volením Ferdinanda I. usedl na český trů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akousk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rod Habsburk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Vládli v český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ích téměř 400 let –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až do r. 1918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ním z vládců by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císař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Rudolf II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 kterém bylo napsáno mnoho knih – u nás by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točeny filmy o tomto panovníkovi – Císařů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ekař a Císařův pekař -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hlavní roli s Janem Weric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udolf II.               Tol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0" descr="File:Hans von Aachen 003.jpg"/>
          <p:cNvPicPr/>
          <p:nvPr/>
        </p:nvPicPr>
        <p:blipFill>
          <a:blip r:embed="rId1"/>
          <a:stretch/>
        </p:blipFill>
        <p:spPr>
          <a:xfrm>
            <a:off x="324000" y="1557360"/>
            <a:ext cx="3744720" cy="4967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0" y="184428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6" descr="File:TOLAR1600 AV.jpg"/>
          <p:cNvPicPr/>
          <p:nvPr/>
        </p:nvPicPr>
        <p:blipFill>
          <a:blip r:embed="rId2"/>
          <a:stretch/>
        </p:blipFill>
        <p:spPr>
          <a:xfrm>
            <a:off x="4427640" y="227664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5:51Z</dcterms:created>
  <dc:creator>Hana Zimová</dc:creator>
  <dc:description/>
  <dc:language>en-US</dc:language>
  <cp:lastModifiedBy>martina</cp:lastModifiedBy>
  <dcterms:modified xsi:type="dcterms:W3CDTF">2013-06-09T07:28:21Z</dcterms:modified>
  <cp:revision>29</cp:revision>
  <dc:subject/>
  <dc:title>  Počátek novověku</dc:title>
</cp:coreProperties>
</file>