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FEEB-7D25-4D69-9B00-0D32D305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3AE32-A1CD-4FCB-A18E-083B2A4B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40FC6-ABAD-4C18-B015-4F467A1C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C552A-EE73-4906-B844-CC7441D3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50A6-2FFF-4FA5-B4AC-A7EE83F3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D1F8-9D6E-4BD0-A437-79524EAA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FF69-3020-4D88-8C7D-1E77D3C6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C34A-9817-40D6-9C90-C282FFC6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D76B-7E86-45BC-8709-EE6CD16F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ED7F-98F2-4AA0-BDBB-5F859CAA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BB61-9575-42FA-990B-8022BAE9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056F-518C-4950-A142-40F3556F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15A8-0010-4780-BB41-18227086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BE6B-A680-45A3-9FB0-D5170780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A109-52CD-42B7-BA4E-7BFB3E2D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14C7-B929-4925-8181-2C06EC82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B023-E84E-4B04-8A25-38FFC87F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F8F9-F6B3-4FE9-8FEC-B7315BA2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65150-FBF6-4F30-AD5C-78A35965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7D42A-B170-4293-890A-1E908E97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CD9C-0AD0-43CE-9604-00749827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8D86-C610-47B9-BECC-931E4C2E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2AF3B-526D-4E85-B3BA-031A8FFF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C401-CBBE-441A-B497-F9BD364C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39F5-EDFC-4359-A0AA-E1ACCB04934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39D2-D3C3-4485-B664-B59CFD02AF2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dfdef6"/>
                </a:solidFill>
                <a:latin typeface="Arial"/>
              </a:rPr>
              <a:t>Humanismus, </a:t>
            </a:r>
            <a:br>
              <a:rPr sz="5800"/>
            </a:br>
            <a:r>
              <a:rPr b="0" lang="cs-CZ" sz="5800" spc="-1" strike="noStrike">
                <a:solidFill>
                  <a:srgbClr val="dfdef6"/>
                </a:solidFill>
                <a:latin typeface="Arial"/>
              </a:rPr>
              <a:t>vynález knihtisku</a:t>
            </a:r>
            <a:endParaRPr b="0" lang="en-US" sz="5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10. 4. 201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619280" y="47628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7" name="Object 3"/>
          <p:cNvGraphicFramePr/>
          <p:nvPr/>
        </p:nvGraphicFramePr>
        <p:xfrm>
          <a:off x="324000" y="404640"/>
          <a:ext cx="4319280" cy="619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4640"/>
                    <a:ext cx="4319280" cy="619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"/>
          <p:cNvSpPr txBox="1"/>
          <p:nvPr/>
        </p:nvSpPr>
        <p:spPr>
          <a:xfrm>
            <a:off x="5076720" y="549360"/>
            <a:ext cx="3610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Leonardo da Vin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utoportré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Leonardo da Vinci</a:t>
            </a:r>
            <a:r>
              <a:rPr b="0" lang="cs-CZ" sz="4000" spc="-1" strike="noStrike">
                <a:solidFill>
                  <a:srgbClr val="dfdef6"/>
                </a:solidFill>
                <a:latin typeface="Arial"/>
              </a:rPr>
              <a:t> –</a:t>
            </a:r>
            <a:br>
              <a:rPr sz="4000"/>
            </a:br>
            <a:r>
              <a:rPr b="0" lang="cs-CZ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oslední večeř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1" name="Object 3"/>
          <p:cNvGraphicFramePr/>
          <p:nvPr/>
        </p:nvGraphicFramePr>
        <p:xfrm>
          <a:off x="250920" y="1413000"/>
          <a:ext cx="871380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7138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Vynález</a:t>
            </a: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KNIHTISKU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nalezl ho německý tiskař </a:t>
            </a:r>
            <a:r>
              <a:rPr b="1" lang="cs-CZ" sz="3200" spc="-1" strike="noStrike">
                <a:solidFill>
                  <a:srgbClr val="ffcc00"/>
                </a:solidFill>
                <a:latin typeface="Arial"/>
              </a:rPr>
              <a:t>Johann Gutenberg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 té doby se knihy opisovaly ručně, což byl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lmi namáhavé a zdlouhavé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mocí tištěných knih se k lidem dostáva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vé názory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matematiků a astronomů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(lid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koumající vesmír)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že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Země je kulatá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otáčí se kolem Slun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Tis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isková forma pro celý list nebo stránku byla vyryta do zpravidla dřevěné desk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isk ze sazby se skládal z oddělených pís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kud se ale pro jejich výrobu používalo dřevo, odolnost materiálu nebyla velká, kdežto rytí jednotlivých písmen z kovu bylo pracné a nákladné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ohannes Gutenberg byl vyučen ve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latnictv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kde se naučil jak rytí do kovu, tak také 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odlévá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Písmolijectv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jdůležitější z Gutenbergových vynálezů byl 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vynález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písmolijectv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ísmoryte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nejprve vyryl zrcadlově obrácený obraz písmene – </a:t>
            </a: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patric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která byla následně použita jako razidlo. Otiskem do měkčího kovu pak vznikla forma – </a:t>
            </a: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matri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atri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e vložila do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licího strojk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zalila roztavenou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liteřino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= slitinou cínu, olova a antimon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dlité litery byly </a:t>
            </a:r>
            <a:r>
              <a:rPr b="1" lang="cs-CZ" sz="3200" spc="-1" strike="noStrike">
                <a:solidFill>
                  <a:srgbClr val="ffcc00"/>
                </a:solidFill>
                <a:latin typeface="Arial"/>
              </a:rPr>
              <a:t>otočeným obrazem písmen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Tisk celého listu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aždá tisková strana se sestavila do </a:t>
            </a: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dřevěné </a:t>
            </a:r>
            <a:r>
              <a:rPr b="1" lang="cs-CZ" sz="3200" spc="-1" strike="noStrike">
                <a:solidFill>
                  <a:srgbClr val="ffcc00"/>
                </a:solidFill>
                <a:latin typeface="Arial"/>
              </a:rPr>
              <a:t>sazebni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která určovala přesné řádkování i místa pro mezery a ilustra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ránky se sestavily do </a:t>
            </a: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arch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na sazbu se nanesla </a:t>
            </a: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tiskařská </a:t>
            </a: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čerň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mocí upraveného lisu na víno se pak dal vytisknout 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celý arch najedno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místo dřívějšího ručního přitlačování hladítk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ento Gutenbergem vynalezený postup se používal bez výrazných změn až do ko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8. stolet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fdef6"/>
                </a:solidFill>
                <a:latin typeface="Arial"/>
              </a:rPr>
              <a:t>           </a:t>
            </a:r>
            <a:r>
              <a:rPr b="0" lang="cs-CZ" sz="4000" spc="-1" strike="noStrike">
                <a:solidFill>
                  <a:srgbClr val="dfdef6"/>
                </a:solidFill>
                <a:latin typeface="Arial"/>
              </a:rPr>
              <a:t>Tiskárna           </a:t>
            </a:r>
            <a:r>
              <a:rPr b="0" lang="cs-CZ" sz="3200" spc="-1" strike="noStrike">
                <a:solidFill>
                  <a:srgbClr val="dfdef6"/>
                </a:solidFill>
                <a:latin typeface="Arial"/>
              </a:rPr>
              <a:t>Tiskové písmeno f a i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52" name="Object 4"/>
          <p:cNvGraphicFramePr/>
          <p:nvPr/>
        </p:nvGraphicFramePr>
        <p:xfrm>
          <a:off x="250920" y="907920"/>
          <a:ext cx="482580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48258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5"/>
          <p:cNvGraphicFramePr/>
          <p:nvPr/>
        </p:nvGraphicFramePr>
        <p:xfrm>
          <a:off x="5508720" y="1557360"/>
          <a:ext cx="331128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1557360"/>
                    <a:ext cx="331128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fdef6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stupeň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 základní školy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praktické. 3. dí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6 - 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93 - 9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fdef6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4-10] dostupné pod licencí Creative Commons – </a:t>
            </a:r>
            <a:r>
              <a:rPr b="0" lang="cs-CZ" sz="1600" spc="-1" strike="noStrike" u="sng">
                <a:solidFill>
                  <a:srgbClr val="9999ff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Dóm ve Florenc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Florence_italy_duomo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Michelangelo – Dav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Michelangelos_David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Leonardo da Vinci - Autoportré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Leonardo_self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Leonardo da Vinci – Poslední večeř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Leonardo_da_Vinci_(1452-1519)_-_The_Last_Supper_(1495-1498)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Tiskár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Buchdrucker-1568.p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iskové písmeno f a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Garamond_type_fi-ligature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14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79280" y="2637000"/>
          <a:ext cx="8785440" cy="372240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manismus, vynález knihtis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osuzují přínos vynálezů pro rozvoj společnosti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ědět o důsledcích objevných cest a poznávání nových civilizac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907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dfdef6"/>
                </a:solidFill>
                <a:latin typeface="Arial"/>
              </a:rPr>
              <a:t>Humanismus a renesance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0" y="119664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mořské cesty otevřely evropským obchodníkům možnosti dovážet a vyvážet zboží, rozvíjela se řemeslná výroba v manufakturá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měnil se životní styl a způsob myšlení – prvotním zájmem byl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ájem o člověk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který se nezříkal žádné rados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vropou se začala šířit vl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humanismu a renes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Renesanční člově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samostatněji uvažoval a kriticky hodnoti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události, které se ho týka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docházelo ke střetům s církví, která stá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pěla na svých zastaralých názore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celou Evropu zachvátila vlna potře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eformovat círke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informovanost se rychle šířila díky knihtisk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HUMANISMU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ířil se hlavně v Itálii v bohatých městech, jak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yly Benátky, Janov, Florencie – tam vznik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rvní bankovní domy a první manufaktur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nichž se vyrábělo velmi žádané sukn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ávě Italové jako první chtěli reformu církve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jích názo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čali věřit v možnosti </a:t>
            </a:r>
            <a:r>
              <a:rPr b="1" lang="cs-CZ" sz="3200" spc="-1" strike="noStrike">
                <a:solidFill>
                  <a:srgbClr val="ccffcc"/>
                </a:solidFill>
                <a:latin typeface="Arial"/>
              </a:rPr>
              <a:t>ČLOVĚK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již na tom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větě, ne až po smr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rodil se nový světový názor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HUMANIS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RENES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vý názor se rychle šířil a přinesl i nový způsob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života. Humanismus byl těsně spjatý s renesanc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RENESAN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ový umělecký směr, který 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romítl do všech oblastí lidského dě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ísto studených hradů se začaly stavě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Arial"/>
              </a:rPr>
              <a:t>městské paláce a zámky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e zahradami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avby byly prostorné, s velkými okny, světl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Nejznámější renesanční stavba – Dóm ve Florenci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8" name="Object 3"/>
          <p:cNvGraphicFramePr/>
          <p:nvPr/>
        </p:nvGraphicFramePr>
        <p:xfrm>
          <a:off x="468360" y="1728720"/>
          <a:ext cx="82072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28720"/>
                    <a:ext cx="82072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Malířství a sochařstv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líři a sochaři se také pokoušeli zachyt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ealisticky člověka, používali živé modely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obrazovali je bez příkr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jvětšími osobnostmi italského renesanční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lohu byl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Leonardo da Vinc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(malíř, sochař, architekt, přírodovědec, hudebník, spisovatel, vynálezce a konstruktér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Michelangelo Buonarott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(sochař, malíř, básník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3" name="Object 3"/>
          <p:cNvGraphicFramePr/>
          <p:nvPr/>
        </p:nvGraphicFramePr>
        <p:xfrm>
          <a:off x="4643280" y="404640"/>
          <a:ext cx="424980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404640"/>
                    <a:ext cx="424980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 txBox="1"/>
          <p:nvPr/>
        </p:nvSpPr>
        <p:spPr>
          <a:xfrm>
            <a:off x="179280" y="475920"/>
            <a:ext cx="4464000" cy="61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Michelangelo Buonarro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avid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ako symb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florentské republik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roveň vypodobe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konalé mužské krá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09:58Z</dcterms:created>
  <dc:creator>Hana Zimová</dc:creator>
  <dc:description/>
  <dc:language>en-US</dc:language>
  <cp:lastModifiedBy>martina</cp:lastModifiedBy>
  <dcterms:modified xsi:type="dcterms:W3CDTF">2013-06-09T07:26:29Z</dcterms:modified>
  <cp:revision>22</cp:revision>
  <dc:subject/>
  <dc:title>Humanismus,  vynález knihtisku</dc:title>
</cp:coreProperties>
</file>