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C612-4C30-4615-9D6F-7CE3C1853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D3F7-F16F-447B-A0FB-8C52A8CD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B849-E5C3-433A-88A1-1A6682150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A44C-4EF4-4F5E-B6FC-3E35F4AA8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3BD3-F63A-4A19-99C4-8F08C6DE7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0077-8E92-4367-9639-A41DFCBB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6D25-8E41-4119-BE1F-37816251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B640-3C43-45F0-B51B-878362FD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9200-B7B1-4084-9550-6D4005EE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5931-4C64-46AE-A14E-FFBCFBCE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6F60-223C-4478-AFA7-44BA37F6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96A5-0D92-416E-BC83-41197EC7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9E107-0BB8-4CFC-B615-9B414DB2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9F45-097B-4CC4-AB38-3DA9A712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3D5C-819F-4D9A-8547-CC61E919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2216-0DB2-4E48-B750-1236B8383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809E-C440-4D72-BB14-2924AC696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458F-983B-4BB2-AA0C-4C6F71C5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544E-7B28-4BFA-A412-F4EBD911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89D3-A52D-4849-BF50-1873F08A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F8E8-38CF-4213-BA2D-506062F35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EA7C-CAF7-488B-A504-7A610812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7131-D6EF-466F-B63C-83B01423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97D4-876E-4C66-8B54-A490B3F1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CD9A-9B98-41D8-96BF-421DEB89606E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51C1-B690-461F-8963-B50473384589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6312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800"/>
            </a:br>
            <a:br>
              <a:rPr sz="5800"/>
            </a:br>
            <a:r>
              <a:rPr b="0" lang="cs-CZ" sz="5800" spc="-1" strike="noStrike">
                <a:solidFill>
                  <a:srgbClr val="ffff00"/>
                </a:solidFill>
                <a:latin typeface="Arial"/>
              </a:rPr>
              <a:t>Rok 1948, 1968 a 1989 pro český stát</a:t>
            </a:r>
            <a:endParaRPr b="0" lang="en-US" sz="5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Autorem materiálu a všech jeho částí, není-li uvedeno jinak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je Mgr. Hana Zimová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Vytvořeno dne 29. 3. 2012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Nový začátek (New start) CZ.1.07/1.4.00/21.1409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Tento projekt je spolufinancován Evropským sociálním fondem a státním rozpočtem České republiky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979640" y="189000"/>
            <a:ext cx="57531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ff00"/>
                </a:solidFill>
                <a:latin typeface="Arial"/>
              </a:rPr>
              <a:t>Sametová revoluc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zpomínkové shromáždění </a:t>
            </a:r>
            <a:r>
              <a:rPr b="0" lang="cs-CZ" sz="3200" spc="-1" strike="noStrike">
                <a:solidFill>
                  <a:srgbClr val="ffff00"/>
                </a:solidFill>
                <a:latin typeface="Tahoma"/>
              </a:rPr>
              <a:t>17. listopadu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přerostlo v </a:t>
            </a:r>
            <a:r>
              <a:rPr b="1" i="1" lang="cs-CZ" sz="3200" spc="-1" strike="noStrike">
                <a:solidFill>
                  <a:srgbClr val="ffffff"/>
                </a:solidFill>
                <a:latin typeface="Tahoma"/>
              </a:rPr>
              <a:t>mohutnou demonstraci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 proti komunistickému režim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18. listopadu se spojili pražští vysokoškoláci s herci a vyhlásili </a:t>
            </a:r>
            <a:r>
              <a:rPr b="1" i="1" lang="cs-CZ" sz="3200" spc="-1" strike="noStrike">
                <a:solidFill>
                  <a:srgbClr val="ffffff"/>
                </a:solidFill>
                <a:latin typeface="Tahoma"/>
              </a:rPr>
              <a:t>protestní stávku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enně se konaly demonstrace na Václavském náměstí, k lidem promlouvalo mnoho řečníků, jako Václav Havel, Alexandr Dubček aj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Občanské fórum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 Praze bylo ustanoven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OBČANSKÉ FÓRUM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  (OF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 čele  s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00ff00"/>
                </a:solidFill>
                <a:latin typeface="Tahoma"/>
              </a:rPr>
              <a:t>Václavem Havlem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ejich cílem bylo 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svržení komunistickéh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režimu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v Československu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nastolení demokraci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00"/>
                </a:solidFill>
                <a:latin typeface="Arial"/>
              </a:rPr>
              <a:t>Konec komunismu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láda komunistů byla u konce, protestní ak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erostly ve 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státní převra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, který byl nazvá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ff00"/>
                </a:solidFill>
                <a:latin typeface="Tahoma"/>
              </a:rPr>
              <a:t>„</a:t>
            </a:r>
            <a:r>
              <a:rPr b="1" lang="cs-CZ" sz="3600" spc="-1" strike="noStrike">
                <a:solidFill>
                  <a:srgbClr val="00ff00"/>
                </a:solidFill>
                <a:latin typeface="Tahoma"/>
              </a:rPr>
              <a:t>sametová“ nebo „něžná“ revoluce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o svůj nenásilný průbě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00"/>
                </a:solidFill>
                <a:latin typeface="Arial"/>
              </a:rPr>
              <a:t>Politické změn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21. listopadu 1989 byla zahájena jednání OF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 tehdejší vládo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7. prosince musela vláda podat demis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ahoma"/>
              </a:rPr>
              <a:t>Preziden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Gustáv Husák odstoupil a na jeho místo byl </a:t>
            </a:r>
            <a:r>
              <a:rPr b="1" lang="cs-CZ" sz="3200" spc="-1" strike="noStrike">
                <a:solidFill>
                  <a:srgbClr val="00ff00"/>
                </a:solidFill>
                <a:latin typeface="Tahoma"/>
              </a:rPr>
              <a:t>29. prosince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zvolen doma i v zahraničí uznávaný </a:t>
            </a:r>
            <a:r>
              <a:rPr b="1" lang="cs-CZ" sz="3200" spc="-1" strike="noStrike">
                <a:solidFill>
                  <a:srgbClr val="ffff00"/>
                </a:solidFill>
                <a:latin typeface="Tahoma"/>
              </a:rPr>
              <a:t>Václav Havel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edsedou FS se stal 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Alexandr Dubček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Tahoma"/>
              </a:rPr>
              <a:t>ZEMĚ PO 20 LETECH OPĚT VYKROČILA NA CESTU </a:t>
            </a:r>
            <a:r>
              <a:rPr b="0" lang="cs-CZ" sz="5400" spc="-1" strike="noStrike">
                <a:solidFill>
                  <a:srgbClr val="00ff00"/>
                </a:solidFill>
                <a:latin typeface="Tahoma"/>
              </a:rPr>
              <a:t>SVOBODY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bbd71"/>
                </a:solidFill>
                <a:latin typeface="Verdana"/>
              </a:rPr>
              <a:t>Zdroj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MÜLLER, Oldřich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pro 2. stupeň základní školy praktické.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díl. 1. vydání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Praha : Parta, 20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ISBN 9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788073201241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s.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44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46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54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55, 60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62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KOHOUTKOVÁ, H.; KOMSOVÁ, M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na dlani. 2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vydání. Olomouc : Rubico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2007. ISBN 8073460653. s.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226 – 231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235 – 237, 242 - 244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6508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č. 10</a:t>
            </a: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79280" y="1773360"/>
          <a:ext cx="8785440" cy="4641840"/>
        </p:xfrm>
        <a:graphic>
          <a:graphicData uri="http://schemas.openxmlformats.org/drawingml/2006/table">
            <a:tbl>
              <a:tblPr/>
              <a:tblGrid>
                <a:gridCol w="3745080"/>
                <a:gridCol w="5040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ok 1948, 1968 a 1989 pro český stá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Žáci 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znají události související s letopočty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ZV – LMP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Člověk a společnost – 2. stupe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 –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  <a:ea typeface="Arial Unicode MS"/>
                        </a:rPr>
                        <a:t>znát průběh a důsledky 2. světové války a nový politický a hospodářský vývoj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  <a:ea typeface="Arial Unicode MS"/>
                        </a:rPr>
                        <a:t>v Evropě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  <a:ea typeface="Arial Unicode MS"/>
                        </a:rPr>
                        <a:t>- chápat význam událostí v roc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  <a:ea typeface="Arial Unicode MS"/>
                        </a:rPr>
                        <a:t>1989 a vítězství demokracie v naší vla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66"/>
                </a:solidFill>
                <a:latin typeface="Arial"/>
              </a:rPr>
              <a:t>Ohrožená demokraci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 blížícím se rokem 1948 ostatní strany pochopily, že KSČ chce převzít veškerou moc ve státě, protože všechna důležitá místa byla postupně obsazena komunisty oddaných Gottwaldov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munisté využili nepokojů proti ostatním politickým stranám a přesvědčily většinu lidí, že když se stát zbaví továrníků a statkářů, bude se jim žít lép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věřili heslu: „</a:t>
            </a:r>
            <a:r>
              <a:rPr b="0" lang="cs-CZ" sz="3200" spc="-1" strike="noStrike">
                <a:solidFill>
                  <a:srgbClr val="ffff66"/>
                </a:solidFill>
                <a:latin typeface="Tahoma"/>
              </a:rPr>
              <a:t>Když bude vše patřit dělníkům a rolníkům, nebude bída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66"/>
                </a:solidFill>
                <a:latin typeface="Arial"/>
              </a:rPr>
              <a:t>Únor 1948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ezident Beneš ustoupil tlaku komunistů, aby zabránil krveprolití, a </a:t>
            </a:r>
            <a:r>
              <a:rPr b="1" lang="cs-CZ" sz="3600" spc="-1" strike="noStrike">
                <a:solidFill>
                  <a:srgbClr val="ffff66"/>
                </a:solidFill>
                <a:latin typeface="Tahoma"/>
              </a:rPr>
              <a:t>25. února 1948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 přijal demisi nekomunistických ministrů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ak byla v Československu </a:t>
            </a:r>
            <a:r>
              <a:rPr b="1" i="1" lang="cs-CZ" sz="3600" spc="-1" strike="noStrike">
                <a:solidFill>
                  <a:srgbClr val="66ff99"/>
                </a:solidFill>
                <a:latin typeface="Tahoma"/>
              </a:rPr>
              <a:t>nastolena TOTALITA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= nedemokratická mo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emise = odstoupení ze svého úřad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00ff00"/>
                </a:solidFill>
                <a:latin typeface="Arial"/>
              </a:rPr>
              <a:t>Rok 1968 - sovětský vliv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ovětský svaz neustále kontroloval „uvolňování“ u nás, důrazně napomínal </a:t>
            </a:r>
            <a:r>
              <a:rPr b="0" i="1" lang="cs-CZ" sz="3200" spc="-1" strike="noStrike">
                <a:solidFill>
                  <a:srgbClr val="ff3300"/>
                </a:solidFill>
                <a:latin typeface="Tahoma"/>
              </a:rPr>
              <a:t>Alexandra Dubčeka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i prezidenta generála </a:t>
            </a:r>
            <a:r>
              <a:rPr b="0" i="1" lang="cs-CZ" sz="3200" spc="-1" strike="noStrike">
                <a:solidFill>
                  <a:srgbClr val="ffff66"/>
                </a:solidFill>
                <a:latin typeface="Tahoma"/>
              </a:rPr>
              <a:t>Ludvíka Svobodu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, aby zabraňovali dalšímu šíření přílišné demokraci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dyž napomínání nepomáhalo, rozhodl se Leonid Brežněv (vedoucí představitel SSSR) zakroč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00"/>
                </a:solidFill>
                <a:latin typeface="Arial"/>
              </a:rPr>
              <a:t>Okupace Československ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 noci na </a:t>
            </a:r>
            <a:r>
              <a:rPr b="1" i="1" lang="cs-CZ" sz="3200" spc="-1" strike="noStrike">
                <a:solidFill>
                  <a:srgbClr val="ffff66"/>
                </a:solidFill>
                <a:latin typeface="Tahoma"/>
              </a:rPr>
              <a:t>21. srpna 1968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 vtrhly na naše území sovětské tanky společně s jednotkami dalších států (Maďarsko, Polsko, Bulharsko, NDR), aby zabránily rozmachu svobody v zem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bčané se bránili i holýma rukama, zapálili několik tanků, které proti nim stříle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3300"/>
                </a:solidFill>
                <a:latin typeface="Tahoma"/>
              </a:rPr>
              <a:t>Okupační vojska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obsadila vládní budovu, redakce novin, budovu rozhlasu a televiz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ovětští důstojníci odvlekli A. Dubčeka a jeho spolupracovníky do Moskv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00"/>
                </a:solidFill>
                <a:latin typeface="Arial"/>
              </a:rPr>
              <a:t>Totalitní režim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8964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Lidé bouřlivě protestovali proti okupantům, ti však už v zemi zůstali dalších 20 l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Byla obnovena cenzura tisku a médií a byl nastolen totalitní režim, lidé pomalu ztráceli svobod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cs-CZ" sz="3600" spc="-1" strike="noStrike">
                <a:solidFill>
                  <a:srgbClr val="ff3300"/>
                </a:solidFill>
                <a:latin typeface="Tahoma"/>
              </a:rPr>
              <a:t>Totalitní režim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= nedemokratické státní zřízení – např. fašistické nebo komunistick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00"/>
                </a:solidFill>
                <a:latin typeface="Arial"/>
              </a:rPr>
              <a:t>Protest studentů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bčané ztráceli své svobody, proto se někteří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tudenti rozhodli za svobodu položit veřejně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vůj živo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3300"/>
                </a:solidFill>
                <a:latin typeface="Tahoma"/>
              </a:rPr>
              <a:t>Student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3300"/>
                </a:solidFill>
                <a:latin typeface="Tahoma"/>
              </a:rPr>
              <a:t>JAN PALACH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  a   </a:t>
            </a:r>
            <a:r>
              <a:rPr b="1" i="1" lang="cs-CZ" sz="3600" spc="-1" strike="noStrike">
                <a:solidFill>
                  <a:srgbClr val="ff3300"/>
                </a:solidFill>
                <a:latin typeface="Tahoma"/>
              </a:rPr>
              <a:t>JAN ZAJÍC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66"/>
                </a:solidFill>
                <a:latin typeface="Tahoma"/>
              </a:rPr>
              <a:t>se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na protest proti režimu </a:t>
            </a:r>
            <a:r>
              <a:rPr b="1" lang="cs-CZ" sz="3200" spc="-1" strike="noStrike">
                <a:solidFill>
                  <a:srgbClr val="ffff66"/>
                </a:solidFill>
                <a:latin typeface="Tahoma"/>
              </a:rPr>
              <a:t>upálili (1969)</a:t>
            </a: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htěli tím vyburcovat národ k protestům 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emonstracím proti totalitě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Pád komunistického režimu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 červnu </a:t>
            </a:r>
            <a:r>
              <a:rPr b="1" lang="cs-CZ" sz="3200" spc="-1" strike="noStrike">
                <a:solidFill>
                  <a:srgbClr val="ffff00"/>
                </a:solidFill>
                <a:latin typeface="Tahoma"/>
              </a:rPr>
              <a:t>1989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Václav Havel a jeho přátelé zorganizovali petici 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Několik vě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, kde požadovali svobodu  a demokracii. Podepsalo ji 40 tisíc lidí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 srpnu 1989 proběhly demonstrace k 21. výročí okupace, komunisté si již s odporem občanů nevěděli rad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vrdě zasáhli proti studentské manifestaci k výročí úmrtí Jana Opletala (v roce 1939 byl postřelen nacisty) dne 17. listopadu 1989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08:02:58Z</dcterms:created>
  <dc:creator>Hana Zimová</dc:creator>
  <dc:description/>
  <dc:language>en-US</dc:language>
  <cp:lastModifiedBy>martina</cp:lastModifiedBy>
  <dcterms:modified xsi:type="dcterms:W3CDTF">2013-06-09T07:23:03Z</dcterms:modified>
  <cp:revision>10</cp:revision>
  <dc:subject/>
  <dc:title>Rok 1948, 1968 a 1989 pro český stát</dc:title>
</cp:coreProperties>
</file>