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07FC-C8C3-41B9-8E59-87342B3A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8605-5694-4043-A8B2-554E7DA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67F8-4FCB-408A-94B7-3F4CDB39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FA3E-58DB-43AF-8273-9AAAB2FB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2CC-AAE3-4C48-AE34-CF5020D6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923-329A-43DF-A44E-53135812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FB08-DC0F-4C25-AF84-D799B83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E35B-0B45-46C1-B126-0A7859C8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12DD-E365-4FB0-A6B1-1164196D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62F7-3150-4790-90D9-87997A63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DDF7-B458-4343-8BB4-345A0AD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DFBF-FBB5-48E9-B4CA-E65DBD4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80B5-713E-45D0-A448-0120753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DCA-D557-492F-9DB1-ADE8A5D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55A-B25B-44A9-97C6-85AF5188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FB1-78DF-48AF-832D-CFBD3C9D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B5D-3321-4789-A45A-25117C70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3FFC-34D0-43D2-86DD-1C63DDB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F37-E8E1-4838-9E30-B61C836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8CB-C6FA-43EB-8CAC-17776CE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66D6-049C-4823-8B5E-DFB31D42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9858-6BEA-413F-B9B5-E615DB9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EEC7-D621-4D52-8594-6E16617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C9CF-656D-48B6-AC8F-4D49A9B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9A7-50A6-4A02-BC76-D4A3CFC1DD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7883-583F-46F2-A327-A1EAD17EC9A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Rok 1968 – okupace ČSR sovětskou armádou 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3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upálil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476280"/>
            <a:ext cx="35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mrtn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3300"/>
                </a:solidFill>
                <a:latin typeface="Arial"/>
              </a:rPr>
              <a:t>Jana Palac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48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álil 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6. 1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filozofie a politické ekonom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Object 9"/>
          <p:cNvGraphicFramePr/>
          <p:nvPr/>
        </p:nvGraphicFramePr>
        <p:xfrm>
          <a:off x="3924360" y="404640"/>
          <a:ext cx="48243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8243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8920" y="404280"/>
            <a:ext cx="4248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Arial"/>
              </a:rPr>
              <a:t>Jan Zají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střední průmyslové školy železniční v Šumper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50 – 25. 2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pamětní desku na Václavském námě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4427640" y="476280"/>
          <a:ext cx="471636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71636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Výňatek z dopisu Jana Zajíce před smrtí rodičům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minko, tatínku, bratři a sestřičk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ž budete číst tento dopis, budu už zřejm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rtev nebo velmi blízko smrti. Vím, jak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ánu Vám svým činem způsobím, ale nezlobte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mne. Nedělám to proto, že by mne živ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mrzel, ale proto, že si ho velmi váží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smíte se nikdy smířit s nespravedlností, mo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rt Vás k tomu zavaz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mi líto, že Vás už nikdy neuvidí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35 - 237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13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Dubce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ubček, Svoboda, Ceausesc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IICCR_G539_Ceausescu_Dubcek_Svoboda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Pal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onumento_a_Jan_Palac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Zají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Zaj%C3%ADc_Jan_-_portr%C3%A9t_na_pam%C4%9Btn%C3%AD_desce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557360"/>
          <a:ext cx="8785440" cy="47149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 – okupace ČSR sovětskou armádo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íš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Jaro 1968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aře roku 1968 se situace v zemi uvolni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e přestávali bát tajné polic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hlo se volně cestovat za hra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povolena činnost dříve zakázaných spolků a st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zrušena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kontrola a omez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různých informací – ať už předávaný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luveným slovem, tiskem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vykle se týká veřejně sdělovaných názorů, 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ách nesvobody je kontrolováno i soukrom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názorů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o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chází z latinského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censo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byl úředník, která měl za úkol sčítání obyvatel a dohlížení na morál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ských zemích cenzura existovala už před rokem 1918, kdy noviny musely vyjít se začerněnými stránkami ap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istovala i během nacistické a komunistické totality, ale i za tzv. první a druhé republiky, kdy byly ovšem zakázány především komunistické a nacionalistické spisy,  také pís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ě komunistického režimu byly některé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nih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ydávány v pozměněném zně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byla oficiálně zrušena novelou Tiskového zákona v roce 1968 p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větské invazi do Československa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všem neoficiálně pokračovala až do roku 198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 fotografií a film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</a:t>
            </a:r>
            <a:r>
              <a:rPr b="1" lang="cs-CZ" sz="2800" spc="-1" strike="noStrike">
                <a:solidFill>
                  <a:srgbClr val="ff66ff"/>
                </a:solidFill>
                <a:latin typeface="Arial"/>
              </a:rPr>
              <a:t>fotografi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období totality - prováděla se jejich retušováním, „vylepšováním“ anebo jejich úplným zakázáním. Na snímcích se odmazávaly nepohodlné osoby, nebo se např. mohl přidat jásající da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sahy cenzury se většinou nařizovaly ústně, proto k nim existuje jen málo dokument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m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filmové tvorby probíhala po celém světě od počátků rozvoje filmového umění a probíhá až do současnosti - ochrana obecné mravnosti, ochrana mládeže apod. K cenzuře filmů ale dochází i z politických důvodů; tak byly např. z některých filmů vystříhány scény s Waldemarem Matuškou, který se stal kvůli své emigraci vládnoucímu komunistickému režimu nepohodlný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Alexandr Dub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68 lidé touž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svobodě a hleda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u, jak se zbav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dvlády Sovět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az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le demokratic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nutí stan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Alexandr Dubček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6"/>
          <p:cNvGraphicFramePr/>
          <p:nvPr/>
        </p:nvGraphicFramePr>
        <p:xfrm>
          <a:off x="4892760" y="1413000"/>
          <a:ext cx="3927240" cy="51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92760" y="1413000"/>
                    <a:ext cx="39272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Sovětský vl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Dubček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v roce 1968 na návštěvě </a:t>
            </a:r>
            <a:br>
              <a:rPr sz="3200"/>
            </a:b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v Rumunsku. Uprostřed je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dfdef6"/>
                </a:solidFill>
                <a:latin typeface="Arial"/>
              </a:rPr>
              <a:t>Nicolae Ceauşescu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2" name="Object 3"/>
          <p:cNvGraphicFramePr/>
          <p:nvPr/>
        </p:nvGraphicFramePr>
        <p:xfrm>
          <a:off x="395280" y="1600200"/>
          <a:ext cx="8424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0200"/>
                    <a:ext cx="8424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trhly na naše území sovětské tanky společně s jednotkami dalších států ( Maďarsko, Polsko, Bulharsko, NDR 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3:44Z</dcterms:created>
  <dc:creator>Hana Zimová</dc:creator>
  <dc:description/>
  <dc:language>en-US</dc:language>
  <cp:lastModifiedBy>martina</cp:lastModifiedBy>
  <dcterms:modified xsi:type="dcterms:W3CDTF">2013-06-09T07:17:38Z</dcterms:modified>
  <cp:revision>13</cp:revision>
  <dc:subject/>
  <dc:title>   Rok 1968 – okupace ČSR sovětskou armádou </dc:title>
</cp:coreProperties>
</file>