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6B4-0965-4849-98D6-4A2AFE47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A53-0C33-431A-8D8D-D428582F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42C-C7D4-4961-8591-E427A067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C5E-9679-45D4-AE37-D5FD9BD3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C941-2C1B-4B0A-BD72-C1872436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529F-D389-4EEF-BA8B-A11AFEB6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06F0-C1D0-4A5E-9075-2C66C986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32D1-E06F-49D5-BF4B-7772D7B6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A600-F800-4384-AD7F-EA8558F5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F9D4-1E64-44E8-A627-96302B60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00F5-CCF6-4835-ABCF-9ED61FFA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B64-F2FD-44CF-8C5D-8747CE80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2438-B746-4950-802A-5A6A1503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B9CC-D5B5-40F7-BC20-C977ED3D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7988-4359-4B33-B2C2-92195FE0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D613-84D1-4D94-93DC-A511AA77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0103-7059-4DEF-A62C-24E2F9B7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098-28D8-49D4-9542-E6486E0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1B6-B624-4FCA-9E14-BA43477E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9A2-617C-428F-8246-41249CE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47A-67C8-4AC4-8F08-EBD8DB14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ED5-F5CA-4808-96E7-22EFBD3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166-D05C-4D6F-A439-FAF54769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B44-4102-4963-8EE8-2D879FB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9271-FFE4-45DC-82ED-4A63165A3300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3EEA-F405-4F3E-9F00-1766F266E170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cs-CZ" sz="4700" spc="-1" strike="noStrike">
                <a:solidFill>
                  <a:srgbClr val="ffff99"/>
                </a:solidFill>
                <a:latin typeface="Arial"/>
              </a:rPr>
              <a:t>Alchymie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2. 4. 201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547640" y="40464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3. díl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4 - 15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6 - 1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2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chymisté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Pietro_Longhi_021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ýrobna alchymistů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Aurora-dragon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chymist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JosephWright-Alchemist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7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2637000"/>
          <a:ext cx="8785440" cy="4027320"/>
        </p:xfrm>
        <a:graphic>
          <a:graphicData uri="http://schemas.openxmlformats.org/drawingml/2006/table">
            <a:tbl>
              <a:tblPr/>
              <a:tblGrid>
                <a:gridCol w="3240360"/>
                <a:gridCol w="55450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chy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rozlišují realitu a skutečnost na císařském dvoře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Verdana"/>
                          <a:ea typeface="Arial Unicode MS"/>
                        </a:rPr>
                        <a:t>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Vláda Rudolfa II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Vládl v letech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1576 – 161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anování Rudolfa II. je dobou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alchymistů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lidé, kteří se snažili vyrobit zlato 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elixír života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(tekutinu, která omlazuje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ice zlato ani elixír nevyrobili, ale zat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učinili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mnoho důležitých objevů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Výklad slova 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ALCHYMI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79280" y="980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xistuje několik výkladů tohoto slova, ale za nejpravděpodobnější bývají považovány dvě teori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1) Odvození od slova 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</a:rPr>
              <a:t>chemi,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tj.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černá země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tradiční název Egyp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2) Odvození od slova </a:t>
            </a:r>
            <a:r>
              <a:rPr b="0" i="1" lang="cs-CZ" sz="3200" spc="-1" strike="noStrike">
                <a:solidFill>
                  <a:srgbClr val="000000"/>
                </a:solidFill>
                <a:latin typeface="Verdana"/>
              </a:rPr>
              <a:t>ta 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</a:rPr>
              <a:t>chyta,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tj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v řečtině 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tavitelné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“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resp. 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</a:rPr>
              <a:t>chyma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évání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“, 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taven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chymisté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File:Pietro Longhi 021.jpg"/>
          <p:cNvPicPr/>
          <p:nvPr/>
        </p:nvPicPr>
        <p:blipFill>
          <a:blip r:embed="rId1"/>
          <a:stretch/>
        </p:blipFill>
        <p:spPr>
          <a:xfrm>
            <a:off x="1979640" y="981000"/>
            <a:ext cx="52196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Elixír život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5672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rámci alchymistického procesu proměn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ecných kovů ve zlato se též označuj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Verdana"/>
              </a:rPr>
              <a:t>pitné zlat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lat. aurum potabile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jedné straně má bý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lékem na choro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např. smrtelnou rakovinu) a tím zajisti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rodloužení život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druhé straně se řeší problém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ecnéh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rodloužení života, nezávisle 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emocech -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egenerace, omládnutí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Alchymie jako předvědecký obor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lchymie je chápána jako předvědeck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obor, který rozvinul pokusné poznává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řírodních dějů a bývá označována jak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tradiční vě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tředověcí alchymisté používali vzta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mezi různými znaky převzatými z živé 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eživé přírody, živly, barvami, tělesný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orgány, znameními zvěrokruhu č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laneta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Výrobna alchymist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File:Aurora-dragon.jpg"/>
          <p:cNvPicPr/>
          <p:nvPr/>
        </p:nvPicPr>
        <p:blipFill>
          <a:blip r:embed="rId1"/>
          <a:stretch/>
        </p:blipFill>
        <p:spPr>
          <a:xfrm>
            <a:off x="395280" y="1125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cs-CZ" sz="3600" spc="-1" strike="noStrike">
                <a:solidFill>
                  <a:srgbClr val="008000"/>
                </a:solidFill>
                <a:latin typeface="Verdana"/>
              </a:rPr>
              <a:t>Alchymist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5" descr="File:JosephWright-Alchemist.jpg"/>
          <p:cNvPicPr/>
          <p:nvPr/>
        </p:nvPicPr>
        <p:blipFill>
          <a:blip r:embed="rId2"/>
          <a:stretch/>
        </p:blipFill>
        <p:spPr>
          <a:xfrm>
            <a:off x="395280" y="333360"/>
            <a:ext cx="4608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19:04Z</dcterms:created>
  <dc:creator>Hana Zimová</dc:creator>
  <dc:description/>
  <dc:language>en-US</dc:language>
  <cp:lastModifiedBy>martina</cp:lastModifiedBy>
  <dcterms:modified xsi:type="dcterms:W3CDTF">2013-06-09T07:29:13Z</dcterms:modified>
  <cp:revision>13</cp:revision>
  <dc:subject/>
  <dc:title>  Alchymie</dc:title>
</cp:coreProperties>
</file>