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487-D49F-4D94-9005-F6A1B645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9A7-D02D-4D2E-964A-D229C857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B20-C6C3-4930-98C4-C0CD9671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B9A-4A05-4590-83EB-F3FCD6A2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0D2-ECE5-475D-A801-182D5D2A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1A85-8437-4F57-AACD-15712A8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E806-2ED9-4676-8CEB-F0DE507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DC6-BF20-4227-8694-413D10BC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3542-6F7E-44E2-96C6-770DA7F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D90-0FE1-4949-A0A4-EE18021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8539-D935-4581-9029-D59F93E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F3D-4078-48B4-BB8D-6489CA1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221-F35A-431C-977E-75DA088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392-B624-4BBA-85AE-3584803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0AC9-C055-497C-81EF-CB11384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6597-3C9D-4C49-8D6C-B74460DC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944A-8B1D-4256-9D27-54F11CD9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E3E-DC1A-47CF-B62A-9A539EC6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696-CB9B-418E-B837-29BCA3B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5E9-C1A4-4757-A1EB-ABBDCC8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EBF-B245-4DB6-A5DE-81BD568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FAB-8D07-4AE5-8BB9-EA7BD90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BF6-AFF2-4C84-B280-65066F2D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C16-40D8-4DC0-BE29-5DE5FE1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5B4-CB52-4EBD-A778-3B85F5B503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1C9-A3D0-4810-BE68-555E6BDE448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St&#345;edov&#283;k&#253;_trh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fffb7"/>
                </a:solidFill>
                <a:latin typeface="Arial"/>
              </a:rPr>
              <a:t>Počátek novověku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tředověký tr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St%C5%99edov%C4%9Bk%C3%BD_tr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1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očátek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 a důsledky objevných ce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Poznává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ý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var má Zem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jiny lidstva jsou už odpradávna doprováze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ůznými vymyšlenými příběhy  o stvoření svě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i Zemi představovali různě – jako placku, ja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očeného hada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ázor církve na stvoření svět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řídání dne a noci dle nich stvoř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ů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yž řekl: „Bu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ětlo!“ Potom shromáždil vodu do moře a stvořil tráv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stliny a stromy, na kterých roste ovoce. Bůh stvoř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nce, měsíc, hvězdy. Pak stvořil zvířata a nakonec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ově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měl panovat nad všemi tvory. Pak Bů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hlédl na vše, co stvořil za 6 dní a 7. den odpočí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91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b7"/>
                </a:solidFill>
                <a:latin typeface="Arial"/>
              </a:rPr>
              <a:t>Mýty a legend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to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příběhy z dávných dob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teré jsou částečně nebo úplně vymyšlen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to představy se začaly měnit až s rozv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jevování vzdálených kraj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chod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e 14. a 15. století, kdy cestující pluli po moři a cestovali po souš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Italští obchodní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33ccff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Středověký tr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324000" y="1557360"/>
          <a:ext cx="8496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96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ff"/>
                </a:solidFill>
                <a:latin typeface="Arial"/>
              </a:rPr>
              <a:t>Změna názoru na stvoře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ěř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rozumu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Knihti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ou událostí pro středověké obyvatele byl </a:t>
            </a: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vynález knihti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ematiků a astronom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ž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– 9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7:52:22Z</dcterms:created>
  <dc:creator>Hana Zimová</dc:creator>
  <dc:description/>
  <dc:language>en-US</dc:language>
  <cp:lastModifiedBy>martina</cp:lastModifiedBy>
  <dcterms:modified xsi:type="dcterms:W3CDTF">2013-06-09T07:24:15Z</dcterms:modified>
  <cp:revision>18</cp:revision>
  <dc:subject/>
  <dc:title>Důsledky 2. světové války</dc:title>
</cp:coreProperties>
</file>