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F85D4-AC4D-4DDD-9BD3-A3C0A3D66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5E4AD-5631-497F-B563-B6A02E46E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A6F5B-E88B-4674-8037-57BAF0DF7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27CD9-4B80-466E-AC61-2375E98C2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B7C4D-F90B-4FB2-92E6-D478F805D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32A58-D029-4264-9368-080CF4B59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2D795-72FF-4DDD-AA8F-596823CB6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58474-A10B-4BBD-9B3C-D1F5F5271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EDA8E-D352-45EA-855D-2599DE019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64BDB-DEDC-423A-93CC-E74E2E6F7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ED1F3-6578-4092-8F1B-E877220DC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F2534-FDD1-40CA-835A-4BD203192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9D02E-161C-49D3-9850-05657973F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64255-29AE-4D93-A48E-AD1C5A020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41328-61CA-4CEF-A544-04081E88C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CBB73-4B1A-452A-ADDA-114244C38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8953F-E919-4689-8B21-FBB86B021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517A9-1523-4A8F-938C-4F8C6C9AD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02EE0-EE89-4406-8847-4153AE0E6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BCAFF-89EF-4162-B92C-30454FF76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076C9-B3D5-4705-8567-1A0DC1E2C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D6709-7AD9-41A1-AF29-5E808669A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8FD18-9ED7-4B5C-AF44-EC7BAE510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42288-B83E-40C5-AB93-AE52D3E81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>
                <a:gd name="textAreaLeft" fmla="*/ 0 w 988920"/>
                <a:gd name="textAreaRight" fmla="*/ 988920 w 98892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>
                <a:gd name="textAreaLeft" fmla="*/ 0 w 1581120"/>
                <a:gd name="textAreaRight" fmla="*/ 1581480 w 1581120"/>
                <a:gd name="textAreaTop" fmla="*/ 0 h 200160"/>
                <a:gd name="textAreaBottom" fmla="*/ 200520 h 200160"/>
              </a:gdLst>
              <a:ahLst/>
              <a:rect l="textAreaLeft" t="textAreaTop" r="textAreaRight" b="textAreaBottom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>
                <a:gd name="textAreaLeft" fmla="*/ 0 w 1542960"/>
                <a:gd name="textAreaRight" fmla="*/ 1543320 w 1542960"/>
                <a:gd name="textAreaTop" fmla="*/ 0 h 389160"/>
                <a:gd name="textAreaBottom" fmla="*/ 389520 h 389160"/>
              </a:gdLst>
              <a:ahLst/>
              <a:rect l="textAreaLeft" t="textAreaTop" r="textAreaRight" b="textAreaBottom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>
                <a:gd name="textAreaLeft" fmla="*/ 0 w 1514520"/>
                <a:gd name="textAreaRight" fmla="*/ 1514880 w 151452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>
                <a:gd name="textAreaLeft" fmla="*/ 0 w 4132440"/>
                <a:gd name="textAreaRight" fmla="*/ 4132440 w 413244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2502000"/>
                <a:gd name="textAreaBottom" fmla="*/ 2502360 h 2502000"/>
              </a:gdLst>
              <a:ahLst/>
              <a:rect l="textAreaLeft" t="textAreaTop" r="textAreaRight" b="textAreaBottom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>
                <a:gd name="textAreaLeft" fmla="*/ 0 w 503280"/>
                <a:gd name="textAreaRight" fmla="*/ 503640 w 503280"/>
                <a:gd name="textAreaTop" fmla="*/ 0 h 219240"/>
                <a:gd name="textAreaBottom" fmla="*/ 219600 h 219240"/>
              </a:gdLst>
              <a:ahLst/>
              <a:rect l="textAreaLeft" t="textAreaTop" r="textAreaRight" b="textAreaBottom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43B01-CF23-41F5-895D-5D78A5FED26A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>
                <a:gd name="textAreaLeft" fmla="*/ 0 w 988920"/>
                <a:gd name="textAreaRight" fmla="*/ 988920 w 98892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>
                <a:gd name="textAreaLeft" fmla="*/ 0 w 1581120"/>
                <a:gd name="textAreaRight" fmla="*/ 1581480 w 1581120"/>
                <a:gd name="textAreaTop" fmla="*/ 0 h 200160"/>
                <a:gd name="textAreaBottom" fmla="*/ 200520 h 200160"/>
              </a:gdLst>
              <a:ahLst/>
              <a:rect l="textAreaLeft" t="textAreaTop" r="textAreaRight" b="textAreaBottom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>
                <a:gd name="textAreaLeft" fmla="*/ 0 w 1542960"/>
                <a:gd name="textAreaRight" fmla="*/ 1543320 w 1542960"/>
                <a:gd name="textAreaTop" fmla="*/ 0 h 389160"/>
                <a:gd name="textAreaBottom" fmla="*/ 389520 h 389160"/>
              </a:gdLst>
              <a:ahLst/>
              <a:rect l="textAreaLeft" t="textAreaTop" r="textAreaRight" b="textAreaBottom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>
                <a:gd name="textAreaLeft" fmla="*/ 0 w 1514520"/>
                <a:gd name="textAreaRight" fmla="*/ 1514880 w 151452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>
                <a:gd name="textAreaLeft" fmla="*/ 0 w 4132440"/>
                <a:gd name="textAreaRight" fmla="*/ 4132440 w 413244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2502000"/>
                <a:gd name="textAreaBottom" fmla="*/ 2502360 h 2502000"/>
              </a:gdLst>
              <a:ahLst/>
              <a:rect l="textAreaLeft" t="textAreaTop" r="textAreaRight" b="textAreaBottom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>
                <a:gd name="textAreaLeft" fmla="*/ 0 w 503280"/>
                <a:gd name="textAreaRight" fmla="*/ 503640 w 503280"/>
                <a:gd name="textAreaTop" fmla="*/ 0 h 219240"/>
                <a:gd name="textAreaBottom" fmla="*/ 219600 h 219240"/>
              </a:gdLst>
              <a:ahLst/>
              <a:rect l="textAreaLeft" t="textAreaTop" r="textAreaRight" b="textAreaBottom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15CDB-4E5A-4937-B18B-069BE44A26CC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00000" y="1125360"/>
            <a:ext cx="7631280" cy="17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800"/>
            </a:br>
            <a:br>
              <a:rPr sz="5800"/>
            </a:br>
            <a:r>
              <a:rPr b="0" lang="cs-CZ" sz="5800" spc="-1" strike="noStrike">
                <a:solidFill>
                  <a:srgbClr val="ffff00"/>
                </a:solidFill>
                <a:latin typeface="Arial"/>
              </a:rPr>
              <a:t>Vliv náboženství  na chápání světa</a:t>
            </a:r>
            <a:endParaRPr b="0" lang="en-US" sz="5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0" y="5157360"/>
            <a:ext cx="914400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ffffff"/>
                </a:solidFill>
                <a:latin typeface="Tahoma"/>
              </a:rPr>
              <a:t>Autorem materiálu a všech jeho částí, není-li uvedeno jinak,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ffffff"/>
                </a:solidFill>
                <a:latin typeface="Tahoma"/>
              </a:rPr>
              <a:t>je Mgr. Hana Zimová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ffffff"/>
                </a:solidFill>
                <a:latin typeface="Tahoma"/>
              </a:rPr>
              <a:t>Vytvořeno dne 4. 4. 2012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ffffff"/>
                </a:solidFill>
                <a:latin typeface="Tahoma"/>
              </a:rPr>
              <a:t>Nový začátek (New start) CZ.1.07/1.4.00/21.1409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ffffff"/>
                </a:solidFill>
                <a:latin typeface="Tahoma"/>
              </a:rPr>
              <a:t>Tento projekt je spolufinancován Evropským sociálním fondem a státním rozpočtem České republiky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4" name="obrázek 2" descr="Logolink_horizontal_zaklad_RGB"/>
          <p:cNvPicPr/>
          <p:nvPr/>
        </p:nvPicPr>
        <p:blipFill>
          <a:blip r:embed="rId1"/>
          <a:stretch/>
        </p:blipFill>
        <p:spPr>
          <a:xfrm>
            <a:off x="1619280" y="260280"/>
            <a:ext cx="5753160" cy="14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50920" y="1989000"/>
            <a:ext cx="1008000" cy="4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Tahoma"/>
              </a:rPr>
              <a:t>č. 12</a:t>
            </a:r>
            <a:endParaRPr b="0" lang="en-US" sz="2000" spc="-1" strike="noStrike">
              <a:solidFill>
                <a:srgbClr val="dbbd71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179280" y="2637000"/>
          <a:ext cx="8785440" cy="3722400"/>
        </p:xfrm>
        <a:graphic>
          <a:graphicData uri="http://schemas.openxmlformats.org/drawingml/2006/table">
            <a:tbl>
              <a:tblPr/>
              <a:tblGrid>
                <a:gridCol w="4238640"/>
                <a:gridCol w="4546800"/>
              </a:tblGrid>
              <a:tr h="43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název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liv náboženství  na chápání svět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anota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Žáci  rozlišují pozitivní a negativní důsledky zámořských objevů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očekávaný výstup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ZV – LMP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Člověk a společnost – 2. stupeň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D – </a:t>
                      </a: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  <a:ea typeface="Arial Unicode MS"/>
                        </a:rPr>
                        <a:t>vědět o důsledcích objevných cest a poznávání nových civilizací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druh učebního materiál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druh interaktivit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Výkla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"/>
                        </a:rPr>
                        <a:t>ročník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8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713800" cy="7923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ff00"/>
                </a:solidFill>
                <a:latin typeface="Arial"/>
              </a:rPr>
              <a:t>Zámořské objevy</a:t>
            </a:r>
            <a:endParaRPr b="0" lang="en-US" sz="4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179280" y="1197000"/>
            <a:ext cx="87854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Od 2. poloviny 15. stol. se evropské země snažily objevit přímou námořní cestu </a:t>
            </a:r>
            <a:r>
              <a:rPr b="0" lang="cs-CZ" sz="2800" spc="-1" strike="noStrike">
                <a:solidFill>
                  <a:srgbClr val="ffff00"/>
                </a:solidFill>
                <a:latin typeface="Arial"/>
              </a:rPr>
              <a:t>do Indie a dalších východních zemí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Dováželo se odtud </a:t>
            </a:r>
            <a:r>
              <a:rPr b="0" lang="cs-CZ" sz="2800" spc="-1" strike="noStrike">
                <a:solidFill>
                  <a:srgbClr val="00ff00"/>
                </a:solidFill>
                <a:latin typeface="Arial"/>
              </a:rPr>
              <a:t>zlato, koření a jiné vzácné suroviny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Cesty po souši byly nebezpečné kvůli Turkům, kteří přepadali karavany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Jenže Evropané se báli Atlantiku, protože se tradovalo, že je tam konec světa, obývaný příšerami, jako byli draci, obří chobotnice, hadi a ryby s hlavami Turků. Proto hledali </a:t>
            </a: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cesty přes Středozemní moř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Arial"/>
              </a:rPr>
              <a:t>Španělské loďstvo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914400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Jeden z nejdůležitějších zámořských objevů s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podařil španělskému loďstvu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Mořský mořeplavec </a:t>
            </a:r>
            <a:r>
              <a:rPr b="0" lang="cs-CZ" sz="3200" spc="-1" strike="noStrike">
                <a:solidFill>
                  <a:srgbClr val="00ff00"/>
                </a:solidFill>
                <a:latin typeface="Tahoma"/>
              </a:rPr>
              <a:t>Kryštof Kolumbus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 vedl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španělské lodě do Indie západním směrem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Po mnohadenní plavbě se dostali k břehům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neznámého světadílu, který byl později nazván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ahoma"/>
              </a:rPr>
              <a:t>Amerikou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. A protože se domnívali, že dopluli do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Indie, nazvali místní obyvatele </a:t>
            </a:r>
            <a:r>
              <a:rPr b="1" lang="cs-CZ" sz="3200" spc="-1" strike="noStrike">
                <a:solidFill>
                  <a:srgbClr val="ffffff"/>
                </a:solidFill>
                <a:latin typeface="Tahoma"/>
              </a:rPr>
              <a:t>indiány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Arial"/>
              </a:rPr>
              <a:t>Dovoz plodin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0" y="980640"/>
            <a:ext cx="91440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Z Ameriky do Evropy přivezli nové plodiny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jako </a:t>
            </a:r>
            <a:r>
              <a:rPr b="0" lang="cs-CZ" sz="3200" spc="-1" strike="noStrike">
                <a:solidFill>
                  <a:srgbClr val="00ff00"/>
                </a:solidFill>
                <a:latin typeface="Tahoma"/>
              </a:rPr>
              <a:t>brambory, rajčata, pálivé papriky a tabák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Do Ameriky se vypravovalo stále více dobyvatelů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kteří původní </a:t>
            </a:r>
            <a:r>
              <a:rPr b="0" lang="cs-CZ" sz="3200" spc="-1" strike="noStrike">
                <a:solidFill>
                  <a:srgbClr val="ffff00"/>
                </a:solidFill>
                <a:latin typeface="Tahoma"/>
              </a:rPr>
              <a:t>obyvatele zotročili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 a zničili jejic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kulturu. Oběťmi se staly nádherné říše kmenů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Aztéků a Inků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Objevení Ameriky mělo velký vliv na rozvoj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evropského bohatství a poznávání okolního svět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Cesty kolem světa byly důkazem toho, ž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ff00"/>
                </a:solidFill>
                <a:latin typeface="Tahoma"/>
              </a:rPr>
              <a:t>                       </a:t>
            </a:r>
            <a:r>
              <a:rPr b="1" lang="cs-CZ" sz="3200" spc="-1" strike="noStrike">
                <a:solidFill>
                  <a:srgbClr val="00ff00"/>
                </a:solidFill>
                <a:latin typeface="Tahoma"/>
              </a:rPr>
              <a:t>Země je kulatá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00"/>
                </a:solidFill>
                <a:latin typeface="Arial"/>
              </a:rPr>
              <a:t>Španělé bijí indiány – mučili je, upalovali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graphicFrame>
        <p:nvGraphicFramePr>
          <p:cNvPr id="164" name="Object 3"/>
          <p:cNvGraphicFramePr/>
          <p:nvPr/>
        </p:nvGraphicFramePr>
        <p:xfrm>
          <a:off x="468360" y="1484280"/>
          <a:ext cx="8280360" cy="504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484280"/>
                    <a:ext cx="8280360" cy="50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ff00"/>
                </a:solidFill>
                <a:latin typeface="Arial"/>
              </a:rPr>
              <a:t>Bičování otroka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graphicFrame>
        <p:nvGraphicFramePr>
          <p:cNvPr id="167" name="Object 3"/>
          <p:cNvGraphicFramePr/>
          <p:nvPr/>
        </p:nvGraphicFramePr>
        <p:xfrm>
          <a:off x="1619280" y="1808280"/>
          <a:ext cx="5689440" cy="471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9280" y="1808280"/>
                    <a:ext cx="5689440" cy="471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dbbd71"/>
                </a:solidFill>
                <a:latin typeface="Verdana"/>
              </a:rPr>
              <a:t>Zdroje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VALENTA, Milan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;</a:t>
            </a: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 MÜLLER, Oldřich. </a:t>
            </a:r>
            <a:r>
              <a:rPr b="0" i="1" lang="cs-CZ" sz="1600" spc="-1" strike="noStrike">
                <a:solidFill>
                  <a:srgbClr val="ffffff"/>
                </a:solidFill>
                <a:latin typeface="Verdana"/>
              </a:rPr>
              <a:t>Dějepis pro </a:t>
            </a:r>
            <a:r>
              <a:rPr b="0" i="1" lang="cs-CZ" sz="16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i="1" lang="cs-CZ" sz="1600" spc="-1" strike="noStrike">
                <a:solidFill>
                  <a:srgbClr val="ffffff"/>
                </a:solidFill>
                <a:latin typeface="Verdana"/>
              </a:rPr>
              <a:t>. </a:t>
            </a:r>
            <a:r>
              <a:rPr b="0" i="1" lang="cs-CZ" sz="1600" spc="-1" strike="noStrike">
                <a:solidFill>
                  <a:srgbClr val="ffffff"/>
                </a:solidFill>
                <a:latin typeface="Tahoma"/>
              </a:rPr>
              <a:t>stupeň</a:t>
            </a:r>
            <a:r>
              <a:rPr b="0" i="1" lang="cs-CZ" sz="1600" spc="-1" strike="noStrike">
                <a:solidFill>
                  <a:srgbClr val="ffffff"/>
                </a:solidFill>
                <a:latin typeface="Verdana"/>
              </a:rPr>
              <a:t> základní školy </a:t>
            </a:r>
            <a:r>
              <a:rPr b="0" i="1" lang="cs-CZ" sz="1600" spc="-1" strike="noStrike">
                <a:solidFill>
                  <a:srgbClr val="ffffff"/>
                </a:solidFill>
                <a:latin typeface="Tahoma"/>
              </a:rPr>
              <a:t>praktické. 3. díl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1. vydání. Praha : Parta, 2009. ISBN 9788073201234. s. 8 - 9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KOHOUTKOVÁ, H.; KOMSOVÁ, M. </a:t>
            </a:r>
            <a:r>
              <a:rPr b="0" i="1" lang="cs-CZ" sz="1600" spc="-1" strike="noStrike">
                <a:solidFill>
                  <a:srgbClr val="ffffff"/>
                </a:solidFill>
                <a:latin typeface="Verdana"/>
              </a:rPr>
              <a:t>Dějepis na dlani. 2</a:t>
            </a: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. vydání. Olomouc : Rubico,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2007. ISBN 8073460653. s. 95 – 96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dbbd71"/>
                </a:solidFill>
                <a:latin typeface="Verdana"/>
              </a:rPr>
              <a:t>Zdroje obrázků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896472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Všechny uveřejněné odkazy [cit. 2012-04-04] dostupné pod licencí Creative Commons – </a:t>
            </a:r>
            <a:r>
              <a:rPr b="0" lang="cs-CZ" sz="1600" spc="-1" strike="noStrike" u="sng">
                <a:solidFill>
                  <a:srgbClr val="ffffff"/>
                </a:solidFill>
                <a:uFillTx/>
                <a:latin typeface="Verdana"/>
              </a:rPr>
              <a:t>http://wikimedia.org/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Tahoma"/>
              </a:rPr>
              <a:t>Španělé bijí indiány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Tahoma"/>
              </a:rPr>
              <a:t>http://commons.wikimedia.org/wiki/File:Cortez-montezuma-mexico-city.jpg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Bičování otroka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Tahoma"/>
              </a:rPr>
              <a:t>http://commons.wikimedia.org/wiki/File:Otroci.jpg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04:53Z</dcterms:created>
  <dc:creator>Hana Zimová</dc:creator>
  <dc:description/>
  <dc:language>en-US</dc:language>
  <cp:lastModifiedBy>martina</cp:lastModifiedBy>
  <dcterms:modified xsi:type="dcterms:W3CDTF">2013-06-09T07:24:57Z</dcterms:modified>
  <cp:revision>15</cp:revision>
  <dc:subject/>
  <dc:title>Vliv náboženství  na chápání světa</dc:title>
</cp:coreProperties>
</file>